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E9D6-9FED-4FF2-BA8D-A76BBC95F0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process of PCR and its 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 - Match each term with its correct description (work in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tep for PCR would be to synthesize "primers" of about 20 letters-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rimer exactly like the lower left-hand sequence, and ONE primer exactly like the upper right-hand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..............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........................................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...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must be thermostable (37oC – 95oC used) to avoid fresh enzyme being ad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 used must be very p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st not be contaminated  - any foreign DNA would also be copied….PCR in legal cases in UK suspended at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lc.org/ddnalc/resources/pc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xanim.com/genetics/PCR/pcr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enables large amounts of DNA to be produced from very small samples (0.1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peating cycl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ouble DNA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of a complementary strand for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DNA , nucleotides, DNA primers &amp; thermostable DNA polymerase placed in PCR mach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s of sample DNA separated by heating to 95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cooled to 37oC to allow primers to b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heated to 72oC for replication (optimum temp of DNA polymera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repeats many times (~8mins /cy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achieved by heating to 95oC – no suitable heli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can’t work on completely single stranded DNA – double stranded regions needed at the start of sequence to be cop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(short sequences DNA) complementary to bases at start of region to be copied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ynthesize  primers , base sequence at start must be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AACGGGGCCCTTTAAA.....…TTTAAACCCGGGT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TTGCCCCGGGAAATTT.....…AAATTTGGGCCC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C16-6370-44C0-8AB9-506C4591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B1A-07F2-473C-88AC-414FD989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640-E1B1-45FB-9867-504BE102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DCF-2B79-434E-A12B-D958B943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864E-9555-4FAF-890A-83C11D55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04CD-ADB1-4D56-A0DA-1E0F9690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5BCE-FB2C-447E-91C2-B02ACD37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93B3-D1EA-4B86-BB46-FA596CA9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D6BC-7CC0-493B-980C-D4666F1E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5F26-D10E-4EBB-9727-A50E2213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2183-98E2-47B0-9708-D0AD9784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95A-4631-43AD-B364-8594D77B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914B-5EEF-4BF7-A8B3-4BD24A04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2349-3A10-4D0B-B39C-0CEF2D44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4D28-F3CD-4781-8AEC-96F26C92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EE9F-921C-4B0A-841A-8E25CBD0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785A-920A-4D88-B8B4-01F11034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FAD-3B7D-4842-AA19-DEE78E15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F83-0EEF-4106-AD6C-33D556E6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039-3399-4E9E-A66D-5E11BFE4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5C4-C1B5-43C4-94E0-F9E34157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531-A91F-49EE-958A-C3070154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30E-D8F8-4FDC-B432-1B803FBC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F49-5D7B-4BA8-A113-755093BF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6EF4-86D2-4B07-B634-CF63D15B19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8D66-E701-4E97-9300-2CEB4656D088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pcr.html" TargetMode="External"/><Relationship Id="rId2" Type="http://schemas.openxmlformats.org/officeDocument/2006/relationships/hyperlink" Target="http://www.maxanim.com/genetics/PCR/pcr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olymerase Chain Rea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i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To understand the process of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PCR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 and its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uses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Verdana"/>
              </a:rPr>
              <a:t>Starter - Match each term with its correct description (work in pairs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864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0C70-A918-4099-9A28-DBD23C9479B7}" type="datetime3">
              <a:rPr b="0" lang="en-GB" sz="2400" spc="-1" strike="noStrike">
                <a:solidFill>
                  <a:srgbClr val="eaeaea"/>
                </a:solidFill>
                <a:latin typeface="Arial"/>
                <a:ea typeface="MS PGothic"/>
              </a:rPr>
              <a:t>29 July 2026</a:t>
            </a:fld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139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first step for PCR would be to synthesize "primers" of about 20 letters-lo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ONE primer exactly like the lower left-hand sequence, and ONE primer exactly like the upper right-hand seque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ATTGCCCCGGGAAATTT</a:t>
            </a: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.......................&g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n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&lt;........................................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...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polymerase must be thermostable (37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– 95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used) to avoid fresh enzyme being add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Remember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ucleotides used must be very pu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must not be contaminated  - any foreign DNA would also be copied….PCR in legal cases in UK suspended at pres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pcr"/>
          <p:cNvPicPr/>
          <p:nvPr/>
        </p:nvPicPr>
        <p:blipFill>
          <a:blip r:embed="rId1"/>
          <a:stretch/>
        </p:blipFill>
        <p:spPr>
          <a:xfrm>
            <a:off x="1619280" y="1773360"/>
            <a:ext cx="6400800" cy="43574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dnalc.org/ddnalc/resources/pcr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maxanim.com/genetics/PCR/pcr.sw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300px-PCR"/>
          <p:cNvPicPr/>
          <p:nvPr/>
        </p:nvPicPr>
        <p:blipFill>
          <a:blip r:embed="rId1"/>
          <a:stretch/>
        </p:blipFill>
        <p:spPr>
          <a:xfrm>
            <a:off x="3071880" y="152280"/>
            <a:ext cx="284472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cr"/>
          <p:cNvPicPr/>
          <p:nvPr/>
        </p:nvPicPr>
        <p:blipFill>
          <a:blip r:embed="rId1"/>
          <a:stretch/>
        </p:blipFill>
        <p:spPr>
          <a:xfrm>
            <a:off x="1257480" y="0"/>
            <a:ext cx="68198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olymerase chain reaction enables large amounts of DNA to be produced from very small samples (0.1m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is a repeating cycl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eparation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ouble DNA stran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ynthesi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a complementary strand for e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ample DNA , nucleotides, DNA primers &amp; thermostable DNA polymerase placed in PCR machin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rands of sample DNA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eparated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y heating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95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cool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37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to allow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 to bind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heat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72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for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replicat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optimum temp of DNA polymerase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ycle repeats many times (~8mins /cycl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paration achieved by heating to 95</a:t>
            </a:r>
            <a:r>
              <a:rPr b="0" lang="en-GB" sz="28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 – no suitable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helica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NA polymerase can’t work on completely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ngle stranded DNA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– double stranded regions needed at the start of sequence to be copie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short sequences DNA) complementary to bases at start of region to be copied 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 synthesize  primers , base sequence at start must be know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582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…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44:27Z</dcterms:created>
  <dc:creator>Dominic Conrad</dc:creator>
  <dc:description/>
  <dc:language>en-US</dc:language>
  <cp:lastModifiedBy>LEGION2</cp:lastModifiedBy>
  <dcterms:modified xsi:type="dcterms:W3CDTF">2016-01-12T11:54:55Z</dcterms:modified>
  <cp:revision>9</cp:revision>
  <dc:subject/>
  <dc:title>Polymerase Chain Reaction PCR</dc:title>
</cp:coreProperties>
</file>