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69CFD-AFC7-4F73-9D7E-1DC158F5A7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olymerase Chain Reactio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im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o understand the process of PCR and its use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rter - Match each term with its correct description (work in pairs)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04 September 2015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merase Chai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understand the process of PCR and its u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 - Match each term with its correct description (work in pai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 September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The first step for PCR would be to synthesize "primers" of about 20 letters-lo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ONE primer exactly like the lower left-hand sequence, and ONE primer exactly like the upper right-hand sequence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TTAACGGGGCCCTTTAAA.....…TTTAAACCCGGGT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AATTGCCCCGGGAAATTT.......................&gt;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and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&lt;........................................TTTAAACCCGGGTT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AATTGCCCCGGGAAATTT........AAATTTGGGCCCAAA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step for PCR would be to synthesize "primers" of about 20 letters-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primer exactly like the lower left-hand sequence, and ONE primer exactly like the upper right-hand sequ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AACGGGGCCCTTTAAA.....…TTTAAACCCGGG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ATTGCCCCGGGAAATTT......................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........................................TTTAAACCCGGGT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ATTGCCCCGGGAAATTT........AAATTTGGGCCCAA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polymerase must be thermostable (37oC – 95oC used) to avoid fresh enzyme being added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polymerase must be thermostable (37oC – 95oC used) to avoid fresh enzyme being ad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Remember…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Nucleotides used must be very pure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must not be contaminated  - any foreign DNA would also be copied….PCR in legal cases in UK suspended at presen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otides used must be very p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must not be contaminated  - any foreign DNA would also be copied….PCR in legal cases in UK suspended at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hat is it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Animation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http://www.dnalc.org/ddnalc/resources/pcr.html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http://www.maxanim.com/genetics/PCR/pcr.swf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dnalc.org/ddnalc/resources/pcr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axanim.com/genetics/PCR/pcr.sw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formatio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olymerase chain reaction enables large amounts of DNA to be produced from very small samples (0.1ml)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re is a repeating cycle of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paration of double DNA strand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ynthesis of a complementary strand for each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merase chain reaction enables large amounts of DNA to be produced from very small samples (0.1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repeating cycle of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ion of double DNA str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thesis of a complementary strand for e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hat happens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Sample DNA , nucleotides, DNA primers &amp; thermostable DNA polymerase placed in PCR machine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Strands of sample DNA separated by heating to 95oC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Mixture cooled to 37oC to allow primers to bind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Mixture heated to 72oC for replication (optimum temp of DNA polymerase)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Cycle repeats many times (~8mins /cycle)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 DNA , nucleotides, DNA primers &amp; thermostable DNA polymerase placed in PCR mach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nds of sample DNA separated by heating to 95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 cooled to 37oC to allow primers to b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 heated to 72oC for replication (optimum temp of DNA polymeras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cle repeats many times (~8mins /cyc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roblem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paration achieved by heating to 95oC – no suitable helicas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polymerase can’t work on completely single stranded DNA – double stranded regions needed at the start of sequence to be copied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rimers (short sequences DNA) complementary to bases at start of region to be copied used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o synthesize  primers , base sequence at start must be know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ion achieved by heating to 95oC – no suitable heli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polymerase can’t work on completely single stranded DNA – double stranded regions needed at the start of sequence to be copi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rs (short sequences DNA) complementary to bases at start of region to be copied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ynthesize  primers , base sequence at start must be kn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TTAACGGGGCCCTTTAAA.....…TTTAAACCCGGGTT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AATTGCCCCGGGAAATTT.....…AAATTTGGGCCCAAA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the sequence of bases which ONLY flank a particular region of a particular organism's DNA, and NO OTHER ORGANISM'S DNA. This region would be a target sequence for PCR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AACGGGGCCCTTTAAA.....…TTTAAACCCGGGT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ATTGCCCCGGGAAATTT.....…AAATTTGGGCCCAA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quence of bases which ONLY flank a particular region of a particular organism's DNA, and NO OTHER ORGANISM'S DNA. This region would be a target sequence for PC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73BF-EE87-4C26-857A-42F3EC8DF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C342-2409-47C3-8953-FB5B1144B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9311-2976-43B6-9FF6-4984F6996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E93A-268F-4F01-8A82-A5E172B3C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ADAEB-43E9-41D7-A52D-ADB125FF3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C5046-5E4E-4A22-BED6-8862E0B1A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14D3B-F376-4B84-AB94-DC8F188A2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EF6AA-BFBB-4841-AA5D-CE6F749E4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A8C72-7FA8-405F-BED0-111C20438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8436D-F32D-4C02-B2E9-4F03C0F8D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F0B3C-3442-4442-83C6-5681723E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57CF-39A2-4A01-8E0E-242A77385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B5AC4-DD27-4001-A59E-F6FD9A11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4A8A9-EAE5-4145-A626-50C2248B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8E507-1359-419A-802C-F486D0A02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8D587-74D0-45BD-A75C-F73661997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BF75D-6BBD-4CEA-A7B1-D13D375BA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3815-026A-4616-8103-1859C0830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C63E-0F39-4962-BB08-54C909AB8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BDCC-A953-4534-9906-7B7DF7A6D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3228-78EB-4590-8AB7-8612E1AD0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C485-C6D4-44B0-A15E-0D8C46C1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DC74-F534-4E5C-A3E4-9B2A6404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668D-87F7-4C10-A29C-7BFC4E76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03D11-6434-40DC-AAD8-83A4ACA3316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A4B5A-8C2A-4BD3-B87C-85F5AA12E502}" type="slidenum"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dnalc.org/ddnalc/resources/pcr.html" TargetMode="External"/><Relationship Id="rId2" Type="http://schemas.openxmlformats.org/officeDocument/2006/relationships/hyperlink" Target="http://www.maxanim.com/genetics/PCR/pcr.sw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Polymerase Chain Reac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09120" y="182844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aeaea"/>
                </a:solidFill>
                <a:latin typeface="Verdana"/>
              </a:rPr>
              <a:t>Aim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aeaea"/>
                </a:solidFill>
                <a:latin typeface="Verdana"/>
              </a:rPr>
              <a:t>To understand the process of </a:t>
            </a:r>
            <a:r>
              <a:rPr b="0" lang="en-GB" sz="3600" spc="-1" strike="noStrike">
                <a:solidFill>
                  <a:srgbClr val="ff0000"/>
                </a:solidFill>
                <a:latin typeface="Verdana"/>
              </a:rPr>
              <a:t>PCR</a:t>
            </a:r>
            <a:r>
              <a:rPr b="0" lang="en-GB" sz="3600" spc="-1" strike="noStrike">
                <a:solidFill>
                  <a:srgbClr val="eaeaea"/>
                </a:solidFill>
                <a:latin typeface="Verdana"/>
              </a:rPr>
              <a:t> and its </a:t>
            </a:r>
            <a:r>
              <a:rPr b="0" lang="en-GB" sz="3600" spc="-1" strike="noStrike">
                <a:solidFill>
                  <a:srgbClr val="ff0000"/>
                </a:solidFill>
                <a:latin typeface="Verdana"/>
              </a:rPr>
              <a:t>uses</a:t>
            </a:r>
            <a:r>
              <a:rPr b="0" lang="en-GB" sz="36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Verdana"/>
              </a:rPr>
              <a:t>Starter - Match each term with its correct description (work in pairs)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5486400" y="3049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76D8B-A961-438B-B681-2DD9DF92AC69}" type="datetime3">
              <a:rPr b="0" lang="en-GB" sz="2400" spc="-1" strike="noStrike">
                <a:solidFill>
                  <a:srgbClr val="eaeaea"/>
                </a:solidFill>
                <a:latin typeface="Arial"/>
                <a:ea typeface="MS PGothic"/>
              </a:rPr>
              <a:t>30 July 2026</a:t>
            </a:fld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120" y="609480"/>
            <a:ext cx="81392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The first step for PCR would be to synthesize "primers" of about 20 letters-lon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ONE primer exactly like the lower left-hand sequence, and ONE primer exactly like the upper right-hand sequence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TTAACGGGGCCCTTTAAA.....…TTTAAACCCGGGT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AATTGCCCCGGGAAATTT</a:t>
            </a:r>
            <a:r>
              <a:rPr b="0" i="1" lang="en-GB" sz="2400" spc="-1" strike="noStrike">
                <a:solidFill>
                  <a:srgbClr val="eaeaea"/>
                </a:solidFill>
                <a:latin typeface="Verdana"/>
              </a:rPr>
              <a:t>.......................&gt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and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eaeaea"/>
                </a:solidFill>
                <a:latin typeface="Verdana"/>
              </a:rPr>
              <a:t>&lt;........................................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TTTAAACCCGGGTT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AATTGCCCCGGGAAATTT........AAATTTGGGCCCAA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DNA polymerase must be thermostable (37</a:t>
            </a:r>
            <a:r>
              <a:rPr b="0" lang="en-GB" sz="3200" spc="-1" strike="noStrike" baseline="30000">
                <a:solidFill>
                  <a:srgbClr val="eaeaea"/>
                </a:solidFill>
                <a:latin typeface="Verdana"/>
              </a:rPr>
              <a:t>o</a:t>
            </a: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C – 95</a:t>
            </a:r>
            <a:r>
              <a:rPr b="0" lang="en-GB" sz="3200" spc="-1" strike="noStrike" baseline="30000">
                <a:solidFill>
                  <a:srgbClr val="eaeaea"/>
                </a:solidFill>
                <a:latin typeface="Verdana"/>
              </a:rPr>
              <a:t>o</a:t>
            </a: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C used) to avoid fresh enzyme being added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Remember…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Nucleotides used must be very pur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DNA must not be contaminated  - any foreign DNA would also be copied….PCR in legal cases in UK suspended at presen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What is it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7" name="Picture 4" descr="pcr"/>
          <p:cNvPicPr/>
          <p:nvPr/>
        </p:nvPicPr>
        <p:blipFill>
          <a:blip r:embed="rId1"/>
          <a:stretch/>
        </p:blipFill>
        <p:spPr>
          <a:xfrm>
            <a:off x="1619280" y="1773360"/>
            <a:ext cx="6400800" cy="435744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Animatio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http://www.dnalc.org/ddnalc/resources/pcr.htm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http://www.maxanim.com/genetics/PCR/pcr.swf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4" name="Picture 4" descr="300px-PCR"/>
          <p:cNvPicPr/>
          <p:nvPr/>
        </p:nvPicPr>
        <p:blipFill>
          <a:blip r:embed="rId1"/>
          <a:stretch/>
        </p:blipFill>
        <p:spPr>
          <a:xfrm>
            <a:off x="3071880" y="152280"/>
            <a:ext cx="2844720" cy="640080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8" name="Picture 4" descr="Pcr"/>
          <p:cNvPicPr/>
          <p:nvPr/>
        </p:nvPicPr>
        <p:blipFill>
          <a:blip r:embed="rId1"/>
          <a:stretch/>
        </p:blipFill>
        <p:spPr>
          <a:xfrm>
            <a:off x="1257480" y="0"/>
            <a:ext cx="681984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01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Inform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Polymerase chain reaction enables large amounts of DNA to be produced from very small samples (0.1ml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There is a repeating cycle of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separation</a:t>
            </a: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 of double DNA strand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synthesis</a:t>
            </a: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 of a complementary strand for each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What happens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Sample DNA , nucleotides, DNA primers &amp; thermostable DNA polymerase placed in PCR machin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Strands of sample DNA 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separated 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by heating to 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95</a:t>
            </a:r>
            <a:r>
              <a:rPr b="0" lang="en-GB" sz="2800" spc="-1" strike="noStrike" baseline="30000">
                <a:solidFill>
                  <a:srgbClr val="ff0000"/>
                </a:solidFill>
                <a:latin typeface="Verdana"/>
              </a:rPr>
              <a:t>o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C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Mixture cooled to 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37</a:t>
            </a:r>
            <a:r>
              <a:rPr b="0" lang="en-GB" sz="2800" spc="-1" strike="noStrike" baseline="30000">
                <a:solidFill>
                  <a:srgbClr val="ff0000"/>
                </a:solidFill>
                <a:latin typeface="Verdana"/>
              </a:rPr>
              <a:t>o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C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 to allow 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primers to bind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Mixture heated to 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72</a:t>
            </a:r>
            <a:r>
              <a:rPr b="0" lang="en-GB" sz="2800" spc="-1" strike="noStrike" baseline="30000">
                <a:solidFill>
                  <a:srgbClr val="ff0000"/>
                </a:solidFill>
                <a:latin typeface="Verdana"/>
              </a:rPr>
              <a:t>o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C 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for 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replication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 (optimum temp of DNA polymerase)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Cycle repeats many times (~8mins /cycle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Problem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Separation achieved by heating to 95</a:t>
            </a:r>
            <a:r>
              <a:rPr b="0" lang="en-GB" sz="2800" spc="-1" strike="noStrike" baseline="30000">
                <a:solidFill>
                  <a:srgbClr val="eaeaea"/>
                </a:solidFill>
                <a:latin typeface="Verdana"/>
              </a:rPr>
              <a:t>o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C – no suitable 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helicas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DNA polymerase can’t work on completely 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single stranded DNA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 – double stranded regions needed at the start of sequence to be copied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primers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 (short sequences DNA) complementary to bases at start of region to be copied use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To synthesize  primers , base sequence at start must be know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4582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TTAACGGGGCCCTTTAAA.....…TTTAAACCCGGGTT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AATTGCCCCGGGAAATTT.....…AAATTTGGGCCCAA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the sequence of bases which ONLY flank a particular region of a particular organism's DNA, and NO OTHER ORGANISM'S DNA. This region would be a target sequence for PCR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9:44:27Z</dcterms:created>
  <dc:creator>Dominic Conrad</dc:creator>
  <dc:description/>
  <dc:language>en-US</dc:language>
  <cp:lastModifiedBy>LEGION2</cp:lastModifiedBy>
  <dcterms:modified xsi:type="dcterms:W3CDTF">2016-01-12T11:54:55Z</dcterms:modified>
  <cp:revision>9</cp:revision>
  <dc:subject/>
  <dc:title>Polymerase Chain Reaction PCR</dc:title>
</cp:coreProperties>
</file>