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jpeg" ContentType="image/jpeg"/>
  <Override PartName="/ppt/media/image11.png" ContentType="image/png"/>
  <Override PartName="/ppt/media/image38.jpeg" ContentType="image/jpeg"/>
  <Override PartName="/ppt/media/image31.wmf" ContentType="image/x-wmf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1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7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8.png" ContentType="image/pn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70E0-90B8-41A2-A9C5-E8E791CFD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BINANT DNA AND POLYMERASE CHAIN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lasmidcloning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IMATION –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ids will not work as well in eukaryotic organisms like plants 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thods need to be used to insert the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al vectors can be used for animal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can ‘inject’ their DNA into an animal hos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use this technique on all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 can be used to insert genes into pl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rt.purdue.edu/hort/courses/HORT250/animations/Gene%20Gun%20Animation/Genegun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echnologists a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Solv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betics having reactions to porcine/animal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at crops being attacked by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sick with cystic fib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se can be fixed by recombinant DNA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have made the gene – how do we get lots of copies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Plasmid is cut with the same restriction enzyme used to cut the insulin g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gene is cut from a pancreatic cell DNA using a specific restriction enzy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- Bacterial cells when supplied with required polypeptides or proteins, the colonies will produce insul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 Vaccines- The plamids are isolated from the e.coli cells, the genes are then amplifyed via PCR  and used to create inactivated viruses for vacc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make more copies of DNA from a tiny DNA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c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– Double Helix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piral strand is composed of a sugar phosphate backbone and attache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Bases: Adenine (A), Guanine(G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, and Thymine (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Base Pairs; A with T and C with G in the complementary strand v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(non- covalen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ands can be cut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riction enzymes, e.g. ECO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already kn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low Chart of P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recombinant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food crops with immunity to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nsic Crime scene analysi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Worl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are often used in biotechnology as they have plasm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asmid a circular piece of DNA that exists apart from the chromosome and replicates independently of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blanks of the work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that has been cut from one strand of DNA and then inserted into the gap of another piece of DNA that has been bro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st DNA is often a bacterial cell such as E col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splicing the gene into the host DNA is to produce many copies of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acteria reproduce in a very short time it is possible to make million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ies of the gene fairly 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Recombinant D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quired gene e.g. Insulin, is cut from the DNA using a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ircular piece of DNA, called a plasmid, is removed from the bacterial cell and is cut open using the same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t out human gene is then mixed with the bacterial plasmids in a test tu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have been cut with the same enzyme, the cut ends of the plasmid and the end of the human gene match. Often called ‘sticky end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 DNA ligase is used to stick the ends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ake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Introducing the Plasmid Back - 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done by combining them in a test tube with CaCl2. The high concentration of calcium ions makes the membranes of the bacteria more po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hen allows the plasmids to move into the bacterial ce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bacteria will take up a plasm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is why the monitoring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ich bacteria have the ge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cessary to isolate the host bacteria that contain the gene that has been spliced as only want the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ntaining the resistance to the antibiotic will survive and the others will be killed by the antibio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81E-B30E-4FA2-A405-942464DB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2A2-1BD0-4E22-A45C-BBC279FF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02CAF-D257-4F63-9AA4-DBC68361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9FB2E-4AC8-498E-A617-674FA187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1CBD1-3E68-4381-B0F8-16839AE7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7E071-055E-4CDA-9C44-FC274D63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477F7-2B09-4E13-80DD-4E1B173B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8B04C-4739-4680-A2A6-A81E9F61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6A970-89BB-470E-A976-9589B020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896C1-C8CC-437F-B6F4-E4654E82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E543C-6676-4E88-97F4-A408AA56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EB820-24EF-476E-9FCD-3444C81A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684-D546-4A8A-AE04-D9CB2E8A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F32E4-7390-44EB-8856-A8B8A74D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83214-26F0-4BEA-9495-C8E2D342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5ADC4-315E-45C3-B339-DD14A5DD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54123-A5E8-4DA1-A30C-26340813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A8332-955D-4596-8634-33BD37B2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F2275-0DDA-4C75-877F-01B98D36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92142-17AC-4F2C-AF9F-AD1876E0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220CD-1C4A-495A-AAE3-B2C59644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C8221-644C-4196-8C2F-3E060D2C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C3047-3241-4A65-B1E4-7112830B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B4B-B557-4ECC-A21A-E875AC78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85E7B-53ED-45DF-A0E7-9E0C3859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754C-F655-47D0-A516-C89DB9DF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E6F0-F9C8-4358-9317-AC9AC501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9D89-106F-44E2-895C-9472AD92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8BCA-0530-4F53-83AD-D598B43D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C6CE-2050-4B04-9420-AB0CFD09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9EFF-6E39-4B86-A125-8AD3B3E6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D753-6BE2-4243-8D19-918AA2A1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439-F4FA-4AA7-A1A3-A774B41D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A699-4BE5-4D98-AE48-5DCB2010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0A58-FA7B-4FE3-8482-9B49A95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80D3-5F32-4498-AC90-F672AA87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F94E-8CAE-4C74-8E5A-C65DABEE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EAB3-8F3C-4EE6-B7D3-FBBB2124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5F51-C083-43C3-8961-1ADDCD19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D1C0-8A14-4C80-A0B9-0E35267B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BAF9-A9AA-4B90-95B4-D8B197AA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24B5E-01B4-488F-A421-919E43EC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EF97-5CF8-429F-8FD8-925700F7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B8A-BC6E-4E43-9619-8F0A14C3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E6AD-4D24-437E-8E47-E486436A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0E5E-C0FA-4328-AA7B-6A61D9D7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0466-F710-46B9-B3F0-DA67350A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3E877-6E11-49D0-B836-0C167988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27F29-CA96-4F19-87C7-16740984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9842-EB51-455E-84D7-DDE51843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8664-BAA6-4369-AC07-9D21A8D6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7A32B-A4E9-40C5-A979-9509AB98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D0C8-BBF5-41A8-A114-8D4C9414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6EC6D-070C-4669-A61F-3CD2969D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D2B-05BB-4E9F-A8E5-427B54D0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9901D-CDD4-4BAD-A2FB-204A3614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5E470-65E8-4B8E-B8B4-3D84B726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1A5F8-0566-4FCC-975B-BF0677A9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715C0-7A83-4AEA-B239-52870D1F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8120E-A0D5-4941-AB62-EF161E41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9541-1323-43D2-99BF-BA25ED45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67A62-F6BC-4645-BC7A-B88C5CD6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5ECCD-7E97-4F43-8CB1-8959EACF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F575B-EF91-44A9-B6AC-E4DC50BA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24F5F-3986-4794-BF13-70A5A98C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4DF-4E46-48FB-BACF-1EC4D06D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2A4D-AFA8-4FE1-8300-56855EB2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818C3-9DCE-45CB-AE8F-FA3BC2BC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C6545-968E-4E59-820C-156C3B1F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C8BD6-9921-45FE-8DA5-17E61F97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CA47-E92E-4562-AA20-B3A7F4F3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C751E-9DC9-4976-B15F-A55BD99B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85C0B-7EB2-46A0-9E1F-63DB8515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F76B-0F62-478A-B8CB-D8551BC9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6EF68-50DB-4B5E-8F87-BB8046C9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E82C3-1A91-4FEF-A1BB-001D156D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C09-841B-4427-BD0B-D2C782AC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23C6-8326-425E-8447-A6098CDC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77107-CEB2-4999-8DBA-0E02A709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DD1E7-95C9-49FD-9457-B4337E4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4C5A8-7C48-4DE1-A7A5-0C6B863F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16CB9-B2F2-428E-BA0B-329689B7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F2B71-43B8-4836-A473-36536E6B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6E8B5-81CF-47F6-85A8-86ED9F15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C2D66-F395-470E-93F5-D69E6B6F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6C46B-0999-4E0D-8D1F-FDD280A8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F43BD-463A-4C27-A0A6-47D65A36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2B8-F055-483D-88D0-2E797DC2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6CB38-5D88-42CD-B924-1C501333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D0B0D-4F5D-42FC-BC76-11D22AE6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BB771-FCE8-46ED-A322-BC3D6AA2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3211E-8F64-46D9-85CC-90AEE148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3DE03-8224-4007-B7B0-743BEA91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B86FA-2CA6-4524-955F-A4AA354E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A224E-4186-449D-95B2-F2D3E00D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52A71-CF13-4EBE-A182-7CFA7E5D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A3D78-F2DE-48FA-B7AD-89EA55E6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61849-ACC6-475B-93DA-C7F512D9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F7E-AE45-4F71-AD08-BD158391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3584D-CAC8-4C2C-A972-BD6DA41D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9EE6C-A6B3-4365-A125-125329E0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F6721-3DF3-41A5-B7EA-3F102DC4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F01E8-C52F-42E9-A589-9DDD12CD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47E5B-3F3D-4BDF-8B89-719DDDC0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74E12-8B43-44A4-88DA-AFE8814D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23693-E096-42B7-BE16-8B0D2653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FB968-3442-4923-A644-D02124D7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B8C63-1BBF-4CCD-B94B-AC415EB9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9D21E-809D-4C2F-ABE0-C74DA8E3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DCD-8A3D-4540-AEFE-3861A9FE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5A728-B7C2-4CD0-AB8E-F78D24A8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4CC59-3AAD-4492-A1D8-756DB8DE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4E589-E810-47AC-88E5-BA2FD397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076E4-3ECC-4D5B-A898-AC0BC47D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E4E6A-12EB-4A62-98AF-15A130D2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56509-D480-47FE-84C0-364CC914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A96DF-ECC3-49A9-8BD5-549DA8FC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BBD48-A9B6-43D0-A046-544EF479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45F88-1808-419D-9CB8-A740F05A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65949-6AF4-4FDF-9DBF-4EDB6CA5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9116-66DA-41C5-B53A-694C4BCF5C7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0A11-469B-4EB0-9C1D-3F5F17BF182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1334-0551-4BC8-8913-8EA2E22C243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EACF-F599-41AA-8876-747050530CE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3239-3E37-41BA-820F-A17E3E3493F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7C80-000B-4947-A731-784B552DC0E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EB93-18FC-4F3C-A1F1-7E042DA6635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3A02-DCE7-450E-A074-AB36175989B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427A-4A48-4F75-8DFA-28CF04AAF2C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86F8-2530-4AEF-B5D8-2FAE4A14B6C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lasmidcloning.html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rt.purdue.edu/hort/courses/HORT250/animations/Gene%20Gun%20Animation/Genegun1.html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hyperlink" Target="http://www.sumanasinc.com/webcontent/animations/content/pc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237960" y="493560"/>
            <a:ext cx="8631360" cy="17431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73" name="Picture 3" descr="gejoke"/>
          <p:cNvPicPr/>
          <p:nvPr/>
        </p:nvPicPr>
        <p:blipFill>
          <a:blip r:embed="rId2"/>
          <a:stretch/>
        </p:blipFill>
        <p:spPr>
          <a:xfrm>
            <a:off x="1905120" y="2143080"/>
            <a:ext cx="5371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63680" y="133200"/>
            <a:ext cx="7997760" cy="10558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62120" y="55623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tibiotic resistance gene used to identify recombinant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Picture 7" descr="f10-10_one_method_for_s_c"/>
          <p:cNvPicPr/>
          <p:nvPr/>
        </p:nvPicPr>
        <p:blipFill>
          <a:blip r:embed="rId2"/>
          <a:stretch/>
        </p:blipFill>
        <p:spPr>
          <a:xfrm>
            <a:off x="1828800" y="1066680"/>
            <a:ext cx="53341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1285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umanasinc.com/webcontent/animations/content/plasmidcloning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Title 1" descr=""/>
          <p:cNvPicPr/>
          <p:nvPr/>
        </p:nvPicPr>
        <p:blipFill>
          <a:blip r:embed="rId2"/>
          <a:stretch/>
        </p:blipFill>
        <p:spPr>
          <a:xfrm>
            <a:off x="244440" y="274680"/>
            <a:ext cx="8442360" cy="1189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"/>
          <p:cNvPicPr/>
          <p:nvPr/>
        </p:nvPicPr>
        <p:blipFill>
          <a:blip r:embed="rId3"/>
          <a:stretch/>
        </p:blipFill>
        <p:spPr>
          <a:xfrm>
            <a:off x="714240" y="2214720"/>
            <a:ext cx="7701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lasmids will not work as well in eukaryotic organisms like plants and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Other methods need to be used to insert the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Viral vectors can be used for animal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e virus can ‘inject’ their DNA into an animal host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virus2"/>
          <p:cNvPicPr/>
          <p:nvPr/>
        </p:nvPicPr>
        <p:blipFill>
          <a:blip r:embed="rId2"/>
          <a:stretch/>
        </p:blipFill>
        <p:spPr>
          <a:xfrm rot="285000">
            <a:off x="6441840" y="4362120"/>
            <a:ext cx="24429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50920" y="17114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Gene Gun can be used to insert genes into plant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rt.purdue.edu/hort/courses/HORT250/animations/Gene%20Gun%20Animation/Genegun1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2"/>
          <a:stretch/>
        </p:blipFill>
        <p:spPr>
          <a:xfrm>
            <a:off x="2487600" y="274680"/>
            <a:ext cx="8485200" cy="1346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MCj02321110000[1]"/>
          <p:cNvPicPr/>
          <p:nvPr/>
        </p:nvPicPr>
        <p:blipFill>
          <a:blip r:embed="rId3"/>
          <a:stretch/>
        </p:blipFill>
        <p:spPr>
          <a:xfrm>
            <a:off x="108000" y="465300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MCj03393020000[1]"/>
          <p:cNvPicPr/>
          <p:nvPr/>
        </p:nvPicPr>
        <p:blipFill>
          <a:blip r:embed="rId4"/>
          <a:stretch/>
        </p:blipFill>
        <p:spPr>
          <a:xfrm>
            <a:off x="7308720" y="460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31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betics having reactions to porcine/animal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at crops being attacked by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sick with cystic fibro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se can be fixed by recombinant DNA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Picture 5" descr="MCj04398510000[1]"/>
          <p:cNvPicPr/>
          <p:nvPr/>
        </p:nvPicPr>
        <p:blipFill>
          <a:blip r:embed="rId2"/>
          <a:stretch/>
        </p:blipFill>
        <p:spPr>
          <a:xfrm>
            <a:off x="7236000" y="189000"/>
            <a:ext cx="19238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-360" y="571680"/>
            <a:ext cx="871524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ucida Sans Unicode"/>
              </a:rPr>
              <a:t>Now we have made the gene – how do we get lots of copies?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Diagram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926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"/>
          <p:cNvSpPr/>
          <p:nvPr/>
        </p:nvSpPr>
        <p:spPr>
          <a:xfrm>
            <a:off x="857160" y="142920"/>
            <a:ext cx="207180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E.Coli Plasmid is cut with the same restriction enzyme used to cut the insulin ge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429240" y="142920"/>
            <a:ext cx="2143440" cy="5713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Insulin gene is cut from a pancreatic cell DNA using a specific restriction enzy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57120" y="6143760"/>
            <a:ext cx="285768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sulin - Bacterial cells when supplied with required polypeptides or proteins, the colonies will produce insu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929200" y="6143760"/>
            <a:ext cx="300060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E.g Vaccines- The plamids are isolated from the e.coli cells, the genes are then amplifyed via PCR  and used to create inactivated viruses for vacc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ight Arrow 6"/>
          <p:cNvSpPr/>
          <p:nvPr/>
        </p:nvSpPr>
        <p:spPr>
          <a:xfrm>
            <a:off x="3071880" y="4287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eft Arrow 7"/>
          <p:cNvSpPr/>
          <p:nvPr/>
        </p:nvSpPr>
        <p:spPr>
          <a:xfrm>
            <a:off x="5929200" y="500040"/>
            <a:ext cx="357480" cy="1429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Straight Arrow Connector 12"/>
          <p:cNvCxnSpPr/>
          <p:nvPr/>
        </p:nvCxnSpPr>
        <p:spPr>
          <a:xfrm>
            <a:off x="4857480" y="6215040"/>
            <a:ext cx="786600" cy="286560"/>
          </a:xfrm>
          <a:prstGeom prst="straightConnector1">
            <a:avLst/>
          </a:prstGeom>
          <a:ln w="4428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18" name="Straight Arrow Connector 14"/>
          <p:cNvCxnSpPr/>
          <p:nvPr/>
        </p:nvCxnSpPr>
        <p:spPr>
          <a:xfrm flipH="1">
            <a:off x="3428640" y="6215040"/>
            <a:ext cx="1000800" cy="286560"/>
          </a:xfrm>
          <a:prstGeom prst="straightConnector1">
            <a:avLst/>
          </a:prstGeom>
          <a:ln w="50760">
            <a:solidFill>
              <a:srgbClr val="2da2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463680" y="176040"/>
            <a:ext cx="7997760" cy="10494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523800" y="1576440"/>
            <a:ext cx="41911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complementary strands of DNA can be separated and re-associated by heating and cool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One strand of DNA specifies the sequence of the other str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1" name="Picture 6" descr="f10-1a_dna_heating_and__c"/>
          <p:cNvPicPr/>
          <p:nvPr/>
        </p:nvPicPr>
        <p:blipFill>
          <a:blip r:embed="rId2"/>
          <a:stretch/>
        </p:blipFill>
        <p:spPr>
          <a:xfrm>
            <a:off x="5029200" y="2057400"/>
            <a:ext cx="38098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sumanas_pcr.m4v" descr=""/>
          <p:cNvPicPr/>
          <p:nvPr/>
        </p:nvPicPr>
        <p:blipFill>
          <a:blip r:embed="rId1"/>
          <a:stretch/>
        </p:blipFill>
        <p:spPr>
          <a:xfrm>
            <a:off x="2050920" y="1247760"/>
            <a:ext cx="5500800" cy="4125960"/>
          </a:xfrm>
          <a:prstGeom prst="rect">
            <a:avLst/>
          </a:prstGeom>
          <a:ln w="0">
            <a:noFill/>
          </a:ln>
        </p:spPr>
      </p:pic>
      <p:pic>
        <p:nvPicPr>
          <p:cNvPr id="523" name="Title 1" descr=""/>
          <p:cNvPicPr/>
          <p:nvPr/>
        </p:nvPicPr>
        <p:blipFill>
          <a:blip r:embed="rId2"/>
          <a:stretch/>
        </p:blipFill>
        <p:spPr>
          <a:xfrm>
            <a:off x="835200" y="274680"/>
            <a:ext cx="8484840" cy="12430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7"/>
          <p:cNvSpPr/>
          <p:nvPr/>
        </p:nvSpPr>
        <p:spPr>
          <a:xfrm>
            <a:off x="-216000" y="5516640"/>
            <a:ext cx="93963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Used to make more copies of DNA from a tiny DN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umanasinc.com/webcontent/animations/content/pcr.html</a:t>
            </a:r>
            <a:r>
              <a:rPr b="0" lang="en-A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384120" y="85680"/>
            <a:ext cx="8266320" cy="16146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37720" y="5866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909"/>
                </a:solidFill>
                <a:latin typeface="Lucida Sans Unicode"/>
              </a:rPr>
              <a:t>Primer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specify what DNA is copi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7" name="Picture 5" descr="f10-6a_diagram_of_the_p_c"/>
          <p:cNvPicPr/>
          <p:nvPr/>
        </p:nvPicPr>
        <p:blipFill>
          <a:blip r:embed="rId2"/>
          <a:srcRect l="0" t="0" r="0" b="45000"/>
          <a:stretch/>
        </p:blipFill>
        <p:spPr>
          <a:xfrm>
            <a:off x="990720" y="1600200"/>
            <a:ext cx="67816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341360"/>
            <a:ext cx="77580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– Double Helix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spiral strand is composed of a sugar phosphate backbone and attached b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 Bases: Adenine (A), Guanine(G)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(C), and Thymine (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 Base Pairs; A with T and C with G in the complementary strand vi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gen bonding (non- covalent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trands can be cut 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riction enzymes, e.g. ECOR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dna.gif"/>
          <p:cNvPicPr/>
          <p:nvPr/>
        </p:nvPicPr>
        <p:blipFill>
          <a:blip r:embed="rId2"/>
          <a:stretch/>
        </p:blipFill>
        <p:spPr>
          <a:xfrm>
            <a:off x="6537240" y="4005360"/>
            <a:ext cx="2787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433440" y="60948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80520" y="41907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etic enginee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Picture 3" descr="f10-6b_diagram_of_the_p_c"/>
          <p:cNvPicPr/>
          <p:nvPr/>
        </p:nvPicPr>
        <p:blipFill>
          <a:blip r:embed="rId2"/>
          <a:stretch/>
        </p:blipFill>
        <p:spPr>
          <a:xfrm>
            <a:off x="228600" y="1752480"/>
            <a:ext cx="86104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6348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roduction of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recombinant vaccin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food crops with immunity to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rensic Crime scene analysis 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profi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1268280" y="549360"/>
            <a:ext cx="8479080" cy="1243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MCj02908650000[1]"/>
          <p:cNvPicPr/>
          <p:nvPr/>
        </p:nvPicPr>
        <p:blipFill>
          <a:blip r:embed="rId2"/>
          <a:stretch/>
        </p:blipFill>
        <p:spPr>
          <a:xfrm>
            <a:off x="6227640" y="427356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MCj02152430000[1]"/>
          <p:cNvPicPr/>
          <p:nvPr/>
        </p:nvPicPr>
        <p:blipFill>
          <a:blip r:embed="rId3"/>
          <a:stretch/>
        </p:blipFill>
        <p:spPr>
          <a:xfrm rot="1014600">
            <a:off x="217440" y="43920"/>
            <a:ext cx="1185840" cy="2268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MCj04417140000[1]"/>
          <p:cNvPicPr/>
          <p:nvPr/>
        </p:nvPicPr>
        <p:blipFill>
          <a:blip r:embed="rId4"/>
          <a:stretch/>
        </p:blipFill>
        <p:spPr>
          <a:xfrm>
            <a:off x="6875640" y="907920"/>
            <a:ext cx="2376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ical issues related to “cloning” of human ge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will genetically engineered organisms affect environ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read of genes to other organis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will decid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eneticengtuna"/>
          <p:cNvPicPr/>
          <p:nvPr/>
        </p:nvPicPr>
        <p:blipFill>
          <a:blip r:embed="rId1"/>
          <a:stretch/>
        </p:blipFill>
        <p:spPr>
          <a:xfrm>
            <a:off x="2154240" y="457200"/>
            <a:ext cx="4775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Bacteria are often used in biotechnology as they have plasm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lasmid a circular piece of DNA that exists apart from the chromosome and replicates independently of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plasmid.jpg"/>
          <p:cNvPicPr/>
          <p:nvPr/>
        </p:nvPicPr>
        <p:blipFill>
          <a:blip r:embed="rId2"/>
          <a:stretch/>
        </p:blipFill>
        <p:spPr>
          <a:xfrm>
            <a:off x="428760" y="4286160"/>
            <a:ext cx="3714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19700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that has been cut from one strand of DNA and then inserted into the gap of another piece of DNA that has been bro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st DNA is often a bacterial cell such a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 co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urpose of splicing the gene into the host DNA is to produce many copies of i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bacteria reproduce in a very short time it is possible to make millions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ies of the gene fairly quick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bacteria"/>
          <p:cNvPicPr/>
          <p:nvPr/>
        </p:nvPicPr>
        <p:blipFill>
          <a:blip r:embed="rId2"/>
          <a:stretch/>
        </p:blipFill>
        <p:spPr>
          <a:xfrm>
            <a:off x="6372360" y="4724280"/>
            <a:ext cx="26841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required gene e.g. Insulin, is cut from the DNA using a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 circular piece of DNA, called a plasmid, is removed from the bacterial cell and is cut open using the same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cut out human gene is then mixed with the bacterial plasmids in a test tub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cause they have been cut with the same enzyme, the cut ends of the plasmid and the end of the human gene match. Often called ‘sticky ends’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enzyme DNA ligase is used to stick the ends togeth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Tit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ontent Placeholder 3" descr="inserting.gif"/>
          <p:cNvPicPr/>
          <p:nvPr/>
        </p:nvPicPr>
        <p:blipFill>
          <a:blip r:embed="rId1"/>
          <a:stretch/>
        </p:blipFill>
        <p:spPr>
          <a:xfrm>
            <a:off x="1714680" y="714240"/>
            <a:ext cx="53575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an be done by combining them in a test tube with CaCl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. The high concentration of calcium ions makes the membranes of the bacteria more porou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is then allows the plasmids to move into the bacterial cell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t all bacteria will take up a plasmi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nd this is why the monitoring mu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pp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7" descr="MCj04417150000[1]"/>
          <p:cNvPicPr/>
          <p:nvPr/>
        </p:nvPicPr>
        <p:blipFill>
          <a:blip r:embed="rId2"/>
          <a:stretch/>
        </p:blipFill>
        <p:spPr>
          <a:xfrm>
            <a:off x="7236000" y="471816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4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ecessary to isolate the host bacteria that contain the gene that has been spliced as only want the recombinant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acteria containing the resistance to the antibiotic will survive and the others will be killed by the antibiot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7:47:47Z</dcterms:created>
  <dc:creator>Corporate Edition</dc:creator>
  <dc:description/>
  <dc:language>en-US</dc:language>
  <cp:lastModifiedBy>RomaK</cp:lastModifiedBy>
  <dcterms:modified xsi:type="dcterms:W3CDTF">2015-09-04T11:35:12Z</dcterms:modified>
  <cp:revision>37</cp:revision>
  <dc:subject/>
  <dc:title>RECOMBINANT DNA AND POLYMERASE CHAIN REACTIONS</dc:title>
</cp:coreProperties>
</file>