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0.jpeg" ContentType="image/jpeg"/>
  <Override PartName="/ppt/media/image11.png" ContentType="image/png"/>
  <Override PartName="/ppt/media/image38.jpeg" ContentType="image/jpeg"/>
  <Override PartName="/ppt/media/image31.wmf" ContentType="image/x-wmf"/>
  <Override PartName="/ppt/media/image46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1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47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8.png" ContentType="image/pn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3B6F-4093-41F6-96DA-3F65A7C8E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MBINANT DNA AND POLYMERASE CHAIN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lasmidcloning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IMATION –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ids will not work as well in eukaryotic organisms like plants 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methods need to be used to insert the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al vectors can be used for animal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can ‘inject’ their DNA into an animal hos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use this technique on all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 can be used to insert genes into pl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rt.purdue.edu/hort/courses/HORT250/animations/Gene%20Gun%20Animation/Genegun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echnologists a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Solv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betics having reactions to porcine/animal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at crops being attacked by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sick with cystic fib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se can be fixed by recombinant DNA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have made the gene – how do we get lots of copies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Plasmid is cut with the same restriction enzyme used to cut the insulin g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gene is cut from a pancreatic cell DNA using a specific restriction enzy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- Bacterial cells when supplied with required polypeptides or proteins, the colonies will produce insul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 Vaccines- The plamids are isolated from the e.coli cells, the genes are then amplifyed via PCR  and used to create inactivated viruses for vacc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make more copies of DNA from a tiny DNA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c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– Double Helix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piral strand is composed of a sugar phosphate backbone and attache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Bases: Adenine (A), Guanine(G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, and Thymine (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Base Pairs; A with T and C with G in the complementary strand v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(non- covalen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ands can be cut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riction enzymes, e.g. ECO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already kn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low Chart of P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recombinant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food crops with immunity to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nsic Crime scene analysi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Worl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are often used in biotechnology as they have plasm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asmid a circular piece of DNA that exists apart from the chromosome and replicates independently of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blanks of the worksh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that has been cut from one strand of DNA and then inserted into the gap of another piece of DNA that has been bro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st DNA is often a bacterial cell such as E col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splicing the gene into the host DNA is to produce many copies of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acteria reproduce in a very short time it is possible to make million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ies of the gene fairly 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Recombinant D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quired gene e.g. Insulin, is cut from the DNA using a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ircular piece of DNA, called a plasmid, is removed from the bacterial cell and is cut open using the same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t out human gene is then mixed with the bacterial plasmids in a test tu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have been cut with the same enzyme, the cut ends of the plasmid and the end of the human gene match. Often called ‘sticky end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 DNA ligase is used to stick the ends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ake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Introducing the Plasmid Back - 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done by combining them in a test tube with CaCl2. The high concentration of calcium ions makes the membranes of the bacteria more po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hen allows the plasmids to move into the bacterial ce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bacteria will take up a plasm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is why the monitoring m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ich bacteria have the ge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cessary to isolate the host bacteria that contain the gene that has been spliced as only want the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containing the resistance to the antibiotic will survive and the others will be killed by the antibio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899-968A-4D10-BBB1-295281FF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457-64B9-494B-9C90-100EB1D3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EF6A8-EAAD-4774-897D-A02A79B6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2CFC6-EB6F-4317-813C-374709FA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BD20E-D98D-4BFE-916C-E1EB9666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1F0CA-784E-4ABD-BA67-18DD08FD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D0342-E90D-4E40-BDA5-EE9581FE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505FF-8177-4F8B-9B6C-C07344A8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98CD5-9F47-481C-B201-F29ECD67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E4753-D7B1-40EB-A487-22008A78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B5FC4-4889-4604-ADE4-98D1F27E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AD1AA-C60C-4A16-82FE-FF9A7455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F34-5378-4666-9C60-4C3A4990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3EF5D-895E-421C-83FD-944E3AE2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096F0-5950-4524-8BBB-72D138EA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DFFDC-0EAE-43B6-895E-189308EA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B7A96-93FC-4C9E-9F5B-522D606F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5C50A-AA4E-4860-9382-F1C0AD8E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23EBD-92CB-4722-B176-66E19323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01DC2-DABE-41DF-BDA1-B6F2D903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A9137-FB49-462E-BBF3-969EE6EC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02221-3453-4027-95E2-5EE51BAF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1A496-4FD9-4188-8993-EBDAA6A7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7A2-7BF7-4AC8-A505-7A46C244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12126-2FA8-4FE3-94CF-A54054B4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2B8A-1449-482C-81A3-3C4D9CE0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845E-EE98-4724-BE86-447467E1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95B1-F141-462A-A0EB-DAE35C5F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9946-BAA0-411C-A4AF-AD6C167E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6F15-38D3-401A-9DA0-03715585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A2B2-910A-48C4-A5D7-175D4376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39CA-90F2-410B-84DD-6945A6F8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F09-A26D-4D30-A98D-EE5FFE92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430F-410B-4413-B30C-1216FACC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A493-9C77-4492-8BCF-B16A2793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07BB-3303-40F9-B5F8-E82D6158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F60B-DF30-402F-86F2-D77DEED1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66F1-AD99-47D2-8F7E-ED654B90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80980-033D-492A-9CC8-15A4EB3A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0763B-A42F-4A35-98AD-71FCB391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B8164-5D37-4D44-A753-82022F63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5C7D-E9A1-49C0-A649-5623246F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8E65B-EBD2-499A-B201-23C23CEB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599-6124-4CEF-8067-AC560A81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C67E6-B25C-4FE5-8969-539D02A6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43C9D-B61A-4E97-A1E9-6D3D9144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6F9D3-6DF7-45BA-9AD8-51B16C35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629A-6246-4632-B708-B4DF9129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180E4-420C-403A-9828-91C9A3D5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CCED1-7439-4F2C-B93E-D73ACCBE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79084-3F0B-491F-9EB6-7EA975D1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AD7F1-357C-42C3-B5DE-1A8BC65E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08687-6588-48C6-A891-9C89E0CF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B25C8-5EE2-40D1-B504-EF0216BC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C09A-7852-4BA8-B451-106404A2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A80F9-123E-400E-AE85-E6110D09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EF10C-1A56-472C-B57F-EF2E04D5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13043-5C49-474C-BC20-2642C160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D96D6-E8B4-4E43-BFD3-DDAB87FD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E3573-56F3-4B91-B179-4628DA7C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2C598-3DC1-4649-87A6-05BB0E97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B022A-D04A-4608-83DF-5CFBECC6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CD7EA-F27F-43E5-B357-84EE60AD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814FE-77D8-4390-B34A-9F46CFA9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27505-1510-47C6-8E5C-86D3A202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EB5-8727-4B2B-A1F3-D592253E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41A33-B431-403E-9A8E-FFD29AB3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3EE4F-A2F1-488C-BE60-412CE1ED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255F1-DEB4-4543-882C-C3D2BA3A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5BD50-117D-492D-9090-D1D00FA5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48EA4-BFDE-41B8-B062-0ED33473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894AE-B4D2-498E-BB01-4E5D5F8E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FCE72-EA41-498D-BDA4-F99E73EC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FF6F0-8B75-47F6-BC7F-3C422F46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F03A-2C01-41F4-8420-282B3C52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579C4-1400-4A92-B88E-6DAD73AD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5FF-4886-4D0F-A0EB-416B9631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014DD-5110-41B4-A229-BC1098D3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07F79-FBA0-453D-BCEB-69072C4F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D2305-359D-40EA-A36B-39A6672E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9ED6B-88B1-431E-AA33-6172CF32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E3FFF-7512-4D18-92EF-A3312EDE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506FD-5AE2-4FD8-9B84-0829C703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06904-0CD5-4BC9-AF3F-87A075C0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8341A-161F-4294-B8D9-C3F9BBD7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6C3C1-A194-4AD0-B9D0-EAED70B8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70799-3465-41D8-BFE4-BF12C872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4C0-3C98-47A4-B580-12BDE8CC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A83D7-FE1B-4B8E-BBE4-73F98C0C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ECA37-E530-40B8-B801-783F9BB1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94F22-5926-47B4-B1DE-2BB3FAE8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14ACC-CB2E-40DA-A8FE-85B998C6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D5725-D0FE-4C5B-89C5-857B1A8B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5A13D-0B88-4D81-BB09-7048DB2E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EF958-C41F-4F31-BAB7-8E3E912E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58258-8905-444E-A73C-CF254396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B94B7-F34A-44FC-9CF9-33D3B876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E4804-9914-4C6F-BC41-FB6999F0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993-D5C8-47A6-910E-9F6591EE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68B66-7021-41EE-9767-146E428B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51DEC-05B9-4365-B662-4A86F9BD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035D0-5342-4364-A356-AE6259C9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EAED6-C140-4CD0-9E19-42A2169C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C4293-8287-428C-A2DF-25975198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30DD1-C503-46CF-B431-6EEE4B78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3C071-6543-4D1E-A945-FAE95529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20795-F1CF-44B7-9267-4B7822CC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B6380-1956-47B0-8C44-B8886E5E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F14F3-C4D6-49CC-88CB-7E3BA5A7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61F-0D6C-4EFD-801D-09F24A46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B6C8F-C483-49A6-8BD7-BEB380EE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A9DFD-C0F1-4684-AE5F-65850E09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F865B-6F60-45B1-875B-B40D3881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25BB6-818D-4917-968D-8B5FEE40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D7219-BC38-4B13-A1E2-B28689EC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4CE02-9DB5-414B-A685-1DC0CA15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9D54C-4ADF-4743-9E4A-53D71A22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BB7D9-9B16-49C1-8FAE-E830552A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1C4F0-EDF2-46A3-AB74-093C6E0D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784F3-C716-4429-8C16-32712220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D530-83EC-4A80-937B-005E7B14755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F79E-3155-4562-B783-E29633AD3C7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A254-D501-40C3-A21F-C89586D9B9F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07FC-BCB6-4898-8859-4B3170744FB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6364-E7F9-4C86-A3EB-06C610F7835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327C-C87A-49A1-B7AB-AE9F2CAC333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0DEA-2BB4-4B62-8E0D-EA11EFF5393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6C18-AF61-4EA7-87F8-36DA808D54B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10DA-63A1-42FF-8491-438917CF4A7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69CA-F0D9-4BE5-9571-2CD4E718BEE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lasmidcloning.html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rt.purdue.edu/hort/courses/HORT250/animations/Gene%20Gun%20Animation/Genegun1.html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hyperlink" Target="http://www.sumanasinc.com/webcontent/animations/content/pcr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itle 1" descr=""/>
          <p:cNvPicPr/>
          <p:nvPr/>
        </p:nvPicPr>
        <p:blipFill>
          <a:blip r:embed="rId1"/>
          <a:stretch/>
        </p:blipFill>
        <p:spPr>
          <a:xfrm>
            <a:off x="237960" y="493560"/>
            <a:ext cx="8631360" cy="17431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73" name="Picture 3" descr="gejoke"/>
          <p:cNvPicPr/>
          <p:nvPr/>
        </p:nvPicPr>
        <p:blipFill>
          <a:blip r:embed="rId2"/>
          <a:stretch/>
        </p:blipFill>
        <p:spPr>
          <a:xfrm>
            <a:off x="1905120" y="2143080"/>
            <a:ext cx="5371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63680" y="133200"/>
            <a:ext cx="7997760" cy="10558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762120" y="55623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tibiotic resistance gene used to identify recombinant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Picture 7" descr="f10-10_one_method_for_s_c"/>
          <p:cNvPicPr/>
          <p:nvPr/>
        </p:nvPicPr>
        <p:blipFill>
          <a:blip r:embed="rId2"/>
          <a:stretch/>
        </p:blipFill>
        <p:spPr>
          <a:xfrm>
            <a:off x="1828800" y="1066680"/>
            <a:ext cx="53341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57200" y="1285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umanasinc.com/webcontent/animations/content/plasmidcloning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Title 1" descr=""/>
          <p:cNvPicPr/>
          <p:nvPr/>
        </p:nvPicPr>
        <p:blipFill>
          <a:blip r:embed="rId2"/>
          <a:stretch/>
        </p:blipFill>
        <p:spPr>
          <a:xfrm>
            <a:off x="244440" y="274680"/>
            <a:ext cx="8442360" cy="1189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"/>
          <p:cNvPicPr/>
          <p:nvPr/>
        </p:nvPicPr>
        <p:blipFill>
          <a:blip r:embed="rId3"/>
          <a:stretch/>
        </p:blipFill>
        <p:spPr>
          <a:xfrm>
            <a:off x="714240" y="2214720"/>
            <a:ext cx="7701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lasmids will not work as well in eukaryotic organisms like plants and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Other methods need to be used to insert the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Viral vectors can be used for animal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The virus can ‘inject’ their DNA into an animal host ce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virus2"/>
          <p:cNvPicPr/>
          <p:nvPr/>
        </p:nvPicPr>
        <p:blipFill>
          <a:blip r:embed="rId2"/>
          <a:stretch/>
        </p:blipFill>
        <p:spPr>
          <a:xfrm rot="285000">
            <a:off x="6441840" y="4362120"/>
            <a:ext cx="244296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50920" y="17114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Gene Gun can be used to insert genes into plant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ort.purdue.edu/hort/courses/HORT250/animations/Gene%20Gun%20Animation/Genegun1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2"/>
          <a:stretch/>
        </p:blipFill>
        <p:spPr>
          <a:xfrm>
            <a:off x="2487600" y="274680"/>
            <a:ext cx="8485200" cy="1346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MCj02321110000[1]"/>
          <p:cNvPicPr/>
          <p:nvPr/>
        </p:nvPicPr>
        <p:blipFill>
          <a:blip r:embed="rId3"/>
          <a:stretch/>
        </p:blipFill>
        <p:spPr>
          <a:xfrm>
            <a:off x="108000" y="465300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MCj03393020000[1]"/>
          <p:cNvPicPr/>
          <p:nvPr/>
        </p:nvPicPr>
        <p:blipFill>
          <a:blip r:embed="rId4"/>
          <a:stretch/>
        </p:blipFill>
        <p:spPr>
          <a:xfrm>
            <a:off x="7308720" y="4608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24912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031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betics having reactions to porcine/animal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at crops being attacked by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ople sick with cystic fibro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se can be fixed by recombinant DNA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Picture 5" descr="MCj04398510000[1]"/>
          <p:cNvPicPr/>
          <p:nvPr/>
        </p:nvPicPr>
        <p:blipFill>
          <a:blip r:embed="rId2"/>
          <a:stretch/>
        </p:blipFill>
        <p:spPr>
          <a:xfrm>
            <a:off x="7236000" y="189000"/>
            <a:ext cx="19238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-360" y="571680"/>
            <a:ext cx="871524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ucida Sans Unicode"/>
              </a:rPr>
              <a:t>Now we have made the gene – how do we get lots of copies?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Diagram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6926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"/>
          <p:cNvSpPr/>
          <p:nvPr/>
        </p:nvSpPr>
        <p:spPr>
          <a:xfrm>
            <a:off x="857160" y="142920"/>
            <a:ext cx="207180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E.Coli Plasmid is cut with the same restriction enzyme used to cut the insulin ge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429240" y="142920"/>
            <a:ext cx="2143440" cy="5713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Insulin gene is cut from a pancreatic cell DNA using a specific restriction enzy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57120" y="6143760"/>
            <a:ext cx="285768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insulin - Bacterial cells when supplied with required polypeptides or proteins, the colonies will produce insu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5929200" y="6143760"/>
            <a:ext cx="300060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E.g Vaccines- The plamids are isolated from the e.coli cells, the genes are then amplifyed via PCR  and used to create inactivated viruses for vacc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ight Arrow 6"/>
          <p:cNvSpPr/>
          <p:nvPr/>
        </p:nvSpPr>
        <p:spPr>
          <a:xfrm>
            <a:off x="3071880" y="4287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eft Arrow 7"/>
          <p:cNvSpPr/>
          <p:nvPr/>
        </p:nvSpPr>
        <p:spPr>
          <a:xfrm>
            <a:off x="5929200" y="500040"/>
            <a:ext cx="357480" cy="1429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Straight Arrow Connector 12"/>
          <p:cNvCxnSpPr/>
          <p:nvPr/>
        </p:nvCxnSpPr>
        <p:spPr>
          <a:xfrm>
            <a:off x="4857480" y="6215040"/>
            <a:ext cx="786600" cy="286560"/>
          </a:xfrm>
          <a:prstGeom prst="straightConnector1">
            <a:avLst/>
          </a:prstGeom>
          <a:ln w="4428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18" name="Straight Arrow Connector 14"/>
          <p:cNvCxnSpPr/>
          <p:nvPr/>
        </p:nvCxnSpPr>
        <p:spPr>
          <a:xfrm flipH="1">
            <a:off x="3428640" y="6215040"/>
            <a:ext cx="1000800" cy="286560"/>
          </a:xfrm>
          <a:prstGeom prst="straightConnector1">
            <a:avLst/>
          </a:prstGeom>
          <a:ln w="50760">
            <a:solidFill>
              <a:srgbClr val="2da2b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Rectangle 2" descr=""/>
          <p:cNvPicPr/>
          <p:nvPr/>
        </p:nvPicPr>
        <p:blipFill>
          <a:blip r:embed="rId1"/>
          <a:stretch/>
        </p:blipFill>
        <p:spPr>
          <a:xfrm>
            <a:off x="463680" y="176040"/>
            <a:ext cx="7997760" cy="10494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523800" y="1576440"/>
            <a:ext cx="41911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complementary strands of DNA can be separated and re-associated by heating and cool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One strand of DNA specifies the sequence of the other str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1" name="Picture 6" descr="f10-1a_dna_heating_and__c"/>
          <p:cNvPicPr/>
          <p:nvPr/>
        </p:nvPicPr>
        <p:blipFill>
          <a:blip r:embed="rId2"/>
          <a:stretch/>
        </p:blipFill>
        <p:spPr>
          <a:xfrm>
            <a:off x="5029200" y="2057400"/>
            <a:ext cx="38098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sumanas_pcr.m4v" descr=""/>
          <p:cNvPicPr/>
          <p:nvPr/>
        </p:nvPicPr>
        <p:blipFill>
          <a:blip r:embed="rId1"/>
          <a:stretch/>
        </p:blipFill>
        <p:spPr>
          <a:xfrm>
            <a:off x="2050920" y="1247760"/>
            <a:ext cx="5500800" cy="4125960"/>
          </a:xfrm>
          <a:prstGeom prst="rect">
            <a:avLst/>
          </a:prstGeom>
          <a:ln w="0">
            <a:noFill/>
          </a:ln>
        </p:spPr>
      </p:pic>
      <p:pic>
        <p:nvPicPr>
          <p:cNvPr id="523" name="Title 1" descr=""/>
          <p:cNvPicPr/>
          <p:nvPr/>
        </p:nvPicPr>
        <p:blipFill>
          <a:blip r:embed="rId2"/>
          <a:stretch/>
        </p:blipFill>
        <p:spPr>
          <a:xfrm>
            <a:off x="835200" y="274680"/>
            <a:ext cx="8484840" cy="12430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7"/>
          <p:cNvSpPr/>
          <p:nvPr/>
        </p:nvSpPr>
        <p:spPr>
          <a:xfrm>
            <a:off x="-216000" y="5516640"/>
            <a:ext cx="939636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Used to make more copies of DNA from a tiny DN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umanasinc.com/webcontent/animations/content/pcr.html</a:t>
            </a:r>
            <a:r>
              <a:rPr b="0" lang="en-A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Rectangle 2" descr=""/>
          <p:cNvPicPr/>
          <p:nvPr/>
        </p:nvPicPr>
        <p:blipFill>
          <a:blip r:embed="rId1"/>
          <a:stretch/>
        </p:blipFill>
        <p:spPr>
          <a:xfrm>
            <a:off x="384120" y="85680"/>
            <a:ext cx="8266320" cy="16146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37720" y="5866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909"/>
                </a:solidFill>
                <a:latin typeface="Lucida Sans Unicode"/>
              </a:rPr>
              <a:t>Primer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specify what DNA is copi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7" name="Picture 5" descr="f10-6a_diagram_of_the_p_c"/>
          <p:cNvPicPr/>
          <p:nvPr/>
        </p:nvPicPr>
        <p:blipFill>
          <a:blip r:embed="rId2"/>
          <a:srcRect l="0" t="0" r="0" b="45000"/>
          <a:stretch/>
        </p:blipFill>
        <p:spPr>
          <a:xfrm>
            <a:off x="990720" y="1600200"/>
            <a:ext cx="67816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341360"/>
            <a:ext cx="77580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– Double Helix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spiral strand is composed of a sugar phosphate backbone and attached b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 Bases: Adenine (A), Guanine(G)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sine (C), and Thymine (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 Base Pairs; A with T and C with G in the complementary strand vi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drogen bonding (non- covalent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trands can be cut b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riction enzymes, e.g. ECOR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dna.gif"/>
          <p:cNvPicPr/>
          <p:nvPr/>
        </p:nvPicPr>
        <p:blipFill>
          <a:blip r:embed="rId2"/>
          <a:stretch/>
        </p:blipFill>
        <p:spPr>
          <a:xfrm>
            <a:off x="6537240" y="4005360"/>
            <a:ext cx="2787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2" descr=""/>
          <p:cNvPicPr/>
          <p:nvPr/>
        </p:nvPicPr>
        <p:blipFill>
          <a:blip r:embed="rId1"/>
          <a:stretch/>
        </p:blipFill>
        <p:spPr>
          <a:xfrm>
            <a:off x="433440" y="60948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80520" y="41907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enetic enginee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Picture 3" descr="f10-6b_diagram_of_the_p_c"/>
          <p:cNvPicPr/>
          <p:nvPr/>
        </p:nvPicPr>
        <p:blipFill>
          <a:blip r:embed="rId2"/>
          <a:stretch/>
        </p:blipFill>
        <p:spPr>
          <a:xfrm>
            <a:off x="228600" y="1752480"/>
            <a:ext cx="86104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663480" y="1844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roduction of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recombinant vaccin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food crops with immunity to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Forensic Crime scene analysis –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profi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1268280" y="549360"/>
            <a:ext cx="8479080" cy="12430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MCj02908650000[1]"/>
          <p:cNvPicPr/>
          <p:nvPr/>
        </p:nvPicPr>
        <p:blipFill>
          <a:blip r:embed="rId2"/>
          <a:stretch/>
        </p:blipFill>
        <p:spPr>
          <a:xfrm>
            <a:off x="6227640" y="4273560"/>
            <a:ext cx="2397240" cy="2468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MCj02152430000[1]"/>
          <p:cNvPicPr/>
          <p:nvPr/>
        </p:nvPicPr>
        <p:blipFill>
          <a:blip r:embed="rId3"/>
          <a:stretch/>
        </p:blipFill>
        <p:spPr>
          <a:xfrm rot="1014600">
            <a:off x="217440" y="43920"/>
            <a:ext cx="1185840" cy="2268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MCj04417140000[1]"/>
          <p:cNvPicPr/>
          <p:nvPr/>
        </p:nvPicPr>
        <p:blipFill>
          <a:blip r:embed="rId4"/>
          <a:stretch/>
        </p:blipFill>
        <p:spPr>
          <a:xfrm>
            <a:off x="6875640" y="907920"/>
            <a:ext cx="23763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thical issues related to “cloning” of human ge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will genetically engineered organisms affect environm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read of genes to other organism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will decid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geneticengtuna"/>
          <p:cNvPicPr/>
          <p:nvPr/>
        </p:nvPicPr>
        <p:blipFill>
          <a:blip r:embed="rId1"/>
          <a:stretch/>
        </p:blipFill>
        <p:spPr>
          <a:xfrm>
            <a:off x="2154240" y="457200"/>
            <a:ext cx="4775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Bacteria are often used in biotechnology as they have plasm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lasmid a circular piece of DNA that exists apart from the chromosome and replicates independently of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plasmid.jpg"/>
          <p:cNvPicPr/>
          <p:nvPr/>
        </p:nvPicPr>
        <p:blipFill>
          <a:blip r:embed="rId2"/>
          <a:stretch/>
        </p:blipFill>
        <p:spPr>
          <a:xfrm>
            <a:off x="428760" y="4286160"/>
            <a:ext cx="3714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19700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that has been cut from one strand of DNA and then inserted into the gap of another piece of DNA that has been bro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st DNA is often a bacterial cell such a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 col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urpose of splicing the gene into the host DNA is to produce many copies of i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bacteria reproduce in a very short time it is possible to make millions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pies of the gene fairly quick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Title 1" descr=""/>
          <p:cNvPicPr/>
          <p:nvPr/>
        </p:nvPicPr>
        <p:blipFill>
          <a:blip r:embed="rId1"/>
          <a:stretch/>
        </p:blipFill>
        <p:spPr>
          <a:xfrm>
            <a:off x="328680" y="19512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bacteria"/>
          <p:cNvPicPr/>
          <p:nvPr/>
        </p:nvPicPr>
        <p:blipFill>
          <a:blip r:embed="rId2"/>
          <a:stretch/>
        </p:blipFill>
        <p:spPr>
          <a:xfrm>
            <a:off x="6372360" y="4724280"/>
            <a:ext cx="26841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required gene e.g. Insulin, is cut from the DNA using a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 circular piece of DNA, called a plasmid, is removed from the bacterial cell and is cut open using the same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cut out human gene is then mixed with the bacterial plasmids in a test tub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cause they have been cut with the same enzyme, the cut ends of the plasmid and the end of the human gene match. Often called ‘sticky ends’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enzyme DNA ligase is used to stick the ends togeth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6" name="Tit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Content Placeholder 3" descr="inserting.gif"/>
          <p:cNvPicPr/>
          <p:nvPr/>
        </p:nvPicPr>
        <p:blipFill>
          <a:blip r:embed="rId1"/>
          <a:stretch/>
        </p:blipFill>
        <p:spPr>
          <a:xfrm>
            <a:off x="1714680" y="714240"/>
            <a:ext cx="53575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51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an be done by combining them in a test tube with CaCl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. The high concentration of calcium ions makes the membranes of the bacteria more porou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is then allows the plasmids to move into the bacterial cell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t all bacteria will take up a plasmid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nd this is why the monitoring mus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app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Picture 7" descr="MCj04417150000[1]"/>
          <p:cNvPicPr/>
          <p:nvPr/>
        </p:nvPicPr>
        <p:blipFill>
          <a:blip r:embed="rId2"/>
          <a:stretch/>
        </p:blipFill>
        <p:spPr>
          <a:xfrm>
            <a:off x="7236000" y="471816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4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ecessary to isolate the host bacteria that contain the gene that has been spliced as only want the recombinant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acteria containing the resistance to the antibiotic will survive and the others will be killed by the antibiot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7:47:47Z</dcterms:created>
  <dc:creator>Corporate Edition</dc:creator>
  <dc:description/>
  <dc:language>en-US</dc:language>
  <cp:lastModifiedBy>RomaK</cp:lastModifiedBy>
  <dcterms:modified xsi:type="dcterms:W3CDTF">2015-09-04T11:35:12Z</dcterms:modified>
  <cp:revision>37</cp:revision>
  <dc:subject/>
  <dc:title>RECOMBINANT DNA AND POLYMERASE CHAIN REACTIONS</dc:title>
</cp:coreProperties>
</file>