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40.jpeg" ContentType="image/jpeg"/>
  <Override PartName="/ppt/media/image11.png" ContentType="image/png"/>
  <Override PartName="/ppt/media/image38.jpeg" ContentType="image/jpeg"/>
  <Override PartName="/ppt/media/image31.wmf" ContentType="image/x-wmf"/>
  <Override PartName="/ppt/media/image46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41.png" ContentType="image/png"/>
  <Override PartName="/ppt/media/image43.wmf" ContentType="image/x-wmf"/>
  <Override PartName="/ppt/media/image44.wmf" ContentType="image/x-wmf"/>
  <Override PartName="/ppt/media/image45.png" ContentType="image/png"/>
  <Override PartName="/ppt/media/image47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8.png" ContentType="image/pn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C4FC-6EBB-41F0-BC0E-7B299A99A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MBINANT DNA AND POLYMERASE CHAIN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on of Alte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gene used to identify recombin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ion of Altere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iotic resistance gene used to identify recombinan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http://www.sumanasinc.com/webcontent/animations/content/plasmidcloning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NIMATION – RECOMBINANT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ids will not work as well in eukaryotic organisms like plants and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methods need to be used to insert the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al vectors can be used for animal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rus can ‘inject’ their DNA into an animal host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use this technique on all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 Gun can be used to insert genes into plan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rt.purdue.edu/hort/courses/HORT250/animations/Gene%20Gun%20Animation/Genegun1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 G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echnologists a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Solv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betics having reactions to porcine/animal insu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at crops being attacked by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sick with cystic fibr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se can be fixed by recombinant DNA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Flow Chart show the steps involved in making recombinant DNA for a desired gene.  From cutting of the gene to the final product (this may involve the delivery meth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e have made the gene – how do we get lots of copies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Coli Plasmid is cut with the same restriction enzyme used to cut the insulin g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lin gene is cut from a pancreatic cell DNA using a specific restriction enzy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lin - Bacterial cells when supplied with required polypeptides or proteins, the colonies will produce insul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 Vaccines- The plamids are isolated from the e.coli cells, the genes are then amplifyed via PCR  and used to create inactivated viruses for vacc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Properti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lementary strands of DNA can be separated and re-associated by heating and coo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rand of DNA specifies the sequence of the other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ful Properties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lementary strands of DNA can be separated and re-associated by heating and coo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trand of DNA specifies the sequence of the other str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make more copies of DNA from a tiny DNA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manasinc.com/webcontent/animations/content/pcr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 (PCR) Amplifies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 specify what DNA i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merase Chain Reaction (PCR) Amplifies D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ers specify what DNA is cop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– Double Helix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piral strand is composed of a sugar phosphate backbone and attache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Bases: Adenine (A), Guanine(G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 (C), and Thymine (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Base Pairs; A with T and C with G in the complementary strand v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(non- covalen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ands can be cut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riction enzymes, e.g. ECOR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already kn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mplifie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CR Amplifies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low Chart of PC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Insu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recombinant 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food crops with immunity to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nsic Crime scene analysi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profi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World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al issues related to “cloning” of human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genetically engineered organisms affect 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ead of genes to other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ill dec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ss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hical issues related to “cloning” of human 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ill genetically engineered organisms affect environ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ead of genes to other organis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will deci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are often used in biotechnology as they have plasm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asmid a circular piece of DNA that exists apart from the chromosome and replicates independently of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l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the blanks of the worksh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that has been cut from one strand of DNA and then inserted into the gap of another piece of DNA that has been bro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st DNA is often a bacterial cell such as E col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splicing the gene into the host DNA is to produce many copies of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acteria reproduce in a very short time it is possible to make million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ies of the gene fairly quick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Recombinant DN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quired gene e.g. Insulin, is cut from the DNA using a restriction enzy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ircular piece of DNA, called a plasmid, is removed from the bacterial cell and is cut open using the same restriction enzy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t out human gene is then mixed with the bacterial plasmids in a test tub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y have been cut with the same enzyme, the cut ends of the plasmid and the end of the human gene match. Often called ‘sticky end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 DNA ligase is used to stick the ends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ake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Introducing the Plasmid Back - 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 plasmids that contains the introduced gene (recombinant DNA) need to be reintroduced into the bacteria so they can multiply and make more of the ge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done by combining them in a test tube with CaCl2. The high concentration of calcium ions makes the membranes of the bacteria more poro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hen allows the plasmids to move into the bacterial ce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bacteria will take up a plasm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is is why the monitoring m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which bacteria have the ge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cessary to isolate the host bacteria that contain the gene that has been spliced as only want the recombinant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having a gene on the same plasmid that gives resistance to an antibiotic, the other bacteria can be removed by culturing the bacteria in a medium that contains the antibiot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a containing the resistance to the antibiotic will survive and the others will be killed by the antibio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AE8-3BC3-4962-9B22-E5F3ED8B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7FA-E11F-4CFD-9532-B0CBF4FE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EB46E-238B-4D7F-A491-093D7C46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CEC29-475B-4D7D-9318-465BEE44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A0B16-3D89-4700-B5E0-FC7F4F4D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3D160-3554-4977-A2C9-869E3825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C9BD5-246E-4A9B-A3BA-C7210358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6683B-EB32-4529-A62E-1FACBB57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C438D-4F82-4455-8502-B3E9E3CC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BC4D2-4845-40ED-8071-BAB4B4E4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2A4ED-6964-4627-B884-2C88D5D4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87C8B-991E-4586-B31D-FD9D6AAF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C6D-DFDC-437D-B220-03BFBC63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B10D7-FF9B-4038-A4E5-248DB943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C7151-A701-41BC-8368-3605CBDA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4EF4F-7439-442D-9CD1-80F07E37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35833-53B2-4D8D-99D9-04693146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73B6C-8FBA-4951-96D8-9E654DCB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7B3DB-B711-4DAF-8BCA-26809588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A01C4-CFD5-40B4-AB91-F22C0E08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EB0EE-B7C3-423E-B0A1-68A53855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8D8B2-35D4-4FF5-A75F-475F44BA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45FAC-CF32-44DD-91B3-BC357CB7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AEFB-251D-40A5-8D05-0656843C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E3BC4-F1EA-4ED1-AD3D-85A38A84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E03B-B4BB-4E37-8C6D-A84D79C7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EF54-94C1-4638-A4B5-C4B01194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AE81-60D4-4BD1-83A3-4A3F07F3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32FB-764B-4573-8134-99FBD3FD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B457-C4BE-4C37-934C-6BBAE814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633E-EBAA-43A4-B474-3F1D05E0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AA4F-2A8C-4BCB-A6B6-A1901253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FEC-7A11-48D6-AEFA-3F2EFBD3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069F-6D08-4C08-B0F9-CEC7F7A5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6B06-217A-4733-9E22-EBD3542D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FC05-38C0-40CA-8706-53B15EF9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4395-ECB6-4FEF-9C99-B2792181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D806-4F97-4C66-BB6A-888BE8DA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F97DD-2F20-455C-80B9-B087B7C9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F3EDE-C88E-4779-9823-9370A0BD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7EA80-8104-432D-BFF2-A3894632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784F7-1A73-4BB8-AE9B-D680254A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990D6-B041-4D9E-A745-6578D9D8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5327-14ED-49C4-8751-57F0B622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04740-D9AA-475D-988D-A2661F36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0047C-F2B0-436A-B48C-72734506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25B16-8C2C-4884-B0ED-E8492B97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D15B8-6C25-414B-BBCD-5875E418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905B7-6035-495D-9831-D1D4A11F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13DC9-EF24-41E9-8BE0-8A96AA30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7FA04-C79A-4D68-9B93-0E0CF99C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1D5EE-6873-4675-8D66-7DAFFADC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50E84-6E46-405E-A5F1-5EABEDB5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7E04B-9816-467D-A21C-955D062A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9F2-B1FF-4692-9CA6-C5221F62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5CC2C-86F6-49CF-B773-C3718E51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4D16C-2487-444C-857E-9C72CB80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52E2F-CBE1-4D6C-9FA0-5EAA20FD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7D146-ED03-43D2-BE8D-F17BD5F4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4029D-6DF3-4A70-BDCD-015FCD80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B9C84-035E-4AF4-B622-96E9052C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00C28-2D17-496F-B6C1-83AB11A4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A6A84-647B-40F6-A92F-495D5917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A9B70-B6AE-48FD-BBDD-B3D9ABDC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EDD77-2938-4D37-AAD7-D7F56707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C956-B6B7-44EF-8D91-08550D14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00A9F-E5DD-4AC8-8045-4371E137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879B5-4044-4B6D-B99B-494B8CB1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73B51-1325-4F76-AB95-8A081968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C47D9-A381-4C4E-A272-60A1FEFD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5CCCD-ACD9-44B2-B2B0-127B4350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4B8A6-66F6-491A-ADD1-23007257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04780-DD99-4FA5-9B00-B19647D2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FA73C-2B30-481B-8166-5A92AC9E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89A20-C6A7-499D-B3A5-1B36F648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A56B6-DF30-4D4F-8F50-CED7C6B2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237-8EB8-45E7-9B3D-30042F7D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0DF53-3CFE-4DD6-8C66-B21781C7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69F3A-46AF-4E18-828D-4E1B7F6F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D79A9-91AC-4D60-8016-C98F1C5F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6F94B-E12F-4C08-B52F-454BA32F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25A0B-0A2A-4840-A9EB-F389B8FD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ED8A4-8E96-4A76-BDCC-1A3AAE15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FFE57-864C-4134-840E-69FA0F27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ED88B-2892-4A52-850C-1E94EA94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51F92-4598-4B37-8435-E71AC6B7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5B381-7BEE-42B3-AC1B-7477932D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7326-2A44-44E0-BEB7-0FE12370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A61DA-7611-49A6-9A6F-16E75FCF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89307-7C94-437A-9A46-BC4075A2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FE6F5-6F97-4DEF-B69E-5B16AA20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397EF-707C-4C4C-9828-03B4357C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CB747-736C-4B72-9868-027BD69F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91C2B-6FB1-4F89-9BE4-3BEFB73E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AC403-2DD3-461E-890F-19E08ACF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2A200-51FA-453D-B870-D65FCF12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71529-332D-435D-B1E7-5E35C0BE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0974E-9454-41A3-A441-CE2C51E5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6FB-78E6-4F15-9B96-4438868A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C1D93-E058-4AF4-994B-1185186C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E118F-6870-4658-901B-6BB5998E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FA2CD-40AB-4BC7-9C17-A9545EDA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C88B5-7416-42D7-950D-F5E5109A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08C40-A027-4A0F-93A3-2C6053CD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4F8E5-69E2-4496-8229-854005BF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7EC4C-B6CB-470F-8143-8D543360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4BD6A-067B-4E9B-B07C-8CE5D65B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AF15B-B970-4DAB-96B5-84AC4075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1E1BE-7918-4CCA-8CD5-7D26CFD9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3E3-FAA8-4C72-87B2-7AEFF1FA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6E056-16FE-41DE-88D7-9AEDDEE4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B7C40-2388-443D-A726-E10D69BF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72265-0E8B-42C1-9099-F0A0FA20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3F9CC-97B0-4D01-BDEE-1699F38C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B5265-6D61-4A89-86DA-CBECD6C0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F842D-F2CD-45AC-8730-C56526E6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8B5CD-3342-4B43-A873-A7A29BEC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9AE04-44B7-4502-8D55-EDCF08A5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13E3E-DC59-4527-AAAB-C2DD046D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5D1E2-5D5E-4D77-AFDC-290142F7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A0F0-6579-496B-B245-EFF9F4FD2A2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8162-DE51-46D5-B0BA-B6F3CB7D62C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8D2A-DF2C-40FC-B499-43C2D98FAB8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CD2D-0B7B-4046-8193-AC5784E821D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AB69-1249-464E-8C13-4E178B2B19C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7B5E-4944-4F4A-AACD-F38B28C9664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D31E-ED4C-4264-B3A0-6DC49E12429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872D-A79E-47A0-815A-20E102F03CF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D4F4-C68A-4258-BFE9-22B850601F5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42F0-0C80-4795-A42C-2D061A8D4D8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plasmidcloning.html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ort.purdue.edu/hort/courses/HORT250/animations/Gene%20Gun%20Animation/Genegun1.html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hyperlink" Target="http://www.sumanasinc.com/webcontent/animations/content/pcr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Title 1" descr=""/>
          <p:cNvPicPr/>
          <p:nvPr/>
        </p:nvPicPr>
        <p:blipFill>
          <a:blip r:embed="rId1"/>
          <a:stretch/>
        </p:blipFill>
        <p:spPr>
          <a:xfrm>
            <a:off x="237960" y="493560"/>
            <a:ext cx="8631360" cy="17431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73" name="Picture 3" descr="gejoke"/>
          <p:cNvPicPr/>
          <p:nvPr/>
        </p:nvPicPr>
        <p:blipFill>
          <a:blip r:embed="rId2"/>
          <a:stretch/>
        </p:blipFill>
        <p:spPr>
          <a:xfrm>
            <a:off x="1905120" y="2143080"/>
            <a:ext cx="5371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463680" y="133200"/>
            <a:ext cx="7997760" cy="10558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762120" y="556236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tibiotic resistance gene used to identify recombinant cel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Picture 7" descr="f10-10_one_method_for_s_c"/>
          <p:cNvPicPr/>
          <p:nvPr/>
        </p:nvPicPr>
        <p:blipFill>
          <a:blip r:embed="rId2"/>
          <a:stretch/>
        </p:blipFill>
        <p:spPr>
          <a:xfrm>
            <a:off x="1828800" y="1066680"/>
            <a:ext cx="53341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57200" y="1285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umanasinc.com/webcontent/animations/content/plasmidcloning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7" name="Title 1" descr=""/>
          <p:cNvPicPr/>
          <p:nvPr/>
        </p:nvPicPr>
        <p:blipFill>
          <a:blip r:embed="rId2"/>
          <a:stretch/>
        </p:blipFill>
        <p:spPr>
          <a:xfrm>
            <a:off x="244440" y="274680"/>
            <a:ext cx="8442360" cy="11890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"/>
          <p:cNvPicPr/>
          <p:nvPr/>
        </p:nvPicPr>
        <p:blipFill>
          <a:blip r:embed="rId3"/>
          <a:stretch/>
        </p:blipFill>
        <p:spPr>
          <a:xfrm>
            <a:off x="714240" y="2214720"/>
            <a:ext cx="77011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Plasmids will not work as well in eukaryotic organisms like plants and anim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Other methods need to be used to insert the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Viral vectors can be used for animal c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The virus can ‘inject’ their DNA into an animal host ce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9" descr="virus2"/>
          <p:cNvPicPr/>
          <p:nvPr/>
        </p:nvPicPr>
        <p:blipFill>
          <a:blip r:embed="rId2"/>
          <a:stretch/>
        </p:blipFill>
        <p:spPr>
          <a:xfrm rot="285000">
            <a:off x="6441840" y="4362120"/>
            <a:ext cx="244296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50920" y="17114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Gene Gun can be used to insert genes into plant ce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hort.purdue.edu/hort/courses/HORT250/animations/Gene%20Gun%20Animation/Genegun1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Title 2" descr=""/>
          <p:cNvPicPr/>
          <p:nvPr/>
        </p:nvPicPr>
        <p:blipFill>
          <a:blip r:embed="rId2"/>
          <a:stretch/>
        </p:blipFill>
        <p:spPr>
          <a:xfrm>
            <a:off x="2487600" y="274680"/>
            <a:ext cx="8485200" cy="1346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MCj02321110000[1]"/>
          <p:cNvPicPr/>
          <p:nvPr/>
        </p:nvPicPr>
        <p:blipFill>
          <a:blip r:embed="rId3"/>
          <a:stretch/>
        </p:blipFill>
        <p:spPr>
          <a:xfrm>
            <a:off x="108000" y="4653000"/>
            <a:ext cx="2232000" cy="2089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MCj03393020000[1]"/>
          <p:cNvPicPr/>
          <p:nvPr/>
        </p:nvPicPr>
        <p:blipFill>
          <a:blip r:embed="rId4"/>
          <a:stretch/>
        </p:blipFill>
        <p:spPr>
          <a:xfrm>
            <a:off x="7308720" y="4608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24912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3031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abetics having reactions to porcine/animal insul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at crops being attacked by ins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ople sick with cystic fibros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these can be fixed by recombinant DNA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a Flow Chart show the steps involved in making recombinant DNA for a desired gene.  From cutting of the gene to the final product (this may involve the delivery metho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Picture 5" descr="MCj04398510000[1]"/>
          <p:cNvPicPr/>
          <p:nvPr/>
        </p:nvPicPr>
        <p:blipFill>
          <a:blip r:embed="rId2"/>
          <a:stretch/>
        </p:blipFill>
        <p:spPr>
          <a:xfrm>
            <a:off x="7236000" y="189000"/>
            <a:ext cx="192384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-360" y="571680"/>
            <a:ext cx="871524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ucida Sans Unicode"/>
              </a:rPr>
              <a:t>Now we have made the gene – how do we get lots of copies?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Diagram 1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69268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2"/>
          <p:cNvSpPr/>
          <p:nvPr/>
        </p:nvSpPr>
        <p:spPr>
          <a:xfrm>
            <a:off x="857160" y="142920"/>
            <a:ext cx="207180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E.Coli Plasmid is cut with the same restriction enzyme used to cut the insulin ge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429240" y="142920"/>
            <a:ext cx="2143440" cy="5713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Insulin gene is cut from a pancreatic cell DNA using a specific restriction enzy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57120" y="6143760"/>
            <a:ext cx="2857680" cy="7142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insulin - Bacterial cells when supplied with required polypeptides or proteins, the colonies will produce insul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5929200" y="6143760"/>
            <a:ext cx="3000600" cy="7142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E.g Vaccines- The plamids are isolated from the e.coli cells, the genes are then amplifyed via PCR  and used to create inactivated viruses for vacc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ight Arrow 6"/>
          <p:cNvSpPr/>
          <p:nvPr/>
        </p:nvSpPr>
        <p:spPr>
          <a:xfrm>
            <a:off x="3071880" y="42876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eft Arrow 7"/>
          <p:cNvSpPr/>
          <p:nvPr/>
        </p:nvSpPr>
        <p:spPr>
          <a:xfrm>
            <a:off x="5929200" y="500040"/>
            <a:ext cx="357480" cy="1429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Straight Arrow Connector 12"/>
          <p:cNvCxnSpPr/>
          <p:nvPr/>
        </p:nvCxnSpPr>
        <p:spPr>
          <a:xfrm>
            <a:off x="4857480" y="6215040"/>
            <a:ext cx="786600" cy="286560"/>
          </a:xfrm>
          <a:prstGeom prst="straightConnector1">
            <a:avLst/>
          </a:prstGeom>
          <a:ln w="4428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18" name="Straight Arrow Connector 14"/>
          <p:cNvCxnSpPr/>
          <p:nvPr/>
        </p:nvCxnSpPr>
        <p:spPr>
          <a:xfrm flipH="1">
            <a:off x="3428640" y="6215040"/>
            <a:ext cx="1000800" cy="286560"/>
          </a:xfrm>
          <a:prstGeom prst="straightConnector1">
            <a:avLst/>
          </a:prstGeom>
          <a:ln w="50760">
            <a:solidFill>
              <a:srgbClr val="2da2b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Rectangle 2" descr=""/>
          <p:cNvPicPr/>
          <p:nvPr/>
        </p:nvPicPr>
        <p:blipFill>
          <a:blip r:embed="rId1"/>
          <a:stretch/>
        </p:blipFill>
        <p:spPr>
          <a:xfrm>
            <a:off x="463680" y="176040"/>
            <a:ext cx="7997760" cy="10494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523800" y="1576440"/>
            <a:ext cx="41911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complementary strands of DNA can be separated and re-associated by heating and cooling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One strand of DNA specifies the sequence of the other stra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1" name="Picture 6" descr="f10-1a_dna_heating_and__c"/>
          <p:cNvPicPr/>
          <p:nvPr/>
        </p:nvPicPr>
        <p:blipFill>
          <a:blip r:embed="rId2"/>
          <a:stretch/>
        </p:blipFill>
        <p:spPr>
          <a:xfrm>
            <a:off x="5029200" y="2057400"/>
            <a:ext cx="380988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sumanas_pcr.m4v" descr=""/>
          <p:cNvPicPr/>
          <p:nvPr/>
        </p:nvPicPr>
        <p:blipFill>
          <a:blip r:embed="rId1"/>
          <a:stretch/>
        </p:blipFill>
        <p:spPr>
          <a:xfrm>
            <a:off x="2050920" y="1247760"/>
            <a:ext cx="5500800" cy="4125960"/>
          </a:xfrm>
          <a:prstGeom prst="rect">
            <a:avLst/>
          </a:prstGeom>
          <a:ln w="0">
            <a:noFill/>
          </a:ln>
        </p:spPr>
      </p:pic>
      <p:pic>
        <p:nvPicPr>
          <p:cNvPr id="523" name="Title 1" descr=""/>
          <p:cNvPicPr/>
          <p:nvPr/>
        </p:nvPicPr>
        <p:blipFill>
          <a:blip r:embed="rId2"/>
          <a:stretch/>
        </p:blipFill>
        <p:spPr>
          <a:xfrm>
            <a:off x="835200" y="274680"/>
            <a:ext cx="8484840" cy="12430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7"/>
          <p:cNvSpPr/>
          <p:nvPr/>
        </p:nvSpPr>
        <p:spPr>
          <a:xfrm>
            <a:off x="-216000" y="5516640"/>
            <a:ext cx="939636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Used to make more copies of DNA from a tiny DNA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sumanasinc.com/webcontent/animations/content/pcr.html</a:t>
            </a:r>
            <a:r>
              <a:rPr b="0" lang="en-A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Rectangle 2" descr=""/>
          <p:cNvPicPr/>
          <p:nvPr/>
        </p:nvPicPr>
        <p:blipFill>
          <a:blip r:embed="rId1"/>
          <a:stretch/>
        </p:blipFill>
        <p:spPr>
          <a:xfrm>
            <a:off x="384120" y="85680"/>
            <a:ext cx="8266320" cy="16146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37720" y="5866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909"/>
                </a:solidFill>
                <a:latin typeface="Lucida Sans Unicode"/>
              </a:rPr>
              <a:t>Primer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specify what DNA is copi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7" name="Picture 5" descr="f10-6a_diagram_of_the_p_c"/>
          <p:cNvPicPr/>
          <p:nvPr/>
        </p:nvPicPr>
        <p:blipFill>
          <a:blip r:embed="rId2"/>
          <a:srcRect l="0" t="0" r="0" b="45000"/>
          <a:stretch/>
        </p:blipFill>
        <p:spPr>
          <a:xfrm>
            <a:off x="990720" y="1600200"/>
            <a:ext cx="67816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1341360"/>
            <a:ext cx="77580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DNA – Double Helix Struc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spiral strand is composed of a sugar phosphate backbone and attached b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 Bases: Adenine (A), Guanine(G)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ytosine (C), and Thymine (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 Base Pairs; A with T and C with G in the complementary strand vi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drogen bonding (non- covalent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trands can be cut b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triction enzymes, e.g. ECOR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dna.gif"/>
          <p:cNvPicPr/>
          <p:nvPr/>
        </p:nvPicPr>
        <p:blipFill>
          <a:blip r:embed="rId2"/>
          <a:stretch/>
        </p:blipFill>
        <p:spPr>
          <a:xfrm>
            <a:off x="6537240" y="4005360"/>
            <a:ext cx="2787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Rectangle 2" descr=""/>
          <p:cNvPicPr/>
          <p:nvPr/>
        </p:nvPicPr>
        <p:blipFill>
          <a:blip r:embed="rId1"/>
          <a:stretch/>
        </p:blipFill>
        <p:spPr>
          <a:xfrm>
            <a:off x="433440" y="60948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80520" y="41907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pidemiolog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enetic engineer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0" name="Picture 3" descr="f10-6b_diagram_of_the_p_c"/>
          <p:cNvPicPr/>
          <p:nvPr/>
        </p:nvPicPr>
        <p:blipFill>
          <a:blip r:embed="rId2"/>
          <a:stretch/>
        </p:blipFill>
        <p:spPr>
          <a:xfrm>
            <a:off x="228600" y="1752480"/>
            <a:ext cx="861048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663480" y="18446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Production of Insul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king recombinant vaccin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king food crops with immunity to ins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Forensic Crime scene analysis –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DNA profi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4" name="Title 1" descr=""/>
          <p:cNvPicPr/>
          <p:nvPr/>
        </p:nvPicPr>
        <p:blipFill>
          <a:blip r:embed="rId1"/>
          <a:stretch/>
        </p:blipFill>
        <p:spPr>
          <a:xfrm>
            <a:off x="1268280" y="549360"/>
            <a:ext cx="8479080" cy="12430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" descr="MCj02908650000[1]"/>
          <p:cNvPicPr/>
          <p:nvPr/>
        </p:nvPicPr>
        <p:blipFill>
          <a:blip r:embed="rId2"/>
          <a:stretch/>
        </p:blipFill>
        <p:spPr>
          <a:xfrm>
            <a:off x="6227640" y="4273560"/>
            <a:ext cx="2397240" cy="24685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MCj02152430000[1]"/>
          <p:cNvPicPr/>
          <p:nvPr/>
        </p:nvPicPr>
        <p:blipFill>
          <a:blip r:embed="rId3"/>
          <a:stretch/>
        </p:blipFill>
        <p:spPr>
          <a:xfrm rot="1014600">
            <a:off x="217440" y="43920"/>
            <a:ext cx="1185840" cy="2268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6" descr="MCj04417140000[1]"/>
          <p:cNvPicPr/>
          <p:nvPr/>
        </p:nvPicPr>
        <p:blipFill>
          <a:blip r:embed="rId4"/>
          <a:stretch/>
        </p:blipFill>
        <p:spPr>
          <a:xfrm>
            <a:off x="6875640" y="907920"/>
            <a:ext cx="23763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thical issues related to “cloning” of human ge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will genetically engineered organisms affect environmen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read of genes to other organism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 will decid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geneticengtuna"/>
          <p:cNvPicPr/>
          <p:nvPr/>
        </p:nvPicPr>
        <p:blipFill>
          <a:blip r:embed="rId1"/>
          <a:stretch/>
        </p:blipFill>
        <p:spPr>
          <a:xfrm>
            <a:off x="2154240" y="457200"/>
            <a:ext cx="4775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Bacteria are often used in biotechnology as they have plasm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lasmid a circular piece of DNA that exists apart from the chromosome and replicates independently of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Title 5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plasmid.jpg"/>
          <p:cNvPicPr/>
          <p:nvPr/>
        </p:nvPicPr>
        <p:blipFill>
          <a:blip r:embed="rId2"/>
          <a:stretch/>
        </p:blipFill>
        <p:spPr>
          <a:xfrm>
            <a:off x="428760" y="4286160"/>
            <a:ext cx="3714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197000"/>
            <a:ext cx="82296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that has been cut from one strand of DNA and then inserted into the gap of another piece of DNA that has been bro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ost DNA is often a bacterial cell such a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 col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urpose of splicing the gene into the host DNA is to produce many copies of i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bacteria reproduce in a very short time it is possible to make millions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pies of the gene fairly quick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3" name="Title 1" descr=""/>
          <p:cNvPicPr/>
          <p:nvPr/>
        </p:nvPicPr>
        <p:blipFill>
          <a:blip r:embed="rId1"/>
          <a:stretch/>
        </p:blipFill>
        <p:spPr>
          <a:xfrm>
            <a:off x="328680" y="19512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bacteria"/>
          <p:cNvPicPr/>
          <p:nvPr/>
        </p:nvPicPr>
        <p:blipFill>
          <a:blip r:embed="rId2"/>
          <a:stretch/>
        </p:blipFill>
        <p:spPr>
          <a:xfrm>
            <a:off x="6372360" y="4724280"/>
            <a:ext cx="26841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required gene e.g. Insulin, is cut from the DNA using a restriction enzym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 circular piece of DNA, called a plasmid, is removed from the bacterial cell and is cut open using the same restriction enzym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cut out human gene is then mixed with the bacterial plasmids in a test tub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ecause they have been cut with the same enzyme, the cut ends of the plasmid and the end of the human gene match. Often called ‘sticky ends’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enzyme DNA ligase is used to stick the ends together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6" name="Tit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Content Placeholder 3" descr="inserting.gif"/>
          <p:cNvPicPr/>
          <p:nvPr/>
        </p:nvPicPr>
        <p:blipFill>
          <a:blip r:embed="rId1"/>
          <a:stretch/>
        </p:blipFill>
        <p:spPr>
          <a:xfrm>
            <a:off x="1714680" y="714240"/>
            <a:ext cx="535752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511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w the plasmids that contains the introduced gene (recombinant DNA) need to be reintroduced into the bacteria so they can multiply and make more of the gen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an be done by combining them in a test tube with CaCl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. The high concentration of calcium ions makes the membranes of the bacteria more porou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is then allows the plasmids to move into the bacterial cell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t all bacteria will take up a plasmid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nd this is why the monitoring mus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app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Picture 7" descr="MCj04417150000[1]"/>
          <p:cNvPicPr/>
          <p:nvPr/>
        </p:nvPicPr>
        <p:blipFill>
          <a:blip r:embed="rId2"/>
          <a:stretch/>
        </p:blipFill>
        <p:spPr>
          <a:xfrm>
            <a:off x="7236000" y="4718160"/>
            <a:ext cx="22320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itle 4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ecessary to isolate the host bacteria that contain the gene that has been spliced as only want the recombinant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y having a gene on the same plasmid that gives resistance to an antibiotic, the other bacteria can be removed by culturing the bacteria in a medium that contains the antibioti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bacteria containing the resistance to the antibiotic will survive and the others will be killed by the antibiot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7:47:47Z</dcterms:created>
  <dc:creator>Corporate Edition</dc:creator>
  <dc:description/>
  <dc:language>en-US</dc:language>
  <cp:lastModifiedBy>RomaK</cp:lastModifiedBy>
  <dcterms:modified xsi:type="dcterms:W3CDTF">2015-09-04T11:35:12Z</dcterms:modified>
  <cp:revision>37</cp:revision>
  <dc:subject/>
  <dc:title>RECOMBINANT DNA AND POLYMERASE CHAIN REACTIONS</dc:title>
</cp:coreProperties>
</file>