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F7AE-7E76-4BFF-B39D-08FAB8DA0D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1C6-AB35-45B0-99AA-B875CB14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DF07-891B-4CDF-A905-88A66902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F57-CFC6-41A6-B7AC-7C2C1A52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61B-AAB8-481B-8D47-A8A13C95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B8F-412A-4B65-8AB7-37201806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86E-6F0C-46B0-AEDC-DAFEC456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2A5-6F37-49BC-8A71-B8D92F1F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679-B5AE-4E1F-ACC1-D077289F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CA2C-C247-4CFA-9AF7-C4E77552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518-4114-4862-A869-B0077FFB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BD1-ED40-45C0-A75C-5213561D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8D8-2BA9-4BE9-951D-3E10C9B3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FF6C-3E55-455F-A805-FB3E4BFDA3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5ffff"/>
                </a:solidFill>
                <a:latin typeface="Tahoma"/>
              </a:rPr>
              <a:t>Reverse Transcription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ccccff"/>
            </a:gs>
            <a:gs pos="100000">
              <a:srgbClr val="e5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2"/>
          <p:cNvPicPr/>
          <p:nvPr/>
        </p:nvPicPr>
        <p:blipFill>
          <a:blip r:embed="rId1"/>
          <a:stretch/>
        </p:blipFill>
        <p:spPr>
          <a:xfrm>
            <a:off x="228600" y="228600"/>
            <a:ext cx="5324400" cy="5943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638680" y="4572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4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First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DNA hybridizes with the remaining R sequence at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562720" y="2286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5. A DNA strand is extended from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562720" y="411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6. Most viral RNA is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e5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3"/>
          <p:cNvPicPr/>
          <p:nvPr/>
        </p:nvPicPr>
        <p:blipFill>
          <a:blip r:embed="rId1"/>
          <a:stretch/>
        </p:blipFill>
        <p:spPr>
          <a:xfrm>
            <a:off x="380880" y="304920"/>
            <a:ext cx="4876920" cy="6172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410080" y="457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7. A second DNA strand is extended from the viral RNA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410080" y="19051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8. Both tRNA and the remaining viral RNA are removed by RNase H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410080" y="3352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9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Second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The PBS region of the second strand hybridizes with the PBS region of the first stra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410080" y="5029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0. Extension on both DNA strands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has a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high err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ate when transcribing RNA into DNA  as unlike DNA Polymerase, since it ha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no proof reading 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high error rate allow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uta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accumul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mercially available RT produced by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ff"/>
                </a:solidFill>
                <a:latin typeface="Tahoma"/>
              </a:rPr>
              <a:t>Promeg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quoted high error rates in range of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17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p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30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ses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-ML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DNA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erse Transcriptase can use single stranded RNA into DS DNA – cD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NA library: A set of clones representing as many as possible of the mRNAs in a given cell type at given tim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preparation cDNA library, mRNA is extracted, purified, and treated with the enzyme reverse transcriptas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mentary DNA (cDNA) analogs of the isolated mRNA are thereby obtai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ce mature mRNA contains no introns or regulatory regions, a cDNA library composed of coding reg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entral Dogm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248520" cy="453888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al transcription involves synthesis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from DN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ion is the transcription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single stranded RNA into double stranded D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the help of the enzym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se Transcripta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also known as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directed DNA Polyme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Nucleotidyl transf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RNA direct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t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was discovered by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oward Tem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Baltimo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70 independent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hare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Nobel Priz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Physiology or Medicine in 1975 for their discove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common in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M-ML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Moloney Murine Leukemia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Avian Myeloblastosis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enzyme includes two activity: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polym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se 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 Replication Cycl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5" descr="HIV5"/>
          <p:cNvPicPr/>
          <p:nvPr/>
        </p:nvPicPr>
        <p:blipFill>
          <a:blip r:embed="rId1"/>
          <a:stretch/>
        </p:blipFill>
        <p:spPr>
          <a:xfrm>
            <a:off x="1676520" y="220968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7162920" y="3276720"/>
            <a:ext cx="1447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s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38880" y="4267080"/>
            <a:ext cx="1447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r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04920" y="4114800"/>
            <a:ext cx="1447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st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3962520" y="6019920"/>
            <a:ext cx="0" cy="38088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3962520" y="16002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8915400" y="1600200"/>
            <a:ext cx="0" cy="48006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685800" y="6248520"/>
            <a:ext cx="320040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ckaging into virus ; budd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tiviral dru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do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mi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fov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retrovirus has three or four ge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g-pol- en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rovirus are called + strand because viral RNA itself code for protein produ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enzyme code for proteins are called – str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 : Redundant or repeating seq – 10-8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5:  80 – 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3: 170-13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DNA polymerase, Reverse transcriptase requires prim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NA of the host is Pri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219320"/>
            <a:ext cx="5267160" cy="5333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609480" y="380880"/>
            <a:ext cx="7696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5813"/>
                </a:solidFill>
                <a:latin typeface="Tahoma"/>
              </a:rPr>
              <a:t>MECHANSIM OF RETROVIRUS RE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410080" y="13716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. A Retrovirus specific cellular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tR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hybridizes with a complementary region called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PBS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Primer Binding Sit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5334120" y="2666880"/>
            <a:ext cx="350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2.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everse Transcriptas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RT) starts at this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binding sit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and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copies RNA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into a single strand of complementary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D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. A DNA segment is extended from tRNA based on the sequence of the retroviral genomic R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410080" y="51814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3. The viral R and U5 sequences are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.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380880" y="58672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TR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 –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Long Terminal Repe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ef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5’ untranslated region (U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Righ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3’ untranslated region (U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22:55:33Z</dcterms:created>
  <dc:creator>Paul Rindler</dc:creator>
  <dc:description/>
  <dc:language>en-US</dc:language>
  <cp:lastModifiedBy>LEGION2</cp:lastModifiedBy>
  <dcterms:modified xsi:type="dcterms:W3CDTF">2016-01-12T12:22:08Z</dcterms:modified>
  <cp:revision>34</cp:revision>
  <dc:subject/>
  <dc:title>Molecular Genetics</dc:title>
</cp:coreProperties>
</file>