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DD3F-2441-4847-BA4A-BCA436B1B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26E-62E0-47A4-AAEC-ACE619EE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FB9-9B61-4D3A-B6A7-43D8FC25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A93AE-88DD-4B3B-9F57-236634D7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29B71-C16B-4132-8E2C-07D47D04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29A91-9E86-416A-8716-7F4DA28E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196F-0F2D-4E6C-81C9-E77FB09E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C83BD-CC62-4A63-A716-0D522AC6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A845A-9DD5-4F4C-B83C-28266762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AFD93-1956-49C4-8163-EA36506F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6B27A-C74C-4CC8-A34A-FC4FD488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8AAE8-46B3-4DBD-9C68-9E7190B6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381E9-4D28-4EA3-8B4D-5145C88F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511-F3B6-4DFC-93FE-394BD218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1B0EB-00A2-4F95-B55C-81FB92D1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B4DB3-4202-4F01-B729-BF609D43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FB062-DA8F-408E-89C0-BC03D36E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B0604-9B29-47C4-A829-F8ECFEF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B1EB7-E438-4959-A66F-DB61AE56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A6C48-E604-4353-8EED-A0EDEB3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0527F-B6DA-4478-97AA-2505F724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4498B-D121-4762-ABC3-A937CD4D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0C6FE-6C1F-4675-9EF0-244DC787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AB2C4-1389-4261-AA79-7B771D2A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9BA-5EA7-4E92-BCAA-DC0F7FB3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9FEA4-0469-478B-BE5F-A38B7E48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444BD-CC5B-4047-BE18-91E7F8A3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75EFE-B247-453F-921A-6FDFFCE4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D14A9-3CF6-4ED5-8462-B2AD8D25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E8EC0-C7BC-46C7-B4AD-823FF606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5E4BB-0F0A-438A-801A-06117396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8FDC5-D1EF-4AAF-B060-8AC9FAB0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D46CD-4460-47D8-8BD1-EAB84C4A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A6F93-FFFC-4530-B141-10D4C605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B7975-CA45-4243-9C46-312D02FE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4AC7-22CC-44F3-9BB9-D65003BF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A25D5-20EE-40E5-88CB-E4C4D0E5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61FCA-4E86-49D9-B420-D799B540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1B3A1-219C-4E00-9EEE-BF43CCBD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31E06-1D0A-4CCE-9F4B-646115D9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65E58-DA77-4819-A53B-8DD01AEE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C356B-E6A6-4D27-A5B1-4141B14A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84C82-5FEA-40FC-8C83-3E176694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39A0E-482C-420B-A943-499223D1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431D8-DF88-4E5B-8FD8-24D56D4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197EF-A329-4924-BAC5-A0DA1B14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2775-2115-4EC9-82B8-4C42CF66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E427C-79F9-46CC-84A0-FF00774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3964E-0F8D-4658-8432-D41F17A6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03C2C-246C-4D86-8D09-2F2BE24B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67636-2F95-41F1-8C7F-B3031AB4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A78D4-D058-4FFC-BAA2-BC495AF9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935D5-0C7D-4C59-AB45-40F910C5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A378A-11E6-4BB9-A239-BCDAAE95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54CF7-FB53-4DCF-B509-4234C79E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EFCA2-D59D-47CD-821C-609EA477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87296-D991-492C-8041-F58C9DA3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9128-F988-4F89-9D61-1B89EAAB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C99A5-68D4-49AA-8ACB-65129007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55D99-D1F4-422A-A8A2-2D5BE708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D9D3C-7EAF-42C6-8B86-A93DDDD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2D228-9536-4BE0-A3BC-8C0446CC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C7AF3-A690-43AA-969D-FD7C18DD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AF3C8-8646-431A-A149-BA2CA67A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256C5-6286-4C7D-942D-023D448C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F7411-3430-45F2-8C4E-83EDF669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48D26-13FB-4B88-A601-AD465867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35952-D96F-40B2-82BD-3E33D696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32EC-DBB3-469A-AFC8-C7A66803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21D0B-8916-4C20-9926-00993B8A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F4047-F22C-4A88-8F76-3148E274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6016C-6966-4D20-ADB7-5E627D72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BDCD6-33BB-4A32-B6E0-2F93DDF5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C1446-8880-4118-8B04-4625518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76A17-C29A-4CDE-98AA-E6A2A0D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2D7E2-0252-4ED9-9AB9-DE1ED34B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9A241-85AE-446E-B071-5F5B1AB0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AEEE1-BD07-4596-AF4E-17A14336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70E66-B07C-4CEC-B6D5-15923B93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3B8B-4435-4DD0-8603-5489F657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9F647-2CFF-47F3-B6FA-66B0AA32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4F8B8B-5332-4F44-A550-5E7DE529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D7D9D-1F16-4B50-9563-CFE14206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6990D-8917-4080-8C1C-07DEAFFE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AC2DE-8E7B-4238-9847-54541121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E41AC-130B-435C-B5D2-9688B170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C1D99-B255-4814-BF96-75FE8032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23673-3BE0-4516-987D-8870977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EF7B5-0B0F-4319-A98E-E3B61E42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F1BF4-F492-4D40-B2BF-43934DE7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2D6C-9D63-4A43-83E0-261B5087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4E23E-912D-45B4-9FF2-966E9E74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2C49CD-626A-4DD1-8CA3-3FFDC790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B5007-117E-4A03-9C95-095C4332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9B122-C5AD-4611-9D11-01A58B0E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234D6-CDA9-4B38-8C3E-E7D95DA6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3CAD9-1469-4498-9A0E-B9E4BDC6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42332-9674-4B87-8B49-92EE4B93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B3734-E0EC-4375-B360-5C9BE55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AC94E-6B82-4C8C-BC8F-8DF825B1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A935D9-1D3B-4B23-BB68-8EE56F38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6CCC-BD8F-4CEF-937B-BDF5D276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2E72B3-DC20-4D7C-819F-EA3A388C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8C716-1206-43A2-995C-EA084DD0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44130-C39E-4494-98A5-D88534B6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6A81F-903C-45D6-936A-A49670EE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ED0EE-D27C-4E8A-8D0F-D6FACC2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271F2-6293-4B95-B5DD-2CD28185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8EA08-8283-48E3-A981-278B60ED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93772-BF39-4B40-8CF8-B2D33D6E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7C932-B2BE-43AA-85B7-491A092C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C4FD5C-1A12-4111-B44C-5FA3B0E3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D13-C93F-445B-ACE2-CBB4DA00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3E20-3974-4145-AC17-D499D723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99C17-77AE-4241-A0C9-8D1261CE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A69A8-963B-41B0-85EA-631F8E2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867D7-5A06-460B-90D1-091BC735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939D5-C073-4D97-8FAC-C2A93272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F3EB5-7900-45FE-83E0-752E4B7B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2B965-14D3-4802-8C35-FEA161D0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24639-D959-4BB2-99D6-003A65CC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5C1F6-8E0A-41CD-B0D9-B511EE4A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5D009-17B8-4285-BB77-DC883869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DD2AE6-F40B-4D03-8B84-5F9EEDE3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9A7D-EC13-4E20-97AB-208970B1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DF0F8-D729-4743-A809-EC42BEF6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941D8-7F18-4E89-B57F-7A49F257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F8416-A365-48C7-9DFB-B4A1D725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182F9-D294-4D3D-AA82-24EAAEEF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193E9-C5CE-4816-B042-56549160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782ED-9052-4ABD-8561-816A24AC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64900E-4B57-465B-942F-1FED94F0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0E9745-E1D4-4DDF-82BB-14BFA5DC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3F27C-A8CB-4DA9-B181-B84A20BF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B8A19-A3AF-4D56-B925-1B002446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32A5-2625-44E8-8B88-0D3206B5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AD82A0-F86F-465A-B65A-BE9B0F1A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7790F-88B3-474A-8A78-0160707D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265C1-7AC7-4B09-9E66-E033DB04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D072B4-95A3-462B-BE9C-FEF2C73F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549D3-6F5A-4A49-A50E-D841864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DAF20-70B4-44AA-B9AE-69FE19A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C14F58-5B3B-435C-B327-C7E8DDA8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9C0BD-DF6E-4CD0-8D6A-7A6C83E8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1BE9C-40B0-4BD2-96DF-E6F7BF93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75956-85C6-4454-A507-2F7F2864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7691-2687-4B79-9C2D-1C33DAF1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92392-B6E6-4D8A-8AD6-559559D5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5AF94D-ABFE-4A43-B57D-7904D4DB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144B7-CC33-4303-A893-AE66AC65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CE11AA-5940-4E64-AC9E-7B55F122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31C45-AAFB-4800-8DBE-09E52A56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52F63E-CAF1-4579-8010-96FE0D7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E84AC-0FFD-4132-964B-42CC712F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40F2A-4367-4086-95DB-1815B5C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B35A57-3F07-444B-AD61-F816C047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AA6A5F-1A54-45FF-AD84-363E052C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841C-5551-4A38-A24D-DCEF6C0E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66920-6FD6-4EC8-9975-150D8260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48305-0514-47BD-AFB5-368FF1E7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AB062-869F-4F16-8446-A1BA5138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608835-33E2-4823-964D-9B236472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0827E2-987B-459F-95A9-28846F37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C2FF7B-586B-4635-A4EC-17201701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F318F-E422-4F08-B2B5-B2CA7CEB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47FCE5-6371-44F9-B8CD-774735CE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DB523-D665-45E5-9877-C2FD3F9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4E022-F5BB-4745-AAB3-F8041657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876C-D3C7-414C-9B79-3737D1B7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AAC5C-72D2-4850-9664-43F98CF2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43B8F-70D3-40EE-A235-0DC5A0E5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9A125-8E3C-4A54-B69E-B4BE742F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8F214C-B9D9-4712-B0DF-2A63A405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E22D46-3EAB-46BD-BBD9-0519AB60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D57E19-0C11-4524-8505-C61F2450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BA46D8-C803-42F0-9CC5-2341593F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7BA56B-ED50-4E7E-BC7E-7975240A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2C3DE-16C3-40B9-B961-58ED1A42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1B5349-04B7-4901-A478-8446D416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B68D-8F2E-4B3C-A537-98F894A1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5400D5-A4B9-4C8A-B6B9-5C7B4E1D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F0BA78-E156-489A-84D9-205944D0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9E31D6-9578-47CA-B304-C197635C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86F5C-9DAD-4157-B047-2797FD41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44E28F-2FBF-4572-B1A8-0A249914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5B9A03-60FD-4CE6-BC3C-7517F98D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1966FA-6341-4932-91E4-BB75C425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F6A666-35EB-4924-A2AF-1C1017ED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89E104-BC8E-48E4-96F0-08A45785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A73DB1-9EA7-4EB2-BE91-65E1F77D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A0EC-F0EA-4D95-AF24-4888055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B0B82A-9BE4-4144-BBD0-C3E3FE9F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BAE706-2935-4AD0-A05E-6FC99C5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C18E6F-2168-4C31-A98F-B5D8B37D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9E27CC-3F08-4D3F-B51D-20B5F27B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32AAE3-AF46-450C-B54E-FCEB93E7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D09F95-F072-43B9-9B44-A484C5BE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7053C2-A7E4-40CD-805B-ABE89E27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74CF18-ABD7-487E-A278-CAAF06CA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D1D08E-847C-42AB-B640-EF705120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699F74-13C5-4754-861F-4BB73A3A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9C1B-6AFD-42A2-9DBB-29E69F78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4A1504-D611-480D-9A5E-BE0BB10A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40060F-34E3-4596-AA5D-08F2C091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DB2013-90D5-43F7-8CD4-347B22AD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8F7BE3-758E-47C5-AD7D-9B7F8A92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394068-9586-43A6-98A8-D1D9C344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4C02E8-6F47-4015-A11E-9831B420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8AAF64-B1AB-4C15-A994-22681126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E1E04F-46E1-472E-ABC6-BE63F059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F6E997-4096-499A-B070-5ABB287A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2037-64BE-4119-B468-A6B627F3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58D-48BF-447C-80B7-7D906F00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ECA15-B461-409D-B640-D713A738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71E3F-3855-4F5B-ACC2-9C8D91DA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D52E-88DB-49EC-B7AE-A14C0B7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1FD3-0776-4FE1-ADB2-41009E3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665B0-DFE6-47B0-89C1-C7307D19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F09E-735A-4A65-B7B6-C03679B1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C907-D89A-4EFA-B557-BF93EF07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704F1-E7FD-4CBA-86C1-7CB6F856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262FF-B030-4A8B-838C-91FA7E9A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74E94-2E8D-4F15-93D3-C6451504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E2E-E3C5-4AD9-9C9D-DBFB6DCC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65B1-5CAD-4566-BD77-46B11F5D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9EF4-BE8C-41BE-8596-06935315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B265-4FD6-4015-96FD-D033898E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BBEE-3329-498F-B312-853502CB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4C0BA-6D69-41B9-93FB-F8BA419A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20C67-DCA5-4A38-ABB2-79A4ECDC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D35AB-36DC-4C9C-A61A-891845BD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F93C-DAA3-4CD4-92E8-90888DD2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77094-ACEE-4FD3-9916-D5BFFADE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94A02-A2E0-47A9-A7C3-B3C29C0A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BFD-1483-4661-A6BE-DD6084A7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51F7D-2261-4A1B-8A74-C089D3C3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38715-BBDA-4E4F-AFFF-B5C27797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CAC0E-D637-4B73-B5D8-4F539DB4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1B880-7EB6-45D9-ACE2-3DE2C0E5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FC3E4-2F4B-45D1-9C89-A521EC5A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EE1B2-A9B5-4A13-96F2-7DAB4BD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F9EB3-D4EF-40CD-98E4-B614E83B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5226-F189-45AC-923A-189D805D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C3852-B10E-4C2A-BE45-1047723F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72D70-F77B-4099-91E0-CC82AA54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F2D-9481-4B62-A53B-F3BF9D38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39317-A297-4B58-9FAB-159481A0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E44B-366A-4321-B01D-7E39EF80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0EB3A-F0D2-4CE9-94D5-A12B9B78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B0C45-9E26-42CE-8EB5-2210F3C3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66E34-9FBA-495C-89A5-955368D4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A9218-A77B-4323-9E8C-A3F7D3C9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F80BA-BD0E-4E05-ACB0-562EC336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DAE99-9672-4F33-9D2B-B5CDD6FD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5EB83-ABF0-4A3F-B57D-DCD576C7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055BE-39AE-4AC1-922E-74A6F69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3C2-5147-4314-B75D-2B105AB3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3387-6CC5-4176-93CA-410E6A23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4139E-E34B-4820-AC3B-BD52CDCB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A5EE2-FA07-415E-868E-8D45925B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4B7C5-EE39-4B60-94D4-5B399A89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CF2B7-3905-4E67-B2BE-7D3EC8BC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95657-6849-4D2F-8460-1FFD304E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33A3F-0FAB-4152-AC2B-74A356FE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9CB13-B9BB-4F7A-BEBF-47DE26F1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84457-566E-4C24-84E1-1B07974C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098A-ED08-4375-ADE7-4F1A8EF6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D64-9E15-419E-885A-56804C12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A0A8A-4FC1-4E4F-876D-E722099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2FA9-76B6-49A8-BEC4-9677D1F4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EAFAB-B501-4CCD-BC68-017F384E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C8026-57DF-431B-B02E-EFCE404E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A7EC1-EECD-45BE-9EE0-A116CAFB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300F6-EFE8-4FD6-B6D2-22D0EC11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7ECFA-131D-46E9-AE0A-5E5CB396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2EB58-C569-4776-A583-7DC82028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B2200-7C9A-4D3E-90C8-12835F21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B3F40-426D-471E-BF87-156FA3BA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FA9-AB4B-4069-9137-185494A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F0E96-C2F5-4D77-AE0A-149D04F0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7EF33-426F-4501-86E1-33A7B37A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F3B35-85D4-4AAB-AAC7-49F281DA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B5C3E-2FD6-4452-AB73-0BCEB82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C15FF-79D4-41FC-A04B-68F1BD80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0C7B5-8123-4625-AADD-5E1ED0AC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9DAC0-0BFD-43D7-BE9C-E9B38606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4F1DD-EEA3-4B86-89C3-8D7AAB21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A5942-89A2-4815-B97C-C677A28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937E7-202B-48C8-9799-6362F100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D76A-CC60-41D5-BA4C-352ABB42A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0DD6-85F2-4E9F-A926-878C061CE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5346-0575-4170-8AF2-40BCD90A2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82844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9EF6-C019-43A2-958D-C8D66A640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B72E-38D2-4E8E-9294-AC1024CD4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30BB-892B-465D-898F-3A9CD2197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FB85-C34E-4430-B841-9B13F29DE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54B1-B99F-4527-A1D4-7652A13E2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C410-D46D-401C-8FBD-E9B876024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3046-8FC8-4D3B-8008-B75669CAC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2071-B7EF-4151-9BCB-3596C513E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F752-C1D6-4184-B4F5-1A63BFB92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050F-AB0E-4980-A87F-C80F0A534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DE67-B3A1-43B2-9911-B3FFBDC13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53E5-975C-4A07-93AC-D656055387C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ED2-2EDE-4AF8-B476-B6C40493E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E1F5-EECE-4C4F-897E-C1DECEAB639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89ED-EB6B-4C57-BC1A-665FC5D6C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9687-F8BB-41C8-BED5-3F33FF4DE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2C0C-8599-4CCF-B268-CB8DFCCBE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A609-3EA4-479E-AA08-F1B8541C6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CB52-12EA-43DF-8976-3E08B4618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B62D-86B1-41B5-9C27-8CF532BD2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3C04-135B-43D7-926D-461893C27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WordArt 4"/>
          <p:cNvSpPr txBox="1"/>
          <p:nvPr/>
        </p:nvSpPr>
        <p:spPr>
          <a:xfrm>
            <a:off x="2286000" y="76212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dventures in Biolog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914400" y="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different forms of Reproduc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costs/benefits of each for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This week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we’ll discuss 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sexu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differentiation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- how sexually reproducing organisms develo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nto separate sexes.  Specifically, as it applies to us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4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XX genotype"/>
          <p:cNvPicPr/>
          <p:nvPr/>
        </p:nvPicPr>
        <p:blipFill>
          <a:blip r:embed="rId1"/>
          <a:stretch/>
        </p:blipFill>
        <p:spPr>
          <a:xfrm>
            <a:off x="990720" y="0"/>
            <a:ext cx="1430280" cy="2590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Female Reproductive System 3"/>
          <p:cNvPicPr/>
          <p:nvPr/>
        </p:nvPicPr>
        <p:blipFill>
          <a:blip r:embed="rId2"/>
          <a:stretch/>
        </p:blipFill>
        <p:spPr>
          <a:xfrm>
            <a:off x="4191120" y="457200"/>
            <a:ext cx="2971800" cy="1806480"/>
          </a:xfrm>
          <a:prstGeom prst="rect">
            <a:avLst/>
          </a:prstGeom>
          <a:ln w="0">
            <a:noFill/>
          </a:ln>
        </p:spPr>
      </p:pic>
      <p:sp>
        <p:nvSpPr>
          <p:cNvPr id="1050" name="Line 4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2670120" y="60948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271400" y="2286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7"/>
          <p:cNvSpPr/>
          <p:nvPr/>
        </p:nvSpPr>
        <p:spPr>
          <a:xfrm>
            <a:off x="73152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716580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9" descr="Estradiol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207504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10"/>
          <p:cNvSpPr/>
          <p:nvPr/>
        </p:nvSpPr>
        <p:spPr>
          <a:xfrm>
            <a:off x="1663560" y="53704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041720" y="4038480"/>
            <a:ext cx="148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3" descr="Female body"/>
          <p:cNvPicPr/>
          <p:nvPr/>
        </p:nvPicPr>
        <p:blipFill>
          <a:blip r:embed="rId4"/>
          <a:stretch/>
        </p:blipFill>
        <p:spPr>
          <a:xfrm>
            <a:off x="6095880" y="2971800"/>
            <a:ext cx="1300320" cy="3638520"/>
          </a:xfrm>
          <a:prstGeom prst="rect">
            <a:avLst/>
          </a:prstGeom>
          <a:ln w="0">
            <a:noFill/>
          </a:ln>
        </p:spPr>
      </p:pic>
      <p:sp>
        <p:nvSpPr>
          <p:cNvPr id="10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…How Do We Get From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96" name="Picture 4" descr="blastuala"/>
          <p:cNvPicPr/>
          <p:nvPr/>
        </p:nvPicPr>
        <p:blipFill>
          <a:blip r:embed="rId1"/>
          <a:stretch/>
        </p:blipFill>
        <p:spPr>
          <a:xfrm>
            <a:off x="914400" y="31240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997" name="Line 5"/>
          <p:cNvSpPr/>
          <p:nvPr/>
        </p:nvSpPr>
        <p:spPr>
          <a:xfrm flipV="1">
            <a:off x="2819520" y="243828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2819520" y="380988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8" descr="Female Reproductive System 2"/>
          <p:cNvPicPr/>
          <p:nvPr/>
        </p:nvPicPr>
        <p:blipFill>
          <a:blip r:embed="rId2"/>
          <a:stretch/>
        </p:blipFill>
        <p:spPr>
          <a:xfrm>
            <a:off x="4419720" y="838080"/>
            <a:ext cx="1166760" cy="2819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Male Reproductive System"/>
          <p:cNvPicPr/>
          <p:nvPr/>
        </p:nvPicPr>
        <p:blipFill>
          <a:blip r:embed="rId3"/>
          <a:stretch/>
        </p:blipFill>
        <p:spPr>
          <a:xfrm>
            <a:off x="4419720" y="3429000"/>
            <a:ext cx="1225440" cy="30481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0"/>
          <p:cNvSpPr/>
          <p:nvPr/>
        </p:nvSpPr>
        <p:spPr>
          <a:xfrm>
            <a:off x="901440" y="25034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 rot="19003200">
            <a:off x="2974320" y="2742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 rot="1708200">
            <a:off x="2896920" y="4266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262320" y="3618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5563800" y="3083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8480" y="460836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338800" y="26668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7"/>
          <p:cNvSpPr/>
          <p:nvPr/>
        </p:nvSpPr>
        <p:spPr>
          <a:xfrm>
            <a:off x="5415120" y="52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5" descr="Y chromosome"/>
          <p:cNvPicPr/>
          <p:nvPr/>
        </p:nvPicPr>
        <p:blipFill>
          <a:blip r:embed="rId1"/>
          <a:stretch/>
        </p:blipFill>
        <p:spPr>
          <a:xfrm>
            <a:off x="2971800" y="4191120"/>
            <a:ext cx="1593720" cy="2209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" descr="Bathrooms"/>
          <p:cNvPicPr/>
          <p:nvPr/>
        </p:nvPicPr>
        <p:blipFill>
          <a:blip r:embed="rId2"/>
          <a:stretch/>
        </p:blipFill>
        <p:spPr>
          <a:xfrm>
            <a:off x="4876920" y="1752480"/>
            <a:ext cx="3047760" cy="1898640"/>
          </a:xfrm>
          <a:prstGeom prst="rect">
            <a:avLst/>
          </a:prstGeom>
          <a:ln w="0">
            <a:noFill/>
          </a:ln>
        </p:spPr>
      </p:pic>
      <p:sp>
        <p:nvSpPr>
          <p:cNvPr id="10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 chromosome contains a gene known a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on o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)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066680" y="571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ut what about the        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11" descr="chromosome"/>
          <p:cNvPicPr/>
          <p:nvPr/>
        </p:nvPicPr>
        <p:blipFill>
          <a:blip r:embed="rId1"/>
          <a:stretch/>
        </p:blipFill>
        <p:spPr>
          <a:xfrm>
            <a:off x="4267080" y="5105520"/>
            <a:ext cx="974880" cy="1752480"/>
          </a:xfrm>
          <a:prstGeom prst="rect">
            <a:avLst/>
          </a:prstGeom>
          <a:ln w="0">
            <a:noFill/>
          </a:ln>
        </p:spPr>
      </p:pic>
      <p:sp>
        <p:nvSpPr>
          <p:cNvPr id="10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6340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fetal sex organ development 2"/>
          <p:cNvPicPr/>
          <p:nvPr/>
        </p:nvPicPr>
        <p:blipFill>
          <a:blip r:embed="rId1"/>
          <a:stretch/>
        </p:blipFill>
        <p:spPr>
          <a:xfrm>
            <a:off x="1219320" y="0"/>
            <a:ext cx="65466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24" name="Picture 4" descr="fetal sex organ development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0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BUT…how does this happen??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0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stes form they re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stosterone &amp; MI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eri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ibi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male reproductive syste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ducts of the female system to de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Male Body"/>
          <p:cNvPicPr/>
          <p:nvPr/>
        </p:nvPicPr>
        <p:blipFill>
          <a:blip r:embed="rId1"/>
          <a:stretch/>
        </p:blipFill>
        <p:spPr>
          <a:xfrm>
            <a:off x="6095880" y="3505320"/>
            <a:ext cx="1347840" cy="2971800"/>
          </a:xfrm>
          <a:prstGeom prst="rect">
            <a:avLst/>
          </a:prstGeom>
          <a:ln w="0">
            <a:noFill/>
          </a:ln>
        </p:spPr>
      </p:pic>
      <p:sp>
        <p:nvSpPr>
          <p:cNvPr id="1030" name="Line 3"/>
          <p:cNvSpPr/>
          <p:nvPr/>
        </p:nvSpPr>
        <p:spPr>
          <a:xfrm>
            <a:off x="43434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990720" y="3657600"/>
            <a:ext cx="2743200" cy="2471400"/>
            <a:chOff x="990720" y="3657600"/>
            <a:chExt cx="2743200" cy="2471400"/>
          </a:xfrm>
        </p:grpSpPr>
        <p:pic>
          <p:nvPicPr>
            <p:cNvPr id="1032" name="Picture 5" descr="testosterone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27432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 Box 6"/>
            <p:cNvSpPr/>
            <p:nvPr/>
          </p:nvSpPr>
          <p:spPr>
            <a:xfrm>
              <a:off x="1831320" y="54864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oster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M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7"/>
          <p:cNvGrpSpPr/>
          <p:nvPr/>
        </p:nvGrpSpPr>
        <p:grpSpPr>
          <a:xfrm>
            <a:off x="3278880" y="1523880"/>
            <a:ext cx="1386360" cy="642600"/>
            <a:chOff x="3278880" y="1523880"/>
            <a:chExt cx="1386360" cy="642600"/>
          </a:xfrm>
        </p:grpSpPr>
        <p:sp>
          <p:nvSpPr>
            <p:cNvPr id="1035" name="Line 8"/>
            <p:cNvSpPr/>
            <p:nvPr/>
          </p:nvSpPr>
          <p:spPr>
            <a:xfrm>
              <a:off x="335304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3278880" y="15238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s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a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0"/>
          <p:cNvGrpSpPr/>
          <p:nvPr/>
        </p:nvGrpSpPr>
        <p:grpSpPr>
          <a:xfrm>
            <a:off x="6477120" y="1523880"/>
            <a:ext cx="1295280" cy="368280"/>
            <a:chOff x="6477120" y="1523880"/>
            <a:chExt cx="1295280" cy="368280"/>
          </a:xfrm>
        </p:grpSpPr>
        <p:sp>
          <p:nvSpPr>
            <p:cNvPr id="1038" name="Line 11"/>
            <p:cNvSpPr/>
            <p:nvPr/>
          </p:nvSpPr>
          <p:spPr>
            <a:xfrm>
              <a:off x="647712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6480000" y="15238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3"/>
          <p:cNvSpPr/>
          <p:nvPr/>
        </p:nvSpPr>
        <p:spPr>
          <a:xfrm>
            <a:off x="4136040" y="4572000"/>
            <a:ext cx="17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4"/>
          <p:cNvGrpSpPr/>
          <p:nvPr/>
        </p:nvGrpSpPr>
        <p:grpSpPr>
          <a:xfrm>
            <a:off x="4800600" y="533520"/>
            <a:ext cx="1639800" cy="2501640"/>
            <a:chOff x="4800600" y="533520"/>
            <a:chExt cx="1639800" cy="2501640"/>
          </a:xfrm>
        </p:grpSpPr>
        <p:pic>
          <p:nvPicPr>
            <p:cNvPr id="1042" name="Picture 15" descr="testes"/>
            <p:cNvPicPr/>
            <p:nvPr/>
          </p:nvPicPr>
          <p:blipFill>
            <a:blip r:embed="rId3"/>
            <a:stretch/>
          </p:blipFill>
          <p:spPr>
            <a:xfrm>
              <a:off x="4800600" y="533520"/>
              <a:ext cx="1639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6"/>
            <p:cNvSpPr/>
            <p:nvPr/>
          </p:nvSpPr>
          <p:spPr>
            <a:xfrm>
              <a:off x="5183280" y="26668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7"/>
          <p:cNvGrpSpPr/>
          <p:nvPr/>
        </p:nvGrpSpPr>
        <p:grpSpPr>
          <a:xfrm>
            <a:off x="914400" y="609480"/>
            <a:ext cx="2438280" cy="3019320"/>
            <a:chOff x="914400" y="609480"/>
            <a:chExt cx="2438280" cy="3019320"/>
          </a:xfrm>
        </p:grpSpPr>
        <p:pic>
          <p:nvPicPr>
            <p:cNvPr id="1045" name="Picture 18" descr="SRY gene 2"/>
            <p:cNvPicPr/>
            <p:nvPr/>
          </p:nvPicPr>
          <p:blipFill>
            <a:blip r:embed="rId4"/>
            <a:stretch/>
          </p:blipFill>
          <p:spPr>
            <a:xfrm>
              <a:off x="914400" y="609480"/>
              <a:ext cx="243828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9"/>
            <p:cNvSpPr/>
            <p:nvPr/>
          </p:nvSpPr>
          <p:spPr>
            <a:xfrm>
              <a:off x="1145520" y="3048120"/>
              <a:ext cx="178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Y gene on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Chromos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32:50Z</dcterms:created>
  <dc:creator>John Bojnowski</dc:creator>
  <dc:description/>
  <dc:language>en-US</dc:language>
  <cp:lastModifiedBy>LEGION2</cp:lastModifiedBy>
  <dcterms:modified xsi:type="dcterms:W3CDTF">2016-01-12T12:30:56Z</dcterms:modified>
  <cp:revision>8</cp:revision>
  <dc:subject/>
  <dc:title>Slide 1</dc:title>
</cp:coreProperties>
</file>