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carbrake.wav" ContentType="audio/x-wav"/>
  <Override PartName="/ppt/media/image12.jpeg" ContentType="image/jpeg"/>
  <Override PartName="/ppt/media/camera.wav" ContentType="audio/x-wav"/>
  <Override PartName="/ppt/media/image6.png" ContentType="image/png"/>
  <Override PartName="/ppt/media/image7.jpeg" ContentType="image/jpeg"/>
  <Override PartName="/ppt/media/image11.png" ContentType="image/png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B2396-8764-492A-9C01-C49F08A241AC}" type="slidenum">
              <a:rPr b="0" lang="en-GB" sz="12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History of D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cientists who discovered D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rwin Chargaff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his ru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1950, biochemist Erwin Chargaff found that the arrangement of nitrogen bases in DNA varied widely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mount of certain bases always occurred in a one-to-one ratio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itrogen bases always match up like thi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enine – Thymine and Cytosine -- Guanin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salind Frankli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1920-195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ing X-ray techniques took pictures of DNA and discovered the double helix shape of DN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ed of cancer due to unknown harmful affects of X-r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ames Watson and Francis Cric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 scientists to create a model of D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still the model used tod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des are made of sugar and phosphate molecu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ungs of the ladder are made of        nitrogen bas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de of 5 elements: carbon,            hydrogen, oxygen, nitrogen, and phosphor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egor Mende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strian mon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rn in 182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monastery known fo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earch and teach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fter his death (1884) acknowledgment of hi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ies in 19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wn as “The Father of Genetics“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ndel’s Pea Pla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 scientist to describe how traits are inheri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oked at pea plants for 8 y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studied 9 generations of pla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ndel’s Observ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noticed that peas are easy to breed for pure traits and he called the pure strains purebre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developed pure strains of peas for seven different traits (i.e. tall or short, round or wrinkled, yellow or green, etc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crossed these pure strains to produce hybri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ndel’s Resul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ndel crossed purebred tall plants with purebred short plants and the first generation plants were all ta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these tall offspring were crossed the result was a ratio of 3 tall to 1 shor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raits Mendel Looked 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minant Trait Ru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ong Hereditary traits cover weak trai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ndel called stronger tra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MINANT – Represented by CAPITAL LETTER (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ndel called weaker tra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cessive – Represented by lower case letter (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drick Griffi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rked in the 1920’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xonomist – a scientist who classifies      and names organisms – He specialized in pathogens (disease-causing organism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d mice and bacterium (Streptococcus pneumonia) to see if inherited material is passed though DNA or protei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swald Av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inued Griffith’s wor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dentified DNA as the material that passes on the inherited inform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used large amounts of bacteria and a process of heating and mixing the liquids to extract the nitrogen bases away from the prote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ame world’s first genetic engine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6C96-D684-4A5C-88A5-26A8DA880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EB05-82F5-4E39-B370-A49F42A33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AFA8-0A7F-4062-804F-B74C15DE9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B869-D145-4662-9B9D-1C97A7D8E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AB0B-0E60-413C-B5F9-A6D2FC098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5EE0-FC43-4ED1-B3C9-415BCDB3C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4E1A-FE2E-4D3A-8F48-B43B069E6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2DBF-4D5B-4A20-A8AD-4EE947E4A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EC2C-263C-4FA2-8C2D-883C07762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74BF-C6BB-4987-9540-034097950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D3B2-FBAC-45DD-AFBD-E0FE69376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49D2-DA89-4594-AA4C-1DF1EA84C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AD3D1-DF47-40BC-8750-8DD03E1CBFE8}" type="slidenum">
              <a:rPr b="0" lang="en-US" sz="1200" spc="-1" strike="noStrike">
                <a:solidFill>
                  <a:srgbClr val="898989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carbrak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Title 1" descr=""/>
          <p:cNvPicPr/>
          <p:nvPr/>
        </p:nvPicPr>
        <p:blipFill>
          <a:blip r:embed="rId1"/>
          <a:stretch/>
        </p:blipFill>
        <p:spPr>
          <a:xfrm>
            <a:off x="689040" y="2127240"/>
            <a:ext cx="7772400" cy="1474920"/>
          </a:xfrm>
          <a:prstGeom prst="rect">
            <a:avLst/>
          </a:prstGeom>
          <a:ln w="0">
            <a:noFill/>
          </a:ln>
        </p:spPr>
      </p:pic>
      <p:pic>
        <p:nvPicPr>
          <p:cNvPr id="49" name="Subtitle 2" descr=""/>
          <p:cNvPicPr/>
          <p:nvPr/>
        </p:nvPicPr>
        <p:blipFill>
          <a:blip r:embed="rId2"/>
          <a:stretch/>
        </p:blipFill>
        <p:spPr>
          <a:xfrm>
            <a:off x="1371600" y="3833640"/>
            <a:ext cx="6400800" cy="18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Erwin Chargaff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and his rule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72" name="Picture 2" descr="Erwin Chargaff"/>
          <p:cNvPicPr/>
          <p:nvPr/>
        </p:nvPicPr>
        <p:blipFill>
          <a:blip r:embed="rId1"/>
          <a:stretch/>
        </p:blipFill>
        <p:spPr>
          <a:xfrm>
            <a:off x="6746760" y="0"/>
            <a:ext cx="2397240" cy="32306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456840" y="2209320"/>
            <a:ext cx="7086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nstantia"/>
              </a:rPr>
              <a:t>In 1950, biochemist Erwin Chargaff found that the arrangement of nitrogen bases in DNA varied widely, 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nstantia"/>
              </a:rPr>
              <a:t>The amount of certain bases always occurred in a one-to-one ratio. 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nstantia"/>
              </a:rPr>
              <a:t>Nitrogen bases always match up like this: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332640" indent="-3326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nstantia"/>
              </a:rPr>
              <a:t>Adenine – Thymine and Cytosine -- Guanine 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Rosalind Frankli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(1920-1953)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8088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Using X-ray techniques took pictures of DNA and discovered the double helix shape of DNA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Died of cancer due to unknown harmful affects of X-ray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76" name="Picture 2" descr="http://upload.wikimedia.org/wikipedia/en/thumb/9/97/Rosalind_Franklin.jpg/180px-Rosalind_Franklin.jpg"/>
          <p:cNvPicPr/>
          <p:nvPr/>
        </p:nvPicPr>
        <p:blipFill>
          <a:blip r:embed="rId1"/>
          <a:stretch/>
        </p:blipFill>
        <p:spPr>
          <a:xfrm>
            <a:off x="7429680" y="0"/>
            <a:ext cx="1714320" cy="22003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http://upload.wikimedia.org/wikipedia/commons/d/d5/Dna-split2.png"/>
          <p:cNvPicPr/>
          <p:nvPr/>
        </p:nvPicPr>
        <p:blipFill>
          <a:blip r:embed="rId2"/>
          <a:stretch/>
        </p:blipFill>
        <p:spPr>
          <a:xfrm>
            <a:off x="3733920" y="4343400"/>
            <a:ext cx="3047760" cy="23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James Watson and Francis Crick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irst scientists to create a model of DN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It is still the model used today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ides are made of sugar and phosphate molecules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Rungs of the ladder are made of        nitrogen bases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Made of 5 elements: carbon,            hydrogen, oxygen, nitrogen, and phosphorus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80" name="Picture 10" descr="http://www.chemheritage.org/classroom/chemach/images/smfotos/07pharma/watson-crick.jpg"/>
          <p:cNvPicPr/>
          <p:nvPr/>
        </p:nvPicPr>
        <p:blipFill>
          <a:blip r:embed="rId1"/>
          <a:stretch/>
        </p:blipFill>
        <p:spPr>
          <a:xfrm>
            <a:off x="6629400" y="3733920"/>
            <a:ext cx="24130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Gregor Mendel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1" name="Picture 6" descr="mendel"/>
          <p:cNvPicPr/>
          <p:nvPr/>
        </p:nvPicPr>
        <p:blipFill>
          <a:blip r:embed="rId1"/>
          <a:stretch/>
        </p:blipFill>
        <p:spPr>
          <a:xfrm>
            <a:off x="152280" y="0"/>
            <a:ext cx="1876680" cy="240984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5"/>
          <p:cNvSpPr/>
          <p:nvPr/>
        </p:nvSpPr>
        <p:spPr>
          <a:xfrm>
            <a:off x="3200400" y="1295280"/>
            <a:ext cx="53341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onstantia"/>
              </a:rPr>
              <a:t>Austrian mon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onstantia"/>
              </a:rPr>
              <a:t>Born in 1822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onstantia"/>
              </a:rPr>
              <a:t>In monastery known fo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onstantia"/>
              </a:rPr>
              <a:t>research and teach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onstantia"/>
              </a:rPr>
              <a:t>After his death (1884) acknowledgment of hi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onstantia"/>
              </a:rPr>
              <a:t>discoveries in 19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Constantia"/>
              </a:rPr>
              <a:t>Known as “The Father of Genetics“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Mendel’s Pea Plants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First scientist to describe how traits are inherited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Looked at pea plants for 8 yea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He studied 9 generations of plant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5" name="Picture 3" descr="pea"/>
          <p:cNvPicPr/>
          <p:nvPr/>
        </p:nvPicPr>
        <p:blipFill>
          <a:blip r:embed="rId1"/>
          <a:stretch/>
        </p:blipFill>
        <p:spPr>
          <a:xfrm>
            <a:off x="4648320" y="1676520"/>
            <a:ext cx="40384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Mendel’s Observations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He noticed that peas are easy to breed for pure traits and he called the pure strains purebreds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He developed pure strains of peas for seven different traits (i.e. tall or short, round or wrinkled, yellow or green, etc.)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He crossed these pure strains to produce hybrids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Mendel’s Results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04560" y="1599840"/>
            <a:ext cx="7924680" cy="246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Mendel crossed purebred tall plants with purebred short plants and the first generation plants were all tall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When these tall offspring were crossed the result was a ratio of 3 tall to 1 short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60" name="Picture 19" descr="hal"/>
          <p:cNvPicPr/>
          <p:nvPr/>
        </p:nvPicPr>
        <p:blipFill>
          <a:blip r:embed="rId1"/>
          <a:stretch/>
        </p:blipFill>
        <p:spPr>
          <a:xfrm>
            <a:off x="380880" y="4038480"/>
            <a:ext cx="838224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The Traits Mendel Looked 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62" name="Picture 3" descr="pea"/>
          <p:cNvPicPr/>
          <p:nvPr/>
        </p:nvPicPr>
        <p:blipFill>
          <a:blip r:embed="rId1"/>
          <a:stretch/>
        </p:blipFill>
        <p:spPr>
          <a:xfrm>
            <a:off x="344520" y="1676520"/>
            <a:ext cx="83977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Dominant Trait Rule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trong Hereditary traits cover weak traits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Mendel called stronger traits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DOMINANT – Represented by CAPITAL LETTER (T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Mendel called weaker traits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Recessive – Represented by lower case letter (t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Fredrick Griffith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Worked in the 1920’s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axonomist – a scientist who classifies      and names organisms – He specialized in pathogens (disease-causing organisms)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Used mice and bacterium (Streptococcus pneumonia) to see if inherited material is passed though DNA or protein.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67" name="Picture 2" descr="File:Griffithm.jpg"/>
          <p:cNvPicPr/>
          <p:nvPr/>
        </p:nvPicPr>
        <p:blipFill>
          <a:blip r:embed="rId1"/>
          <a:stretch/>
        </p:blipFill>
        <p:spPr>
          <a:xfrm>
            <a:off x="7319880" y="0"/>
            <a:ext cx="18241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Oswald Avery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Continued Griffith’s work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Identified DNA as the material that passes on the inherited information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He used large amounts of bacteria and a process of heating and mixing the liquids to extract the nitrogen bases away from the protein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Became world’s first genetic engineer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70" name="Picture 2" descr="http://upload.wikimedia.org/wikipedia/commons/thumb/e/eb/Oswald_T._Avery_portrait_1937.jpg/150px-Oswald_T._Avery_portrait_1937.jpg"/>
          <p:cNvPicPr/>
          <p:nvPr/>
        </p:nvPicPr>
        <p:blipFill>
          <a:blip r:embed="rId1"/>
          <a:stretch/>
        </p:blipFill>
        <p:spPr>
          <a:xfrm>
            <a:off x="7467480" y="0"/>
            <a:ext cx="167652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8T20:13:48Z</dcterms:created>
  <dc:creator>CCSD</dc:creator>
  <dc:description/>
  <dc:language>en-US</dc:language>
  <cp:lastModifiedBy>RomaK</cp:lastModifiedBy>
  <dcterms:modified xsi:type="dcterms:W3CDTF">2015-09-04T11:36:04Z</dcterms:modified>
  <cp:revision>17</cp:revision>
  <dc:subject/>
  <dc:title>The History of DN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300051251033</vt:lpwstr>
  </property>
</Properties>
</file>