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1B86-1140-4106-A4B9-1B1109262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olutionary Concepts: Variation and 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 February 20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ary Concepts: Variation and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minant and Recessive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minant allel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minate” over other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ll be expressed, while a recessive allele is suppress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cessive allel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s that are suppressed in the presence of a dominant alle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nt and Recessiv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nt alle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te” over other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be expressed, while a recessive allele is sup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ssive alle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that are suppressed in the presence of a dominant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 P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collection of available alleles in a pop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istribution of these alleles across the population is not taken into account!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lection of available alleles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ribution of these alleles across the population is not taken into account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 frequenc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requency of an allele in a pop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0 individuals = 100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5 R alleles = 25/100 = 25% R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 0.25 is the frequency of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5 W alleles = 75/100 W = 75% W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 0.75 is the frequency of 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an allele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 individuals = 100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R alleles = 25/100 = 25% 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0.25 is the frequency of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 W alleles = 75/100 W = 75% W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0.75 is the frequency of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 frequenc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um of the frequencies for each allele in a population is always equal to 1.0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equencies are percentages, and the total percentage must be 1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0% = 1.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the frequencies for each allele in a population is always equal to 1.0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ies are percentages, and the total percentage must be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% = 1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ther important frequenc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 frequenc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centage of each genotype present in a pop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 frequenc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centage of each phenotype present in a pop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mportant frequ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centage of each genotype present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centage of each phenotype present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w we can define evolution as the change in genotype frequencies over 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we can define evolution as the change in genotype frequencies ov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tic Var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very stuff of evolution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out genetic variation, there can be no ev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ry stuff of evolu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genetic variation, there can be no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ige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ge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upp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upp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is phenotypic variation not as importan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ic variation is the result of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ic var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vironmental var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ther eff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ch as maternal or paternal eff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completely heritabl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phenotypic variation not as importa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ic variation is the result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as maternal or paternal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mpletely heritab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tions and Termin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croev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ges within populations or species in gene frequencies and distributions of tra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croev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er level changes, e.g. generation of new species or higher–level classif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 and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within populations or species in gene frequencies and distributions of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level changes, e.g. generation of new species or higher–level class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rdy-Weinberg Equilibri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ve conditions under which evolution cannot occ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five must be met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y one is violated, the population will evolv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conditions under which evolution cannot occ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ive must be me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y one is violated, the population will evolv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WE: Five condi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net change in allele frequencies due to 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mbers of the population mate random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 alleles do not enter the population via immigrating individu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opulation is lar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atural selection does not occ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E: Five 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et change in allele frequencies due to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population mate random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lleles do not enter the population via immigrating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pulation is l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does not occ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WE: 5 viol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, five ways in which populations CAN evolv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nrandom ma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gration (Gene flow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mall population sizes (Genetic drif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atural sel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E: 5 vio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five ways in which populations CAN evolv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random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(Gene fl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population sizes (Genetic drif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h of HW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cause the total of all allele frequencies is equal to 1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the frequency of Allele 1 is 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the frequency of Allele 2 is q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n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 + q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of H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 total of all allele frequencies is equal to 1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frequency of Allele 1 is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frequency of Allele 2 is 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+ q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h of HW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, because with two alleles we have three genotyp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p, pq, and qq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requencies of these genotypes are equal to (p + q)2 = 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, p2 + 2pq + q2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of H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, because with two alleles we have three geno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p, pq, and q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ies of these genotypes are equal to (p + q)2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, p2 + 2pq + q2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cal population of butterflies has 50 individu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many alleles are in the population at one locu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the distribution of genotype frequencies is 10 AA, 20 Aa, 20 aa, what are the frequencies of the two alleles?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 population of butterflies has 50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alleles are in the population at one loc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distribution of genotype frequencies is 10 AA, 20 Aa, 20 aa, what are the frequencies of the two alleles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50 individuals, there are 100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AA individual has 2 A’s, for a total of 20. Each Aa individual has 1 A, for a total of 20. Total number of A = 40, out of 100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 = 0.4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Aa has 1 a, = 20, plus 2 a’s for each aa (=40), = 60/100 a,  q = 0.6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Or , q = 1 - p = 1 - 0.40 = 0.6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50 individuals, there are 100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AA individual has 2 A’s, for a total of 20. Each Aa individual has 1 A, for a total of 20. Total number of A = 40, out of 100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0.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Aa has 1 a, = 20, plus 2 a’s for each aa (=40), = 60/100 a,  q = 0.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, q = 1 - p = 1 - 0.40 = 0.6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expected genotype frequencies after one generation? (Assume no evolutionary agents are acting!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expected genotype frequencies after one generation? (Assume no evolutionary agents are acting!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expected genotype frequencies after one generation? (Assume no evolutionary agents are acting!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2 + 2pq + q2 = 1 and p = 0.40 and q = 0.6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expected genotype frequencies after one generation? (Assume no evolutionary agents are acting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2 + 2pq + q2 = 1 and p = 0.40 and q = 0.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expected genotype frequencies after one generation? (Assume no evolutionary agents are acting!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2 + 2pq + q2 = 1 and p = 0.40 and q = 0.6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A = (0.40) X (0.40) = 0.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a = 2 X (0.40) X (0.60) = 0.4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a = (0.60) X (0.60) = 0.3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expected genotype frequencies after one generation? (Assume no evolutionary agents are acting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2 + 2pq + q2 = 1 and p = 0.40 and q = 0.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 = (0.40) X (0.40) = 0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 = 2 X (0.40) X (0.60) = 0.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 = (0.60) X (0.60) = 0.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ction of a chromosome that encodes the information to build a prote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cation is known as a “locus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of a chromosome that encodes the information to build a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is known as a “locu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tion is the source of genetic variation!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other source for entirely new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 is the source of genetic variation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ther source for entirely new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ry widely acros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ci (plural of locu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y widely acros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i (plural of loc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d by phenotypic effects in human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e of 10-6 to 10-5 per gamete per gene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tal number of gene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stimates range from about 30,000 to over 100,000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arly everyone is a mutant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by phenotypic effects in huma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 of 10-6 to 10-5 per gamete per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number of gen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s range from about 30,000 to over 100,000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everyone is a muta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tion rate of the HIV–AIDS viru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error every 104 to 105 base pai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ze of the HIV–AIDS genom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out 104 to 105 base pai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, about one mutation per replication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 rate of the HIV–AIDS vir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error every 104 to 105 base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the HIV–AIDS geno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104 to 105 base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about one mutation per replica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V-AIDS Vide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V-AIDS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es of mutation generally hig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ds to a high load of deleterious (harmful) mu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x may be a way to eliminate or reduce the load of deleterious mutations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s of mutation generally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a high load of deleterious (harmful)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 may be a way to eliminate or reduce the load of deleterious mutati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ypes of mu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int mu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e-pair substitu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used by chance errors during synthesis or repair of D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ds to new alleles (may or may not change phenotype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-pair substit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chance errors during synthesis or repair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new alleles (may or may not change phenotyp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ypes of mu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 dupl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ult of unequal crossing over during mei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ds to redundant ge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ich may mutate free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may thus gain new fun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u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unequal crossing over during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redundant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may mutate fre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may thus gain new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ypes of mu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romosome dupl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used by errors in meiosis (mitosis in plant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mon in pl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ds to polyploid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lead to new species of pl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e to inability to interbre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du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errors in meiosis (mitosis in plan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in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lead to new species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 to inability to interbr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ffects of mu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latively speaking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mutations have little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y are actually harmfu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w are benefic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ly speaking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utations have littl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re actually harm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are benefi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rieties of the information at a particular l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ery organism has two alleles (can be same or different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limit to the number of alleles in a pop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eties of the information at a particular l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organism has two alleles (can be same or differen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limit to the number of alleles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can mutations lead to big change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cumulation of many small mutations, each with a small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cumulation of several small mutations, each with a large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large mutation with a large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tion in a regulatory sequence (affects regulation of developmen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mutations lead to big chang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umulation of many small mutations, each with a small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umulation of several small mutations, each with a larg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large mutation with a larg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 in a regulatory sequence (affects regulation of develop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rmal fly he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fly 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ennapedia f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nnapedia f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ndom ma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der random mating, the chance of any individual in a population mating is exactly the same as for any other individual in the pop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rally, hard to find in n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ut, can approximate in many large populations over short periods of 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om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random mating, the chance of any individual in a population mating is exactly the same as for any other individual in th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, hard to find in n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can approximate in many large populations over short periods of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n-random ma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olations of random mating lead to changes in genotypic frequencies, not allele frequenc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ut, can lead to changes in effective population size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random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olations of random mating lead to changes in genotypic frequencies, not allele frequ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can lead to changes in effective population siz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phant seal vide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phant seal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n-random ma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duction in the effective population size leaves a door open for the effects of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tic Drift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random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in the effective population size leaves a door open for the effects of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tic Drift Activ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etic Drift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Zygo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mozygou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o copies of the same allele at one l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terozygou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o different alleles at one l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zygo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copies of the same allele at one l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different alleles at one l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tic information contained at a l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ich alleles are actually present at a l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s available: R and 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ssible genotypes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R, RW, W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information contained at a l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alleles are actually present at a l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available: R and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genotyp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, RW, W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ppearance of an organis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ults from the underlying 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earance of an orga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from the underlying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1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s R (red) and W (white), codomin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s: RR, RW, W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s: Red, Pink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 1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eles R (red) and W (white), co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: RR, RW, W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: Red, Pink, 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2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s R (red) and w (white), simple domin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s: RR, Rw, w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s: Red, Red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 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eles R (red) and w (white), simple 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: RR, Rw, w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: Red, Red, 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219E-98F0-44BC-97DB-18C47D44F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833F-5455-451E-90B6-9D193CCD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4780-6BBF-4348-92A1-0FB034561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7EA8-D5B5-4D49-964E-9D70D11A5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2A0A-C0D3-4DCB-8984-49ABBFDE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73E6-034A-4BB8-B396-FA83616D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0760-558C-43C7-8ACA-556FE2AD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08D7-6CBD-4C35-B822-1DFC5B6C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6EC0-35D2-40B3-8ECD-F381DD3E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7CA7-2A50-4CE9-875B-7B60042A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9D05-767B-4064-B582-76412123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1027-5D94-4252-A688-B827A902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744E-437F-44CD-8EB2-CAB0A1E642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volutionary Concepts: Variation and Mut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 February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Dominant and Recessive Allele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minant alle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minate” over other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be expressed, while a recessive allele is suppres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essive alle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eles that are suppressed in the presence of a dominant alle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Gene Pool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llection of available alleles in a po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istribution of these alleles across the population is not taken into account!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Allele frequenc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requency of an allele in a po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0 individuals = 100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5 R alleles = 25/100 = 25% 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0.25 is the frequency of 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5 W alleles = 75/100 W = 75% W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0.75 is the frequency of 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Allele frequenc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m of the frequencies for each allele in a population is always equal to 1.0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quencies are percentages, and the total percentage must be 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0% = 1.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Other important frequencie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otype frequ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ercentage of each genotype present in a pop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enotype frequ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ercentage of each phenotype present in a pop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volu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we can defin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volu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s the change in genotype frequencies over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Genetic Vari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very stuff of evolu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out genetic variation, there can be no ev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Pige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97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2006640" cy="2527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"/>
          <p:cNvPicPr/>
          <p:nvPr/>
        </p:nvPicPr>
        <p:blipFill>
          <a:blip r:embed="rId2"/>
          <a:stretch/>
        </p:blipFill>
        <p:spPr>
          <a:xfrm>
            <a:off x="0" y="3987720"/>
            <a:ext cx="3492360" cy="2870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"/>
          <p:cNvPicPr/>
          <p:nvPr/>
        </p:nvPicPr>
        <p:blipFill>
          <a:blip r:embed="rId3"/>
          <a:stretch/>
        </p:blipFill>
        <p:spPr>
          <a:xfrm>
            <a:off x="1143000" y="2286000"/>
            <a:ext cx="2374920" cy="1955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"/>
          <p:cNvPicPr/>
          <p:nvPr/>
        </p:nvPicPr>
        <p:blipFill>
          <a:blip r:embed="rId4"/>
          <a:stretch/>
        </p:blipFill>
        <p:spPr>
          <a:xfrm>
            <a:off x="5715000" y="4040280"/>
            <a:ext cx="3429000" cy="2817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"/>
          <p:cNvPicPr/>
          <p:nvPr/>
        </p:nvPicPr>
        <p:blipFill>
          <a:blip r:embed="rId5"/>
          <a:stretch/>
        </p:blipFill>
        <p:spPr>
          <a:xfrm>
            <a:off x="3124080" y="4305240"/>
            <a:ext cx="3111480" cy="2552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6" descr=""/>
          <p:cNvPicPr/>
          <p:nvPr/>
        </p:nvPicPr>
        <p:blipFill>
          <a:blip r:embed="rId6"/>
          <a:stretch/>
        </p:blipFill>
        <p:spPr>
          <a:xfrm>
            <a:off x="3346560" y="2521080"/>
            <a:ext cx="2450880" cy="1815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7" descr=""/>
          <p:cNvPicPr/>
          <p:nvPr/>
        </p:nvPicPr>
        <p:blipFill>
          <a:blip r:embed="rId7"/>
          <a:stretch/>
        </p:blipFill>
        <p:spPr>
          <a:xfrm>
            <a:off x="6337440" y="0"/>
            <a:ext cx="2806560" cy="29084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Guppie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351080" y="1739880"/>
            <a:ext cx="6440400" cy="48132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Why is phenotypic variation not as important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enotypic variation is the result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ic var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vironmental var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ch as maternal or paternal eff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completely heritabl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Definitions and Terminolog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ev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nges within populations or species in gene frequencies and distributions of tra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croev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er level changes, e.g. generation of new species or higher–level class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Hardy-Weinberg Equilibrium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ve conditions under which evolution cannot occ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five must be me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any one is violated, the population will evolv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HWE: Five condi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net change in allele frequencies due to mu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bers of the population mate random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alleles do not enter the population via immigrating individu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opulation is l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al selection does not occ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HWE: 5 viola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, five ways in which populations CAN evolv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random ma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gration (Gene flow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 population sizes (Genetic drif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al sel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Math of HW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 the total of all allele frequencies is equal to 1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frequency of Allele 1 is 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the frequency of Allele 2 is 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 + q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Math of HW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, because with two alleles we have three genotyp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, pq, and q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requencies of these genotypes are equal to (p + q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, 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2pq + q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xample of HWE Math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l population of butterflies has 50 individu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alleles are in the population at one locu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distribution of genotype frequencies is 10 AA, 20 Aa, 20 aa, what are the frequencies of the two alleles?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xample of HWE math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50 individuals, there are 100 alle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AA individual has 2 A’s, for a total of 20. Each Aa individual has 1 A, for a total of 20. Total number of A = 40, out of 100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 = 0.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Aa has 1 a, = 20, plus 2 a’s for each aa (=40), = 60/100 a,  q = 0.6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Or , q = 1 - p = 1 - 0.40 = 0.6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xample of HWE math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expected genotype frequencies after one generation? (Assume no evolutionary agents are acting!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xample of HWE math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expected genotype frequencies after one generation? (Assume no evolutionary agents are acting!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2pq + q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1 and p = 0.40 and q = 0.6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xample of HWE math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expected genotype frequencies after one generation? (Assume no evolutionary agents are acting!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2pq + q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1 and p = 0.40 and q = 0.6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A = (0.40) X (0.40) = 0.1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a = 2 X (0.40) X (0.60) = 0.4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a = (0.60) X (0.60) = 0.3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Gen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tion of a chromosome that encodes the information to build a prote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tion is known as a “locu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Mut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24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tation is the source of genetic variation!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24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other source for entirely new alle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Rates of mut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ry widely acros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i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plural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u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viron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Rates of mut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sured by phenotypic effects in huma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e of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er gamete per gen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tal number of gen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imates range from about 30,000 to over 100,000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arly everyone is a mutan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Rates of mut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tation rate of the HIV–AIDS vir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error every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ase pai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ze of the HIV–AIDS geno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ase pai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, about one mutation per replic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HIV-AIDS Video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Rates of mut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tes of mutation generally hig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s to a high load of deleterious (harmful) mu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x may be a way to eliminate or reduce the load of deleterious mutation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Types of muta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int mu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-pair substitu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used by chance errors during synthesis or repair of D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s to new alleles (may or may not change phenotyp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Types of muta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 du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 of unequal crossing over during mei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s to redundant ge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ich may mutate free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may thus gain new 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Types of muta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romosome du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used by errors in meiosis (mitosis in plan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on in pl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ds to polyploi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lead to new species of pl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ue to inability to interbre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ffects of muta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vely speaking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mutations have little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are actually harmfu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w are benefic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Allel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rieties of the information at a particular loc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 organism has two alleles (can be same or different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limit to the number of alleles in a po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How can mutations lead to big changes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umulation of many small mutations, each with a small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umulation of several small mutations, each with a large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large mutation with a large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tation in a regulatory sequence (affects regulation of developme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Normal fly head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Antennapedia fl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Random mating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der random mating, the chance of any individual in a population mating is exactly the same as for any other individual in the po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ly, hard to find in n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, can approximate in many large populations over short periods of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Non-random mating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olations of random mating lead to changes in genotypic frequencies, not allele frequ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, can lead to changes in effective population size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lephant seal video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Non-random mating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tion in the effective population size leaves a door open for the effects of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 Drif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Genetic Drift Activit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Zygosit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mozygo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copies of the same allele at one loc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terozygo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different alleles at one loc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Genotyp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 information contained at a loc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alleles are actually present at a loc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eles available: R and 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sible genotype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R, RW, 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Phenotyp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earance of an organ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lts from the underlying geno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Phenotyp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1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eles R (red) and W (white), codomin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: RR, RW, W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enotypes: Red, Pink, Wh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Phenotyp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eles R (red) and w (white), simple domin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: RR, Rw, w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enotypes: Red, Red, wh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6T18:57:40Z</dcterms:created>
  <dc:creator>Cheryl A. Heinz</dc:creator>
  <dc:description/>
  <dc:language>en-US</dc:language>
  <cp:lastModifiedBy>LEGION2</cp:lastModifiedBy>
  <cp:lastPrinted>2003-02-06T20:57:53Z</cp:lastPrinted>
  <dcterms:modified xsi:type="dcterms:W3CDTF">2016-01-12T12:54:58Z</dcterms:modified>
  <cp:revision>28</cp:revision>
  <dc:subject/>
  <dc:title>Evolutionary Concepts: Variation and Mutation</dc:title>
</cp:coreProperties>
</file>