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A52E-E7F0-4E79-AE29-196C6D61D3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095-BB37-432D-93A0-089C47C3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785-46E3-4EF1-A387-18C2D430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C45-6340-41BF-B12B-4B4FAB52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C60-91D7-4E0E-BFAF-4B46511F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29A-C60C-4A63-A959-2EF9FFB4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4AA-14BF-4FFD-965A-C5707D32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A8F-7E03-498B-952B-DACB98D3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5EB-96A7-4EDD-BE90-50251EA1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5E6-47EB-415A-8DFD-D40F2AC8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727-8B26-4D6E-BCAE-E006CB19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43E-C06F-44CD-B351-EF0FA286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302-6F86-44D8-9275-B1492428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CA5C-8EBD-47A6-88C6-3ABB9802BD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Recombination%20Between%20Linked%20Genes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riation and the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ndel’s Firs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inciple of se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s of a gene exist in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gametes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bers of each pair pass into different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ch gamete contains only one allele of each 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49001" b="0"/>
          <a:stretch/>
        </p:blipFill>
        <p:spPr>
          <a:xfrm>
            <a:off x="2209680" y="1066680"/>
            <a:ext cx="4953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gnificance of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lele: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ent forms of the same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Meiosis provides the opportunity for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new combination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of the existing alleles of genes to ari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ependent assortment of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line up at equator during first meiotic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l position of any one pair i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ando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lative to any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cond meiotic division brings about independent assortment of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may lead to new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th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ing over and separation of 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 is aligned with its homologous partner during first meiotic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rtions of chromatid exchanged at point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atids become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oken end of one joins with that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s of linked genes can become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allele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4972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mportance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s species adapt to a 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of the fittest’ then occurs as a result of 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oss betwee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ue-breed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arents wit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fferent alle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me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enotyp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lleles the individua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sesses of a particular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: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ysical appearance of 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9:51Z</dcterms:created>
  <dc:creator>hhashmi</dc:creator>
  <dc:description/>
  <dc:language>en-US</dc:language>
  <cp:lastModifiedBy>RomaK</cp:lastModifiedBy>
  <dcterms:modified xsi:type="dcterms:W3CDTF">2015-09-04T11:36:39Z</dcterms:modified>
  <cp:revision>7</cp:revision>
  <dc:subject/>
  <dc:title>Variation and the Monohybrid Cross</dc:title>
</cp:coreProperties>
</file>