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8985-37B7-4129-8BFD-EDA6A7A801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and the 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and the 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First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a gene exist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amet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each pair pass into different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gamete contains only one allele of each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First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a gene exist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amet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each pair pass into different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gamete contains only one allele of each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ce of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provides the opportunity for new combinations of the existing alleles of genes to ari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ce of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provides the opportunity for new combinations of the existing alleles of genes to ari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pairs line up at equato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position of any one pair is random relative to any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iotic division brings about 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y lead to new phenotypes in the next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pairs line up at equato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position of any one pair is random relative to any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iotic division brings about 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y lead to new phenotypes in the next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ing over and separation of 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is aligned with its homologous partne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s of chromatid exchanged at points called 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ing over and separation of 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is aligned with its homologous partne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s of chromatid exchanged at points called 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ds become bro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end of one joins with that of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linked genes can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allele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ds become bro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end of one joins with that of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linked genes can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allele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species adapt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al of the fittest’ then occurs as a result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species adapt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al of the fittest’ then occurs as a result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between true-breeding parents with different allele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s the individu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esses of a particular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appearance of 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between true-breeding parents with different allele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s the individu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esses of a particular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appearance of 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21C-4B25-4997-B71B-F8AAEE33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E41-2FCD-4DBA-820A-C7D107C3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57E6-5DBA-47D8-90FC-9D1229C3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55D-3973-4641-A15A-A3AD63B6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B66-6693-4754-8BB6-D61F2F1F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4D57-8808-4200-B11B-355AE2A4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D45C-AEC7-45D7-ABEC-91A2DC05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DE8-4624-47EC-BD58-7C2B21E2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9B8-540D-4202-8773-89290845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CB0-A59F-441E-80C2-F57313CA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0ECC-8BF4-4BEE-982B-6C248BFC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8CE-EBF9-4DF7-877A-330033FF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1C4A-84CF-42E3-891D-04C5F4BC6F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iostudio.com/d_%20Meiotic%20Recombination%20Between%20Linked%20Genes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riation and the Mono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ndel’s First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rinciple of se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s of a gene exist in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gametes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mbers of each pair pass into different 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ach gamete contains only one allele of each 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49001" b="0"/>
          <a:stretch/>
        </p:blipFill>
        <p:spPr>
          <a:xfrm>
            <a:off x="2209680" y="1066680"/>
            <a:ext cx="4953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gnificance of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lele: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fferent forms of the same g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Meiosis provides the opportunity for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new combinations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of the existing alleles of genes to ari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dependent assortment of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mologous pairs line up at equator during first meiotic di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al position of any one pair i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ando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elative to any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cond meiotic division brings about independent assortment of chrom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may lead to new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henotyp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 the nex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ossing over and separation of linked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 is aligned with its homologous partner during first meiotic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rtions of chromatid exchanged at points call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iasm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ias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atids become b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roken end of one joins with that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les of linked genes can become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new allele combi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new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0"/>
            <a:ext cx="4972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mportance of Var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s species adapt to a changing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vival of the fittest’ then occurs as a result of natural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ono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oss betwee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rue-breed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arents with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fferent alle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the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ame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enotyp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lleles the individual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ssesses of a particular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henotype: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hysical appearance of a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ivid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6:49:51Z</dcterms:created>
  <dc:creator>hhashmi</dc:creator>
  <dc:description/>
  <dc:language>en-US</dc:language>
  <cp:lastModifiedBy>RomaK</cp:lastModifiedBy>
  <dcterms:modified xsi:type="dcterms:W3CDTF">2015-09-04T11:36:39Z</dcterms:modified>
  <cp:revision>7</cp:revision>
  <dc:subject/>
  <dc:title>Variation and the Monohybrid Cross</dc:title>
</cp:coreProperties>
</file>