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8FC7-F0C5-42CA-9DA9-1FD11050CB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x Lin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Sex Link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ir role in determining sex, the sex chromosomes have genes for many charac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located on a sex chromosome are called sex linke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 the term usually refers to X-linked characters: genes located only on X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s can pass X-linked alleles to their daughters, but not 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hers can pass sex-linked alleles to both sons and daugh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ssiv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sex linked trait is due to a recessive alle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male will express the phenotype only if she is homozygou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recessive allele from his mother he will express the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more males have disorders that are inherited as sex linked recessives than fem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ph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chromosome has a locus for colour vision with two alle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Normal colou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n = 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hromosome does not have a colour vision l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male receives the Xn allele he will have impaired colour vision, whereas a female with XNXn will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-green colou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Carrier Female x Normal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                   XNXn                   X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Female : Carrier Female : Normal Male : Colour blind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          :            1             :           1         :      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ing genetic pedi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fe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ma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5: Sex-Linked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WS6: Extens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4C1-2ADB-4AC0-AD13-1BBBB236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F46-A148-4565-9D23-1846A2C6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DBD-D921-4AA3-9150-6287B06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503-AF31-49BD-ADE4-9A8AA57E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212-211D-49CF-8E24-EF6165A9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1D9-BCC6-4EFA-B491-43A6389F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913-E194-4B2B-BAB1-8AF8D62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971-998D-458C-A04A-40232DC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A3B-3D58-4766-92C2-58C0E1A6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8ECF-6107-4276-9A62-CD01444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159-8637-495A-BAA3-1768775C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73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0124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28880" y="41144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5D7-6CB4-4BEB-B1CB-88C45A52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144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144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0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0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1451-49BA-495F-92BB-E53CDC958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Inheritanc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L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Sex Linkag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ir role in determining sex, the sex chromosomes have genes for many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 located on a sex chromosome are called sex linked g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umans the term usually refers to X-linked characters: genes located only on X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 pass X-linked alleles to their daughters, but not 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hers can pass sex-linked alleles to both sons and daugh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essive alle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ex linked trait is due to a recessive alle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male will express the phenotype only if she is homozygous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male receives the recessive allele from his mother he will express the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 more males have disorders that are inherited as sex linked recessives than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chromosome has a locus for colour vision with two alle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Normal 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d-green colour blin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chromosome does not have a colour vision loc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male receives th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le he will have impaired colour vision, whereas a female with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-green colour blindn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rrier Female x Normal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  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ty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135800" y="5486400"/>
            <a:ext cx="767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emale : Carrier Female : Normal Male : Colour blind 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:            1             :           1         :   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4572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5181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685800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GB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7467480" y="26668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76720" y="3352680"/>
          <a:ext cx="5181480" cy="210816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5640"/>
                <a:gridCol w="12952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e Gam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owing genetic pedigre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40082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fem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173240" y="198108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fe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173240" y="2514600"/>
            <a:ext cx="4008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73240" y="3048120"/>
            <a:ext cx="4008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m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7"/>
          <p:cNvSpPr/>
          <p:nvPr/>
        </p:nvSpPr>
        <p:spPr>
          <a:xfrm>
            <a:off x="5181480" y="15238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9"/>
          <p:cNvSpPr/>
          <p:nvPr/>
        </p:nvSpPr>
        <p:spPr>
          <a:xfrm>
            <a:off x="5181480" y="20574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5181480" y="25909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81480" y="3048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3505320" y="3886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21337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048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16"/>
          <p:cNvSpPr/>
          <p:nvPr/>
        </p:nvSpPr>
        <p:spPr>
          <a:xfrm>
            <a:off x="3809880" y="48006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480060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8"/>
          <p:cNvSpPr/>
          <p:nvPr/>
        </p:nvSpPr>
        <p:spPr>
          <a:xfrm>
            <a:off x="5715000" y="4800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04812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20"/>
          <p:cNvSpPr/>
          <p:nvPr/>
        </p:nvSpPr>
        <p:spPr>
          <a:xfrm>
            <a:off x="3809880" y="563868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46483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2"/>
          <p:cNvSpPr/>
          <p:nvPr/>
        </p:nvSpPr>
        <p:spPr>
          <a:xfrm>
            <a:off x="5334120" y="56386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5943600" y="5638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38862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34290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51814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2362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8"/>
          <p:cNvSpPr/>
          <p:nvPr/>
        </p:nvSpPr>
        <p:spPr>
          <a:xfrm>
            <a:off x="23623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9"/>
          <p:cNvSpPr/>
          <p:nvPr/>
        </p:nvSpPr>
        <p:spPr>
          <a:xfrm>
            <a:off x="39625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0"/>
          <p:cNvSpPr/>
          <p:nvPr/>
        </p:nvSpPr>
        <p:spPr>
          <a:xfrm>
            <a:off x="41911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1"/>
          <p:cNvSpPr/>
          <p:nvPr/>
        </p:nvSpPr>
        <p:spPr>
          <a:xfrm>
            <a:off x="4952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3200400" y="5486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36576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4"/>
          <p:cNvSpPr/>
          <p:nvPr/>
        </p:nvSpPr>
        <p:spPr>
          <a:xfrm>
            <a:off x="32004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6"/>
          <p:cNvSpPr/>
          <p:nvPr/>
        </p:nvSpPr>
        <p:spPr>
          <a:xfrm>
            <a:off x="396252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7"/>
          <p:cNvSpPr/>
          <p:nvPr/>
        </p:nvSpPr>
        <p:spPr>
          <a:xfrm>
            <a:off x="480060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8"/>
          <p:cNvSpPr/>
          <p:nvPr/>
        </p:nvSpPr>
        <p:spPr>
          <a:xfrm>
            <a:off x="54864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0"/>
          <p:cNvSpPr/>
          <p:nvPr/>
        </p:nvSpPr>
        <p:spPr>
          <a:xfrm>
            <a:off x="48006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1"/>
          <p:cNvSpPr/>
          <p:nvPr/>
        </p:nvSpPr>
        <p:spPr>
          <a:xfrm>
            <a:off x="5486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2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3"/>
          <p:cNvSpPr/>
          <p:nvPr/>
        </p:nvSpPr>
        <p:spPr>
          <a:xfrm>
            <a:off x="35960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4"/>
          <p:cNvSpPr/>
          <p:nvPr/>
        </p:nvSpPr>
        <p:spPr>
          <a:xfrm>
            <a:off x="4510440" y="4262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5"/>
          <p:cNvSpPr/>
          <p:nvPr/>
        </p:nvSpPr>
        <p:spPr>
          <a:xfrm>
            <a:off x="22244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6"/>
          <p:cNvSpPr/>
          <p:nvPr/>
        </p:nvSpPr>
        <p:spPr>
          <a:xfrm>
            <a:off x="313092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7"/>
          <p:cNvSpPr/>
          <p:nvPr/>
        </p:nvSpPr>
        <p:spPr>
          <a:xfrm>
            <a:off x="389304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8"/>
          <p:cNvSpPr/>
          <p:nvPr/>
        </p:nvSpPr>
        <p:spPr>
          <a:xfrm>
            <a:off x="4883760" y="51768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9"/>
          <p:cNvSpPr/>
          <p:nvPr/>
        </p:nvSpPr>
        <p:spPr>
          <a:xfrm>
            <a:off x="5806080" y="5181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0"/>
          <p:cNvSpPr/>
          <p:nvPr/>
        </p:nvSpPr>
        <p:spPr>
          <a:xfrm>
            <a:off x="30628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1"/>
          <p:cNvSpPr/>
          <p:nvPr/>
        </p:nvSpPr>
        <p:spPr>
          <a:xfrm>
            <a:off x="390096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2"/>
          <p:cNvSpPr/>
          <p:nvPr/>
        </p:nvSpPr>
        <p:spPr>
          <a:xfrm>
            <a:off x="473112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3"/>
          <p:cNvSpPr/>
          <p:nvPr/>
        </p:nvSpPr>
        <p:spPr>
          <a:xfrm>
            <a:off x="5348880" y="60102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4"/>
          <p:cNvSpPr/>
          <p:nvPr/>
        </p:nvSpPr>
        <p:spPr>
          <a:xfrm>
            <a:off x="6034680" y="6014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5"/>
          <p:cNvSpPr/>
          <p:nvPr/>
        </p:nvSpPr>
        <p:spPr>
          <a:xfrm>
            <a:off x="1144440" y="38862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6"/>
          <p:cNvSpPr/>
          <p:nvPr/>
        </p:nvSpPr>
        <p:spPr>
          <a:xfrm>
            <a:off x="1144080" y="4724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7"/>
          <p:cNvSpPr/>
          <p:nvPr/>
        </p:nvSpPr>
        <p:spPr>
          <a:xfrm>
            <a:off x="1143720" y="5562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now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5: Sex-Linked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WS6: Extens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2925720" y="3075120"/>
            <a:ext cx="4389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9:42:59Z</dcterms:created>
  <dc:creator>Fearghal Kelly</dc:creator>
  <dc:description/>
  <dc:language>en-US</dc:language>
  <cp:lastModifiedBy>LEGION2</cp:lastModifiedBy>
  <cp:lastPrinted>1904-01-01T00:00:00Z</cp:lastPrinted>
  <dcterms:modified xsi:type="dcterms:W3CDTF">2016-01-12T12:25:20Z</dcterms:modified>
  <cp:revision>39</cp:revision>
  <dc:subject/>
  <dc:title>Inheritance</dc:title>
</cp:coreProperties>
</file>