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0962-E565-4F72-9D66-F572776C70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302-22E7-4CB3-AEE2-24CE47F8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634-A026-4FBA-AF77-DC7DE9D2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974-2059-4C47-86F1-81DFE454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044-D7ED-4E41-B66C-8224149A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4CA-939E-4551-9F1C-12DCB48C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78E-B882-483E-BFB7-CADDEB17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B6B-2BA6-4491-8E76-464347D9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F6A-9BEE-4D84-8D58-F759C43D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AE9-A8AD-4009-A3F2-27ACF1D9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5B4-C745-4435-81C2-02F2F867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045-6EA4-49DC-95DC-B5C54196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6E5-99B6-458C-A553-367B0252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9850-710D-4CAD-AE27-7BAAC5515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nheritanc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Sex Linkag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their role in determining sex, the sex chromosomes have genes for many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 located on a sex chromosome are called sex linked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umans the term usually refers to X-linked characters: genes located only on 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s can pass X-linked alleles to their daughters, but not 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s can pass sex-linked alleles to both sons and daugh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essive alle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ex linked trait is due to a recessive all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male will express the phenotype only if she is homozygous reces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male receives the recessive allele from his mother he will express the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 more males have disorders that are inherited as sex linked recessives than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chromosome has a locus for colour vision with two alle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ormal colou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d-green 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chromosome does not have a colour vision loc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male receives th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le he will have impaired colour vision, whereas a female with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rrier Female x Normal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  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135800" y="5486400"/>
            <a:ext cx="767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Female : Carrier Female : Normal Male : Colour blind 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:            1             :           1         :  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4572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5181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6858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7467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76720" y="3352680"/>
          <a:ext cx="5181480" cy="210816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640"/>
                <a:gridCol w="12952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howing genetic pedigr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40082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fem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173240" y="198108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fe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173240" y="251460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173240" y="3048120"/>
            <a:ext cx="4008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5181480" y="15238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181480" y="20574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5181480" y="25909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5181480" y="3048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5053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04812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3809880" y="4800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48006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8"/>
          <p:cNvSpPr/>
          <p:nvPr/>
        </p:nvSpPr>
        <p:spPr>
          <a:xfrm>
            <a:off x="5715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04812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20"/>
          <p:cNvSpPr/>
          <p:nvPr/>
        </p:nvSpPr>
        <p:spPr>
          <a:xfrm>
            <a:off x="3809880" y="56386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46483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2"/>
          <p:cNvSpPr/>
          <p:nvPr/>
        </p:nvSpPr>
        <p:spPr>
          <a:xfrm>
            <a:off x="53341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594360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38862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34290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6"/>
          <p:cNvSpPr/>
          <p:nvPr/>
        </p:nvSpPr>
        <p:spPr>
          <a:xfrm>
            <a:off x="51814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2362320" y="4495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8"/>
          <p:cNvSpPr/>
          <p:nvPr/>
        </p:nvSpPr>
        <p:spPr>
          <a:xfrm>
            <a:off x="23623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9"/>
          <p:cNvSpPr/>
          <p:nvPr/>
        </p:nvSpPr>
        <p:spPr>
          <a:xfrm>
            <a:off x="39625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0"/>
          <p:cNvSpPr/>
          <p:nvPr/>
        </p:nvSpPr>
        <p:spPr>
          <a:xfrm>
            <a:off x="41911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1"/>
          <p:cNvSpPr/>
          <p:nvPr/>
        </p:nvSpPr>
        <p:spPr>
          <a:xfrm>
            <a:off x="49528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2"/>
          <p:cNvSpPr/>
          <p:nvPr/>
        </p:nvSpPr>
        <p:spPr>
          <a:xfrm>
            <a:off x="320040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3"/>
          <p:cNvSpPr/>
          <p:nvPr/>
        </p:nvSpPr>
        <p:spPr>
          <a:xfrm>
            <a:off x="36576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4"/>
          <p:cNvSpPr/>
          <p:nvPr/>
        </p:nvSpPr>
        <p:spPr>
          <a:xfrm>
            <a:off x="3200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3962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7"/>
          <p:cNvSpPr/>
          <p:nvPr/>
        </p:nvSpPr>
        <p:spPr>
          <a:xfrm>
            <a:off x="4800600" y="5486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8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48006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864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35960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45104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5"/>
          <p:cNvSpPr/>
          <p:nvPr/>
        </p:nvSpPr>
        <p:spPr>
          <a:xfrm>
            <a:off x="22244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6"/>
          <p:cNvSpPr/>
          <p:nvPr/>
        </p:nvSpPr>
        <p:spPr>
          <a:xfrm>
            <a:off x="313092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7"/>
          <p:cNvSpPr/>
          <p:nvPr/>
        </p:nvSpPr>
        <p:spPr>
          <a:xfrm>
            <a:off x="38930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8"/>
          <p:cNvSpPr/>
          <p:nvPr/>
        </p:nvSpPr>
        <p:spPr>
          <a:xfrm>
            <a:off x="488376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9"/>
          <p:cNvSpPr/>
          <p:nvPr/>
        </p:nvSpPr>
        <p:spPr>
          <a:xfrm>
            <a:off x="580608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30628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390096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2"/>
          <p:cNvSpPr/>
          <p:nvPr/>
        </p:nvSpPr>
        <p:spPr>
          <a:xfrm>
            <a:off x="473112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3"/>
          <p:cNvSpPr/>
          <p:nvPr/>
        </p:nvSpPr>
        <p:spPr>
          <a:xfrm>
            <a:off x="534888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4"/>
          <p:cNvSpPr/>
          <p:nvPr/>
        </p:nvSpPr>
        <p:spPr>
          <a:xfrm>
            <a:off x="60346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1144440" y="3886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1144080" y="4724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7"/>
          <p:cNvSpPr/>
          <p:nvPr/>
        </p:nvSpPr>
        <p:spPr>
          <a:xfrm>
            <a:off x="1143720" y="5562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no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5: Sex-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6: Extens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925720" y="3075120"/>
            <a:ext cx="4389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9:42:59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2:25:20Z</dcterms:modified>
  <cp:revision>39</cp:revision>
  <dc:subject/>
  <dc:title>Inheritance</dc:title>
</cp:coreProperties>
</file>