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04CA-15A4-4B34-B00C-5C5288E185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35D-2BD0-497B-AA24-458079BA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E58-9607-4A66-BBE7-C711AA28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7FC-8DA7-40AA-8020-7C83DC77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EC6-B2BF-4AD7-89F2-9E3599DB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8E7-309E-4EBC-83F7-D4A25A38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15A-0C16-421E-A3AB-997AC0DF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DB6-EBE0-4FCD-A93D-6FC2D481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051-249C-488D-BCFA-FF2012CD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8374-F106-4649-8612-0BB25774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CAE-469E-4D05-8C04-C5129259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50F-21D2-421F-A244-0B66C650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F33-6FDC-4748-A100-6FED5C14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BB11-596C-45D5-B3D1-67B0E12BC1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absorption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06test_wavelength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asuring light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ectromet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used to measure the amount of absorption at each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ction spectru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ows the rate of photosynthesis at different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ig5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86400" y="533520"/>
            <a:ext cx="327672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lorophyll A and B absorb light mostly in the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re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lu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ions of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otene and xanthophyll absorb light from other regions and pass the energy to chlorophy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ow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ject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lorophyll C instead of chlorophyll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wide absorpti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bsorbs light in parts of the spectrum where chlorophyll is less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chlorophyll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red seaweed"/>
          <p:cNvPicPr/>
          <p:nvPr/>
        </p:nvPicPr>
        <p:blipFill>
          <a:blip r:embed="rId1"/>
          <a:stretch/>
        </p:blipFill>
        <p:spPr>
          <a:xfrm>
            <a:off x="533520" y="3276720"/>
            <a:ext cx="2865240" cy="35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55071581"/>
          <p:cNvPicPr/>
          <p:nvPr/>
        </p:nvPicPr>
        <p:blipFill>
          <a:blip r:embed="rId2"/>
          <a:stretch/>
        </p:blipFill>
        <p:spPr>
          <a:xfrm>
            <a:off x="6116760" y="3355920"/>
            <a:ext cx="3027240" cy="3502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ee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nd in shallow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not have 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es not have 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15021526"/>
          <p:cNvPicPr/>
          <p:nvPr/>
        </p:nvPicPr>
        <p:blipFill>
          <a:blip r:embed="rId1"/>
          <a:stretch/>
        </p:blipFill>
        <p:spPr>
          <a:xfrm>
            <a:off x="4697280" y="2133720"/>
            <a:ext cx="4446720" cy="4724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hloroplast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753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219320" y="274320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6:35Z</dcterms:created>
  <dc:creator>hhashmi</dc:creator>
  <dc:description/>
  <dc:language>en-US</dc:language>
  <cp:lastModifiedBy>LEGION2</cp:lastModifiedBy>
  <dcterms:modified xsi:type="dcterms:W3CDTF">2016-01-12T13:34:01Z</dcterms:modified>
  <cp:revision>6</cp:revision>
  <dc:subject/>
  <dc:title>Absorption of Light by Chlorophyll</dc:title>
</cp:coreProperties>
</file>