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59F2-92CE-4EFF-A60F-6DCD8741AB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8CE-28B0-4FBD-9342-917C39B9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4A5-F6D2-47D7-B032-B14A38C8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B44-52CC-4EB2-BEC8-0827C59A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529-D91E-4A7D-97BB-0DBCEBD9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C3BF-E442-4796-93EC-3C4CF75D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865-724E-4082-AB9F-0BC08D35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F8D-ABB9-468F-B1E3-077F1DEB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6D0-2980-4D94-AACD-23BAB5F1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4ED-2401-43A6-9BD2-7EAA7C08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8CC-3E16-4698-BA6E-08EE0EFB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663-1851-4318-ABEA-F2ED5EF8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EAD-1D26-4A1E-BB0A-51CCCCDD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A021-6D78-4854-835C-A8032DB781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absorption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06test_wavelength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asuring light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ectromete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used to measure the amount of absorption at each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ction spectru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hows the rate of photosynthesis at different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ig5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86400" y="533520"/>
            <a:ext cx="327672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lorophyll A and B absorb light mostly in the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red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lu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gions of th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otene and xanthophyll absorb light from other regions and pass the energy to chlorophy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ow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ject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lorophyll C instead of chlorophyll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wide absorpti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bsorbs light in parts of the spectrum where chlorophyll is less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ve chlorophyll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red seaweed"/>
          <p:cNvPicPr/>
          <p:nvPr/>
        </p:nvPicPr>
        <p:blipFill>
          <a:blip r:embed="rId1"/>
          <a:stretch/>
        </p:blipFill>
        <p:spPr>
          <a:xfrm>
            <a:off x="533520" y="3276720"/>
            <a:ext cx="2865240" cy="358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55071581"/>
          <p:cNvPicPr/>
          <p:nvPr/>
        </p:nvPicPr>
        <p:blipFill>
          <a:blip r:embed="rId2"/>
          <a:stretch/>
        </p:blipFill>
        <p:spPr>
          <a:xfrm>
            <a:off x="6116760" y="3355920"/>
            <a:ext cx="3027240" cy="3502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ee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nd in shallow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not have 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es not have 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15021526"/>
          <p:cNvPicPr/>
          <p:nvPr/>
        </p:nvPicPr>
        <p:blipFill>
          <a:blip r:embed="rId1"/>
          <a:stretch/>
        </p:blipFill>
        <p:spPr>
          <a:xfrm>
            <a:off x="4697280" y="2133720"/>
            <a:ext cx="4446720" cy="4724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hloroplast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753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1219320" y="2743200"/>
            <a:ext cx="1066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6:35Z</dcterms:created>
  <dc:creator>hhashmi</dc:creator>
  <dc:description/>
  <dc:language>en-US</dc:language>
  <cp:lastModifiedBy>LEGION2</cp:lastModifiedBy>
  <dcterms:modified xsi:type="dcterms:W3CDTF">2016-01-12T13:34:01Z</dcterms:modified>
  <cp:revision>6</cp:revision>
  <dc:subject/>
  <dc:title>Absorption of Light by Chlorophyll</dc:title>
</cp:coreProperties>
</file>