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AB83-0339-4CD5-8055-F8FF0EB69B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study two types of animal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the mouse in the ma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study two types of anim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the mouse in the m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ype is instinctive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nctive behavior is something the animal is born knowing how to 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fish swimming and geese migrating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ther examples can you think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ype is instinctiv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nctive behavior is something the animal is born knowing how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fish swimming and geese migr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ther examples can you think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type is learned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can probably guess, learned behavior is not instin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are not born knowing what to do or how to do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ed behavior is learned by experience and sometimes from a pa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lions and leopards learning how to hunt by watching and practicing with their m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type is learne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can probably guess, learned behavior is not instin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are not born knowing what to do or how to d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ed behavior is learned by experience and sometimes from a pa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lions and leopards learning how to hunt by watching and practicing with their m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behavior – think, think, think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of your behavior are instin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are learn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do you learn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three things you have learned in the last week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behavior – think, think, 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of your behavior are instin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are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do you learn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three things you have learned in the last wee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2E8-1225-4867-A2A6-B7F31A88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166-015E-406C-81E5-F2F01B6A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AE1-E115-467D-A765-A765B3B1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4DE0-ED90-4D24-B1B9-1B1CEE40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82B6-079B-43AB-80BC-A1CFB53D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2BB2-F7C6-4CD5-91C7-CA8F3CF3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A76E-CE5E-425B-B417-7F6A3CDA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B56E-C909-4316-96D6-DAB3E2AE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FE47-E2D0-4199-8F4C-1092FBBF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AA96-D3FC-484C-9D8B-DBC1EF12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B8E3-8210-48E1-BCC5-5652D284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CDD-EB6F-4782-BAD8-E63F5D99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A9F7-F2EC-4681-8402-A1700BBA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01D7-8873-4807-8C6A-D4888133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44AE-D8D1-445D-8ACE-98EFD5F7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C8D8-5ABB-45E5-882F-8BFACFEB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BFDB-8692-4469-BB9A-9E6CC4F5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AE696-6F85-4752-8C82-2D177EDF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C522C-2802-400B-8542-AC325D8D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EA907-B178-43A8-A3AE-B98259C3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00FD4-24E6-4C6F-BD4D-4D62464B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2FE4A-A6E5-49C6-A4E9-BE8DC7D7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42B-DE45-480A-9FD7-9247F3AA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D0045-609C-49A5-8518-F2C7C946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0CAAE-8E8E-44D8-9F0F-44B0A3D4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68D26-0295-4A02-8A51-6846D119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D042D-8DA1-4E86-9ADD-0A38D888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5ED69-A1E4-44CA-9CB0-8931562A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56444-3A52-454E-ACFE-1F59EEE6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1DAEB-9944-426B-902C-C34AB171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72735-E51D-41D6-A2A8-DD4CCB21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C0DA3-AB8A-43A6-ADB3-404E2E3C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72369-A6B1-4872-B3B5-B0799A1B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7B7-3449-426F-AA76-3F1E5E45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05437-5DBC-4952-AA6C-44CC5D23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52207-FEAD-4313-97E7-FD60268C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DA7BB-FBFC-4C83-9FA2-4DF6701C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0A340-4B98-418C-9AA9-44955D76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705B5-BC5F-4B80-BFB3-111A711C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E5AB5-61FD-403D-8519-DC73D26E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6F9C7-967E-461E-8F28-6D6C03F6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09DE6-7419-4FBD-A7F4-E7AC10E9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DFD17-B680-4A1B-9317-A528C377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3F343-17B9-46A5-83F6-E258E23F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2EF-1667-4E54-84F2-56908C91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33A7D-F07B-48F0-9942-905E2F3D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476CC-395C-4582-8CB9-0E0FF947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6405F-4B11-4097-9870-DE85CFE9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396C9-AB33-49E8-9BE8-EBF58F42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75678-CB25-4DCC-892E-FA7CABFD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1EAFE-B23E-48C8-810F-2A57DD3B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F13DF-683D-4D39-9D92-1D006ABB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483AE-7B8F-4476-BA53-966E4927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F06BE-CFEB-408E-82F1-F0C837ED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9AD0E-D308-4FF1-BA40-58BBF075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F1C-B4DB-4A3C-AAB6-25EA2C9E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5C311-9374-4264-ADE9-FE056C03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7C6-8215-4130-8EDC-238CCE09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6C9-020E-4B92-9FBE-738ED533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A348-BCA4-4B07-9087-8B1CA757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C5BD-A28D-4217-9F16-1C47205E1036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F08A-66A4-48C6-B8E9-A83A55A5BED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0593-E859-428B-B61A-C1D09E704324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0AEF-3B38-458F-8C9B-999ABA5DF3E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36CA-7258-45C1-BFF7-E4FB6F505A6D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636E-7532-4071-8E34-DE9F4251AEE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2FC7-EEFA-4D6A-A294-21263BCA0975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7060-EE6C-44C1-B7BC-4BB9F303616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5E45-F8FF-4224-9C3A-B3A5362C6C4E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3F85-057C-4D9E-AFA5-B6A398DD6EC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Perpetua"/>
              </a:rPr>
              <a:t>We will study two types of animal behavi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Perpetua"/>
              </a:rPr>
              <a:t>You are the mouse in the maz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Animal Behavior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237" name="Picture 5" descr="C:\Documents and Settings\carolyn.kinne\Local Settings\Temporary Internet Files\Content.IE5\XKKQW3N2\MCj04125760000[1].wmf"/>
          <p:cNvPicPr/>
          <p:nvPr/>
        </p:nvPicPr>
        <p:blipFill>
          <a:blip r:embed="rId1"/>
          <a:stretch/>
        </p:blipFill>
        <p:spPr>
          <a:xfrm>
            <a:off x="3581280" y="4191120"/>
            <a:ext cx="1903680" cy="2322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Book"/>
              </a:rPr>
              <a:t>The first type is instinctive behavior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stinctive behavior is something the animal is born knowing how to d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include fish swimming and geese migrating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other examples can you think of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2" descr="C:\Documents and Settings\carolyn.kinne\Local Settings\Temporary Internet Files\Content.IE5\E2LUDJLQ\MPj04310460000[1].jpg"/>
          <p:cNvPicPr/>
          <p:nvPr/>
        </p:nvPicPr>
        <p:blipFill>
          <a:blip r:embed="rId1"/>
          <a:stretch/>
        </p:blipFill>
        <p:spPr>
          <a:xfrm>
            <a:off x="304920" y="3429000"/>
            <a:ext cx="4495680" cy="3068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Documents and Settings\carolyn.kinne\Local Settings\Temporary Internet Files\Content.IE5\60TCN93U\MPj02627520000[1].jpg"/>
          <p:cNvPicPr/>
          <p:nvPr/>
        </p:nvPicPr>
        <p:blipFill>
          <a:blip r:embed="rId2"/>
          <a:stretch/>
        </p:blipFill>
        <p:spPr>
          <a:xfrm>
            <a:off x="4952880" y="342900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The other type is learned behavior.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you can probably guess, learned behavior is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stinctiv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imals are not born knowing what to do or how to do i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rned behavior is learned by experience and sometimes from a par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include lions and leopards learning how to hunt by watching and practicing with their mother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2" descr="C:\Documents and Settings\carolyn.kinne\Local Settings\Temporary Internet Files\Content.IE5\60TCN93U\MPj03138350000[1].jpg"/>
          <p:cNvPicPr/>
          <p:nvPr/>
        </p:nvPicPr>
        <p:blipFill>
          <a:blip r:embed="rId1"/>
          <a:stretch/>
        </p:blipFill>
        <p:spPr>
          <a:xfrm>
            <a:off x="1295280" y="4648320"/>
            <a:ext cx="2895840" cy="194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C:\Documents and Settings\carolyn.kinne\Local Settings\Temporary Internet Files\Content.IE5\60TCN93U\MPj04038420000[1].jpg"/>
          <p:cNvPicPr/>
          <p:nvPr/>
        </p:nvPicPr>
        <p:blipFill>
          <a:blip r:embed="rId2"/>
          <a:stretch/>
        </p:blipFill>
        <p:spPr>
          <a:xfrm>
            <a:off x="5257800" y="4648320"/>
            <a:ext cx="2895480" cy="19303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Your behavior – think, think, think…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at parts of </a:t>
            </a: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behavior are instinctive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at parts are learned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o do you learn from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ame three things </a:t>
            </a: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you have learned 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n the last week…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4" descr="C:\Documents and Settings\carolyn.kinne\Local Settings\Temporary Internet Files\Content.IE5\E2LUDJLQ\MPj04387390000[1].jpg"/>
          <p:cNvPicPr/>
          <p:nvPr/>
        </p:nvPicPr>
        <p:blipFill>
          <a:blip r:embed="rId1"/>
          <a:stretch/>
        </p:blipFill>
        <p:spPr>
          <a:xfrm>
            <a:off x="4876920" y="388620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:\Documents and Settings\carolyn.kinne\Local Settings\Temporary Internet Files\Content.IE5\E2LUDJLQ\MPj04365880000[1].jpg"/>
          <p:cNvPicPr/>
          <p:nvPr/>
        </p:nvPicPr>
        <p:blipFill>
          <a:blip r:embed="rId2"/>
          <a:stretch/>
        </p:blipFill>
        <p:spPr>
          <a:xfrm>
            <a:off x="1066680" y="4419720"/>
            <a:ext cx="1474920" cy="2209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C:\Documents and Settings\carolyn.kinne\Local Settings\Temporary Internet Files\Content.IE5\60TCN93U\MCj04151440000[1].wmf"/>
          <p:cNvPicPr/>
          <p:nvPr/>
        </p:nvPicPr>
        <p:blipFill>
          <a:blip r:embed="rId3"/>
          <a:stretch/>
        </p:blipFill>
        <p:spPr>
          <a:xfrm>
            <a:off x="2895480" y="4038480"/>
            <a:ext cx="1609920" cy="264348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8:49:12Z</dcterms:created>
  <dc:creator>Ector County ISD Employee</dc:creator>
  <dc:description/>
  <dc:language>en-US</dc:language>
  <cp:lastModifiedBy>LEGION2</cp:lastModifiedBy>
  <dcterms:modified xsi:type="dcterms:W3CDTF">2016-01-12T13:42:21Z</dcterms:modified>
  <cp:revision>8</cp:revision>
  <dc:subject/>
  <dc:title>Animal Behavior</dc:title>
</cp:coreProperties>
</file>