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84D3-B47A-4088-9388-6C02E9778F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6B9-D18D-49E4-9D86-2996C412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30D-9984-4E51-B6FE-B149567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119-0D0B-4D59-A1B3-A3FC421C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865-CE02-40D5-AC06-DBFAD31B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AFB7-06D4-4381-84C7-A558C403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9862-8FD2-432C-B445-325419F6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A27C-A7F0-4408-A3C5-2013502C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CB96-C4D2-46B4-B12D-7E7D6D5B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38FD-4E3E-4130-BDDF-8D91870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FA8E-F1BF-4E7C-830D-AD52FF7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1852-AF21-4FC5-B4A4-D6468C41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A7C-48FA-495B-9876-353C482D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948B-A1B2-4DC6-A9DC-86CCFCA2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8F1C-D7D7-4A7E-B8BB-ED38290A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CD7C-051D-420C-B255-BAF8BF1F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1701-A131-49F2-8D7B-86CF5C52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7943-8900-4E97-9CD0-7224F464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64DD-DA9C-405D-AE6B-81365023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0705-480A-4C1C-8142-D64880D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E410E-1CF1-4CB0-9A2E-656587BB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10AC-1CEF-42E7-9273-922570E4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52E6-5034-4FB8-BCA1-AFCD4BA5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B15-09EC-48DB-B9A3-9F29951F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96C4-3EC1-4CB3-A965-E3F6F98F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9DE9-5A93-4CE6-A45A-1C2F20A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9BCC-CFBA-49BB-91FD-51ED0E2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3315-48D5-4C84-BFEC-C081F57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C891-4245-4966-B8D9-DDAEDA7C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994F-B97B-43A6-9FC0-6AB94403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67A4-1C39-4DC3-AE4C-4D4B1B37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E6199-7D37-4527-96DB-A89D70C9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4E6DC-792A-4E90-9519-2D56A3C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5BBA9-0920-4582-910E-757AF244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F6B-D178-46B4-B730-99C5B996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64A9E-378B-4A4D-A7B0-A4994501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DC775-362D-4354-88EB-CBF7BF10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97D9-52DB-43A7-B1EC-3919ABE8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3313E-A88D-4DDB-8711-111C92C6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2E4A-EE67-4756-B7E3-513D13B1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3F39-74A8-4CEF-9E7F-094B4718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AB4F-99EC-41A7-ADEB-6D21F3EF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A797B-ECBB-4591-BE35-45C0B4FB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6994-C18E-4B16-A9F9-270F7550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0B0E-6FD9-4A99-9233-00934328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216-2459-427B-9624-88440507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8F5C-991B-4574-8CC1-09033615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B6E6-48C0-4B2A-BD2D-E61D51CD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D9FFC-12B2-4C42-A5F5-2482F270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F112-9134-4BEF-9088-7CD6E0CA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FBA42-C7D7-4D30-BC15-509F4F2D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9CD83-FD5B-4354-A107-B122AE48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E1C46-0CD3-42D1-88B7-13C688E4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8CEC9-60D3-4FE4-B3AB-386C0D09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1EA7-2BA9-4590-8DAC-15A3503D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3BF1D-03EE-4A0B-930F-971986AC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EB9-668E-4007-BB9B-7E6C2517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304AB-0395-452A-B99B-E58F7A7E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FDB-637F-4AA3-8111-3D39AA28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F8D-D426-4B44-907F-4C8980A0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637-3F49-4E95-933D-1C7189F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D795-59B5-487A-9839-CB768E15E6DA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E740-256B-4FC0-8128-BB703304010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6A60-C1BC-4B5B-865F-20790E80CE3F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BF08-A474-4711-88EB-648AE788FD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212B-3163-49B8-AA3A-D4BD7CFF9CD2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BC3C-463B-43EB-8353-99358AD565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A944-45B0-4314-87AD-A6D330AAED7A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A01C-7E3D-4DFD-B5F4-611D19436D5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ECAC-05D1-4669-8C74-B3B9E973D0CC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27AC-1C09-42A4-8C2D-D0FCC48C58E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We will study two types of animal behavi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You are the mouse in the ma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nimal Behavio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237" name="Picture 5" descr="C:\Documents and Settings\carolyn.kinne\Local Settings\Temporary Internet Files\Content.IE5\XKKQW3N2\MCj04125760000[1].wmf"/>
          <p:cNvPicPr/>
          <p:nvPr/>
        </p:nvPicPr>
        <p:blipFill>
          <a:blip r:embed="rId1"/>
          <a:stretch/>
        </p:blipFill>
        <p:spPr>
          <a:xfrm>
            <a:off x="3581280" y="4191120"/>
            <a:ext cx="1903680" cy="2322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Book"/>
              </a:rPr>
              <a:t>The first type is instinctive behavior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inctive behavior is something the animal is born knowing how to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fish swimming and geese migratin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other examples can you think of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Documents and Settings\carolyn.kinne\Local Settings\Temporary Internet Files\Content.IE5\E2LUDJLQ\MPj04310460000[1].jpg"/>
          <p:cNvPicPr/>
          <p:nvPr/>
        </p:nvPicPr>
        <p:blipFill>
          <a:blip r:embed="rId1"/>
          <a:stretch/>
        </p:blipFill>
        <p:spPr>
          <a:xfrm>
            <a:off x="304920" y="342900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Documents and Settings\carolyn.kinne\Local Settings\Temporary Internet Files\Content.IE5\60TCN93U\MPj02627520000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The other type is learned behavior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you can probably guess, learned behavior i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tin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s are not born knowing what to do or how to d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rned behavior is learned by experience and sometimes from a par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lions and leopards learning how to hunt by watching and practicing with their m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Documents and Settings\carolyn.kinne\Local Settings\Temporary Internet Files\Content.IE5\60TCN93U\MPj03138350000[1].jpg"/>
          <p:cNvPicPr/>
          <p:nvPr/>
        </p:nvPicPr>
        <p:blipFill>
          <a:blip r:embed="rId1"/>
          <a:stretch/>
        </p:blipFill>
        <p:spPr>
          <a:xfrm>
            <a:off x="1295280" y="4648320"/>
            <a:ext cx="289584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Documents and Settings\carolyn.kinne\Local Settings\Temporary Internet Files\Content.IE5\60TCN93U\MPj04038420000[1].jpg"/>
          <p:cNvPicPr/>
          <p:nvPr/>
        </p:nvPicPr>
        <p:blipFill>
          <a:blip r:embed="rId2"/>
          <a:stretch/>
        </p:blipFill>
        <p:spPr>
          <a:xfrm>
            <a:off x="5257800" y="46483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Your behavior – think, think, think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of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behavior are instinctive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are learned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o do you learn from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me three things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 have learned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 the last week…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C:\Documents and Settings\carolyn.kinne\Local Settings\Temporary Internet Files\Content.IE5\E2LUDJLQ\MPj04387390000[1].jpg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carolyn.kinne\Local Settings\Temporary Internet Files\Content.IE5\E2LUDJLQ\MPj04365880000[1].jpg"/>
          <p:cNvPicPr/>
          <p:nvPr/>
        </p:nvPicPr>
        <p:blipFill>
          <a:blip r:embed="rId2"/>
          <a:stretch/>
        </p:blipFill>
        <p:spPr>
          <a:xfrm>
            <a:off x="1066680" y="4419720"/>
            <a:ext cx="1474920" cy="220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C:\Documents and Settings\carolyn.kinne\Local Settings\Temporary Internet Files\Content.IE5\60TCN93U\MCj04151440000[1].wmf"/>
          <p:cNvPicPr/>
          <p:nvPr/>
        </p:nvPicPr>
        <p:blipFill>
          <a:blip r:embed="rId3"/>
          <a:stretch/>
        </p:blipFill>
        <p:spPr>
          <a:xfrm>
            <a:off x="2895480" y="4038480"/>
            <a:ext cx="1609920" cy="26434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8:49:12Z</dcterms:created>
  <dc:creator>Ector County ISD Employee</dc:creator>
  <dc:description/>
  <dc:language>en-US</dc:language>
  <cp:lastModifiedBy>LEGION2</cp:lastModifiedBy>
  <dcterms:modified xsi:type="dcterms:W3CDTF">2016-01-12T13:42:21Z</dcterms:modified>
  <cp:revision>8</cp:revision>
  <dc:subject/>
  <dc:title>Animal Behavior</dc:title>
</cp:coreProperties>
</file>