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1A03-3549-4885-95D1-25498939E28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study two types of animal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 the mouse in the ma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 Behav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study two types of animal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 the mouse in the m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 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type is instinctive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inctive behavior is something the animal is born knowing how to 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 fish swimming and geese migrating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ther examples can you think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type is instinctive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inctive behavior is something the animal is born knowing how to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 fish swimming and geese migrat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ther examples can you think o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ther type is learned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you can probably guess, learned behavior is not instin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are not born knowing what to do or how to do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rned behavior is learned by experience and sometimes from a par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 lions and leopards learning how to hunt by watching and practicing with their moth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ther type is learned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you can probably guess, learned behavior is not instin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are not born knowing what to do or how to d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rned behavior is learned by experience and sometimes from a pa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 lions and leopards learning how to hunt by watching and practicing with their m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behavior – think, think, think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s of your behavior are instinct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s are learn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do you learn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three things you have learned in the last week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behavior – think, think, thin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s of your behavior are instin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s are lear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do you learn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three things you have learned in the last wee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5CAB-F505-4BCA-A65F-5BF09A13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0CA0-9341-4545-90C2-92144810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E0A8-104B-4465-905B-DB0993683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7B96-BC15-4777-AB45-62D0BA3D5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574D-4230-496F-A2AB-07B333A4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7E66-A7F4-43F4-8EDC-428A8FB6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F3A0-16F5-4230-96E2-12F88E50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757A-B14F-4677-88E2-0F54823C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7953-3731-402F-B360-3FB8DF82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562D-346B-4E26-A228-3782EA51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A98A-95F6-45B6-8D76-A4029217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954E-35B5-4979-87DE-BEEE0FD2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249F-6A0F-4D1F-88CE-82C80886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63C7-DAC2-4A6E-A2A1-0DF8DE29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ACB5-A28E-4EC7-972A-95B2D354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D88C-72F7-44AE-96F6-26A9AB55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F1FA-B047-4E9A-A8D7-2C31A567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D3DA4-3753-48A8-AB3D-045E6FC21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F99A3-FAAF-43CB-8ADE-9D34C6C4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9A1A8-5235-448B-9BE0-16373A31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D5C9D-BBD5-4331-B4E3-8C504CF9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3DA6F-2DAE-4E4C-B098-7B702F94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FBC3-1C4B-41F2-9339-82F327CD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372FE-A999-4CD3-A7C4-D95F0E83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3CA2D-5BD7-467F-9565-A3EA6A9B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D3461-725F-4419-9B61-52AB5E30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4A795-BB0E-4165-BF35-E8979997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E6848-D39B-4671-B5FF-B1A5E323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7A7A8-9CAC-4C6E-BE2E-D793D919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CB42E-6B30-4F83-9AEF-D963E7B9D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96EA1-3627-4DA5-8F65-E4644A8BB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BBAF9-7399-4850-AF08-AD1DDB85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370DA-1148-4913-94F2-4B061DBB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2BBA-3187-4736-AF91-D1BFCF9D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98FA1-39CF-4A50-B65D-ECD08185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890D7-7426-468E-AD3C-3BC5259F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94251-36D1-4B49-9414-D71B7FCF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6DDF8-FF6E-4C38-B7DD-3C9E9E72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FC75E-30B4-45C9-A971-2099225A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52B58-79D0-4667-8CB0-B7AABB1D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164D3-2B8C-4AAF-8CAF-418B6B76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6CF08-A5C3-4FE6-85CF-560EB5FF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DC5C3-E847-4ED1-A637-84D1AFB4E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0899B-71F4-4091-BED6-BED482A1F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AC62-F581-4830-823F-CA06F7C6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72797-AFAC-458D-8508-6566908F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A9E74-47FB-4751-AC94-C8847592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ED8A2-3E14-4B60-BCA7-31542826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DF900-6E2C-4DA0-B3CB-6189DB29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8D52B-5C6D-4600-9627-934C4F01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FDC7B-C71C-4A63-99C8-F5BA3FF8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0005C-98F1-46E1-9D01-BC31587E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FB9F0-8FD3-4C52-AAF6-1C1784DC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D96F0-A10F-4F96-A001-CB74D744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5C9EE-9E11-4A7A-97EF-1A7260F7C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0260-B2ED-4E46-A380-95250E92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7C7F4-9F04-4F04-9C16-9AFE591F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2BCE-E094-4F21-971F-9C50E61D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2C48-B1F7-46FD-9E76-AF5AE08C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A241-BAEB-4BCB-8FD4-D163ACD3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4F50-02B6-4818-8D28-61D8D19FEF25}" type="datetime">
              <a:rPr b="0" lang="en-US" sz="1400" spc="-1" strike="noStrike">
                <a:solidFill>
                  <a:srgbClr val="464646"/>
                </a:solidFill>
                <a:latin typeface="Perpetu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867D-CB14-48B6-A068-EA8D8CBFB25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EAFD-D0F4-4310-AD32-9096FB08BFF7}" type="datetime">
              <a:rPr b="0" lang="en-US" sz="1400" spc="-1" strike="noStrike">
                <a:solidFill>
                  <a:srgbClr val="464646"/>
                </a:solidFill>
                <a:latin typeface="Perpetu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5A50-7582-4DED-B4DB-848B857FA33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B5C5-3CBB-4722-BC9F-6C4351DE7317}" type="datetime">
              <a:rPr b="0" lang="en-US" sz="1400" spc="-1" strike="noStrike">
                <a:solidFill>
                  <a:srgbClr val="464646"/>
                </a:solidFill>
                <a:latin typeface="Perpetu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34AE-9380-48C1-B2A6-295A3C93EE6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402E-811B-44D2-A949-2F9250E21F46}" type="datetime">
              <a:rPr b="0" lang="en-US" sz="1400" spc="-1" strike="noStrike">
                <a:solidFill>
                  <a:srgbClr val="464646"/>
                </a:solidFill>
                <a:latin typeface="Perpetu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A928-B28F-4D64-BA86-11996D67CD8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83A4-6CE6-4EDF-90EE-C20CF5931E3B}" type="datetime">
              <a:rPr b="0" lang="en-US" sz="1400" spc="-1" strike="noStrike">
                <a:solidFill>
                  <a:srgbClr val="464646"/>
                </a:solidFill>
                <a:latin typeface="Perpetu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E86F-1155-448E-A502-341032446DC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Perpetua"/>
              </a:rPr>
              <a:t>We will study two types of animal behavio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Perpetua"/>
              </a:rPr>
              <a:t>You are the mouse in the maz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Animal Behavior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237" name="Picture 5" descr="C:\Documents and Settings\carolyn.kinne\Local Settings\Temporary Internet Files\Content.IE5\XKKQW3N2\MCj04125760000[1].wmf"/>
          <p:cNvPicPr/>
          <p:nvPr/>
        </p:nvPicPr>
        <p:blipFill>
          <a:blip r:embed="rId1"/>
          <a:stretch/>
        </p:blipFill>
        <p:spPr>
          <a:xfrm>
            <a:off x="3581280" y="4191120"/>
            <a:ext cx="1903680" cy="23223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Book"/>
              </a:rPr>
              <a:t>The first type is instinctive behavior.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stinctive behavior is something the animal is born knowing how to do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s include fish swimming and geese migrating.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at other examples can you think of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1" name="Picture 2" descr="C:\Documents and Settings\carolyn.kinne\Local Settings\Temporary Internet Files\Content.IE5\E2LUDJLQ\MPj04310460000[1].jpg"/>
          <p:cNvPicPr/>
          <p:nvPr/>
        </p:nvPicPr>
        <p:blipFill>
          <a:blip r:embed="rId1"/>
          <a:stretch/>
        </p:blipFill>
        <p:spPr>
          <a:xfrm>
            <a:off x="304920" y="3429000"/>
            <a:ext cx="4495680" cy="3068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Documents and Settings\carolyn.kinne\Local Settings\Temporary Internet Files\Content.IE5\60TCN93U\MPj02627520000[1].jpg"/>
          <p:cNvPicPr/>
          <p:nvPr/>
        </p:nvPicPr>
        <p:blipFill>
          <a:blip r:embed="rId2"/>
          <a:stretch/>
        </p:blipFill>
        <p:spPr>
          <a:xfrm>
            <a:off x="4952880" y="3429000"/>
            <a:ext cx="3886200" cy="304812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The other type is learned behavior.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 you can probably guess, learned behavior is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nstinctiv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imals are not born knowing what to do or how to do i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arned behavior is learned by experience and sometimes from a paren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s include lions and leopards learning how to hunt by watching and practicing with their mother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2" descr="C:\Documents and Settings\carolyn.kinne\Local Settings\Temporary Internet Files\Content.IE5\60TCN93U\MPj03138350000[1].jpg"/>
          <p:cNvPicPr/>
          <p:nvPr/>
        </p:nvPicPr>
        <p:blipFill>
          <a:blip r:embed="rId1"/>
          <a:stretch/>
        </p:blipFill>
        <p:spPr>
          <a:xfrm>
            <a:off x="1295280" y="4648320"/>
            <a:ext cx="2895840" cy="1944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C:\Documents and Settings\carolyn.kinne\Local Settings\Temporary Internet Files\Content.IE5\60TCN93U\MPj04038420000[1].jpg"/>
          <p:cNvPicPr/>
          <p:nvPr/>
        </p:nvPicPr>
        <p:blipFill>
          <a:blip r:embed="rId2"/>
          <a:stretch/>
        </p:blipFill>
        <p:spPr>
          <a:xfrm>
            <a:off x="5257800" y="4648320"/>
            <a:ext cx="2895480" cy="193032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Your behavior – think, think, think…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What parts of </a:t>
            </a:r>
            <a:r>
              <a:rPr b="1" i="1" lang="en-US" sz="3600" spc="-1" strike="noStrike">
                <a:solidFill>
                  <a:srgbClr val="000000"/>
                </a:solidFill>
                <a:latin typeface="Perpetua"/>
              </a:rPr>
              <a:t>your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 behavior are instinctive?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What parts are learned?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Who do you learn from?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Name three things </a:t>
            </a:r>
            <a:r>
              <a:rPr b="1" i="1" lang="en-US" sz="3600" spc="-1" strike="noStrike">
                <a:solidFill>
                  <a:srgbClr val="000000"/>
                </a:solidFill>
                <a:latin typeface="Perpetua"/>
              </a:rPr>
              <a:t>you have learned 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in the last week…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1" name="Picture 4" descr="C:\Documents and Settings\carolyn.kinne\Local Settings\Temporary Internet Files\Content.IE5\E2LUDJLQ\MPj04387390000[1].jpg"/>
          <p:cNvPicPr/>
          <p:nvPr/>
        </p:nvPicPr>
        <p:blipFill>
          <a:blip r:embed="rId1"/>
          <a:stretch/>
        </p:blipFill>
        <p:spPr>
          <a:xfrm>
            <a:off x="4876920" y="3886200"/>
            <a:ext cx="3886200" cy="2590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C:\Documents and Settings\carolyn.kinne\Local Settings\Temporary Internet Files\Content.IE5\E2LUDJLQ\MPj04365880000[1].jpg"/>
          <p:cNvPicPr/>
          <p:nvPr/>
        </p:nvPicPr>
        <p:blipFill>
          <a:blip r:embed="rId2"/>
          <a:stretch/>
        </p:blipFill>
        <p:spPr>
          <a:xfrm>
            <a:off x="1066680" y="4419720"/>
            <a:ext cx="1474920" cy="2209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C:\Documents and Settings\carolyn.kinne\Local Settings\Temporary Internet Files\Content.IE5\60TCN93U\MCj04151440000[1].wmf"/>
          <p:cNvPicPr/>
          <p:nvPr/>
        </p:nvPicPr>
        <p:blipFill>
          <a:blip r:embed="rId3"/>
          <a:stretch/>
        </p:blipFill>
        <p:spPr>
          <a:xfrm>
            <a:off x="2895480" y="4038480"/>
            <a:ext cx="1609920" cy="264348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8:49:12Z</dcterms:created>
  <dc:creator>Ector County ISD Employee</dc:creator>
  <dc:description/>
  <dc:language>en-US</dc:language>
  <cp:lastModifiedBy>LEGION2</cp:lastModifiedBy>
  <dcterms:modified xsi:type="dcterms:W3CDTF">2016-01-12T13:42:21Z</dcterms:modified>
  <cp:revision>8</cp:revision>
  <dc:subject/>
  <dc:title>Animal Behavior</dc:title>
</cp:coreProperties>
</file>