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1D54-034F-4FC5-934E-B74642B8F1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2EE-392C-4A83-8AEB-2A96D1A1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242-5142-4122-AC27-40055E33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B8A-0C33-4C0C-A6AA-7D351963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2BF-3F48-4AA7-8FC4-BBF59C48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AC3B-5C10-45FC-9FD5-37F15958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A296-0F34-4DEF-ABB8-16B20F75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6E5D-5822-4DBA-970F-7EB36CF0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B352-6E29-414F-A8EB-9E9FBF04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286D-7F8B-4854-A68C-9CCD5ECC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8010-1E99-4CD1-965A-EFB24F58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87EE-170F-481B-A4C3-B318D5A8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D33-0A81-429B-8F76-879C8863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8112-4D1B-4D66-B873-07EF2FB9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C9B2-35AA-4B7A-B083-EF357196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D180-2204-45C1-925A-F6E1ED2D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3F1B-B65C-42F5-9AE9-CF4AC08F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DFCF-7F5C-4930-8C37-F96DB85B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55B-A73D-4958-88C5-E74EED33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74B-56BB-4299-8E36-D6F7ACEF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B6C-50D9-493D-A070-5CEE7018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C0B-909C-46AE-A0D0-7E6D3634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E203-6746-4DE8-A81B-0310D5C9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DBC-B8FD-442F-82C8-F41893A1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758-5ADA-4BA1-A91D-76A562E5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BB8B-CAD3-49C8-8BC5-04C86D178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8506-B1B9-4D34-8769-19264E5EC95E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4759"/>
          <p:cNvPicPr/>
          <p:nvPr/>
        </p:nvPicPr>
        <p:blipFill>
          <a:blip r:embed="rId1"/>
          <a:stretch/>
        </p:blipFill>
        <p:spPr>
          <a:xfrm>
            <a:off x="7196040" y="4292640"/>
            <a:ext cx="1947960" cy="256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234633"/>
          <p:cNvPicPr/>
          <p:nvPr/>
        </p:nvPicPr>
        <p:blipFill>
          <a:blip r:embed="rId1"/>
          <a:stretch/>
        </p:blipFill>
        <p:spPr>
          <a:xfrm>
            <a:off x="2411280" y="2205000"/>
            <a:ext cx="263376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Line 7"/>
          <p:cNvSpPr/>
          <p:nvPr/>
        </p:nvSpPr>
        <p:spPr>
          <a:xfrm flipH="1">
            <a:off x="4284720" y="278136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3995280" y="508464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4067280" y="414972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>
            <a:off x="3634920" y="378936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3305160" y="2025720"/>
          <a:ext cx="357192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2025720"/>
                    <a:ext cx="357192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Line 6"/>
          <p:cNvSpPr/>
          <p:nvPr/>
        </p:nvSpPr>
        <p:spPr>
          <a:xfrm flipV="1">
            <a:off x="4708440" y="28987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V="1">
            <a:off x="5292720" y="2334960"/>
            <a:ext cx="720720" cy="730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2800440" y="420840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2800440" y="3217680"/>
            <a:ext cx="1044360" cy="1983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5140440" y="40813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2873520" y="5143320"/>
            <a:ext cx="718920" cy="1443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5176800" y="363204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24000" y="6165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085914[1]"/>
          <p:cNvPicPr/>
          <p:nvPr/>
        </p:nvPicPr>
        <p:blipFill>
          <a:blip r:embed="rId1"/>
          <a:stretch/>
        </p:blipFill>
        <p:spPr>
          <a:xfrm>
            <a:off x="2322360" y="2852640"/>
            <a:ext cx="1197000" cy="201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j0085914[1]"/>
          <p:cNvPicPr/>
          <p:nvPr/>
        </p:nvPicPr>
        <p:blipFill>
          <a:blip r:embed="rId2"/>
          <a:stretch/>
        </p:blipFill>
        <p:spPr>
          <a:xfrm>
            <a:off x="5580000" y="2924280"/>
            <a:ext cx="1154160" cy="1942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4643280" y="2565360"/>
            <a:ext cx="3097440" cy="28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10:44Z</dcterms:created>
  <dc:creator>Paul</dc:creator>
  <dc:description/>
  <dc:language>en-US</dc:language>
  <cp:lastModifiedBy>RomaK</cp:lastModifiedBy>
  <dcterms:modified xsi:type="dcterms:W3CDTF">2015-09-04T11:38:12Z</dcterms:modified>
  <cp:revision>7</cp:revision>
  <dc:subject/>
  <dc:title>Pl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