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2B2-50B7-4420-8E23-EECECCA73C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id you mention st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831-FF5E-41FD-8055-032FBEA8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E77-1ABF-424D-81E4-FB72414C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342-0B3C-407B-9397-EDA002D3F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222-986B-45E8-95E9-7135772F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D83-6CAC-495C-A266-E4CB225C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136A-75CD-40AA-9642-8846DA35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CC55-DF25-407E-94FC-8E2F1DAF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E526-F7B5-41F4-A5C8-BDDB25E4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E5C4-8BB8-48DA-9D73-8C810EF0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E748-1D74-465B-8C36-0352FA95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2387-8734-4B40-B6B6-BF4F2A8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ABC-6375-4621-9A1C-42AA3999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955F-A64E-464B-9DCD-35DA74F1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0810-A9BE-46BC-AA3D-F173FDF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95BD-3BE7-42C0-B85E-7F71763C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E247-11DC-4198-B52C-9DE94320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C97-5A1A-4561-94E5-95B26E3B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8D3-5039-4012-BF79-C8259B4D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FC2-83E7-4EC2-A852-93F29CE3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D19-9981-4BB7-BCE3-CD7EDA9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099-5556-4071-81CC-063EE11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754-4759-4110-9CE5-C749CA04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835-D40B-4882-AFB9-6AA0CFC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F34-EE82-4CA7-AC37-7FD08CED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55E9-D867-43FE-A2BD-6E5E4F183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2680-6490-4F43-81D3-4805A58E3E5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4759"/>
          <p:cNvPicPr/>
          <p:nvPr/>
        </p:nvPicPr>
        <p:blipFill>
          <a:blip r:embed="rId1"/>
          <a:stretch/>
        </p:blipFill>
        <p:spPr>
          <a:xfrm>
            <a:off x="7196040" y="4292640"/>
            <a:ext cx="194796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imple stuf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633"/>
          <p:cNvPicPr/>
          <p:nvPr/>
        </p:nvPicPr>
        <p:blipFill>
          <a:blip r:embed="rId1"/>
          <a:stretch/>
        </p:blipFill>
        <p:spPr>
          <a:xfrm>
            <a:off x="2411280" y="2205000"/>
            <a:ext cx="263376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Line 7"/>
          <p:cNvSpPr/>
          <p:nvPr/>
        </p:nvSpPr>
        <p:spPr>
          <a:xfrm flipH="1">
            <a:off x="4284720" y="278136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995280" y="508464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4067280" y="4149720"/>
            <a:ext cx="1800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H="1">
            <a:off x="3634920" y="3789360"/>
            <a:ext cx="180036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lant cell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5"/>
          <p:cNvGraphicFramePr/>
          <p:nvPr/>
        </p:nvGraphicFramePr>
        <p:xfrm>
          <a:off x="3305160" y="2025720"/>
          <a:ext cx="357192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025720"/>
                    <a:ext cx="357192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6"/>
          <p:cNvSpPr/>
          <p:nvPr/>
        </p:nvSpPr>
        <p:spPr>
          <a:xfrm flipV="1">
            <a:off x="4708440" y="28987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 flipV="1">
            <a:off x="5292720" y="2334960"/>
            <a:ext cx="720720" cy="730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2800440" y="420840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800440" y="3217680"/>
            <a:ext cx="1044360" cy="1983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140440" y="4081320"/>
            <a:ext cx="1368360" cy="21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2873520" y="5143320"/>
            <a:ext cx="718920" cy="1443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5176800" y="3632040"/>
            <a:ext cx="863640" cy="21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is photosynthesi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4000" y="6165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66"/>
                </a:solidFill>
                <a:latin typeface="Arial"/>
              </a:rPr>
              <a:t>So why did you mention starch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he experiment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085914[1]"/>
          <p:cNvPicPr/>
          <p:nvPr/>
        </p:nvPicPr>
        <p:blipFill>
          <a:blip r:embed="rId1"/>
          <a:stretch/>
        </p:blipFill>
        <p:spPr>
          <a:xfrm>
            <a:off x="2322360" y="2852640"/>
            <a:ext cx="1197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j0085914[1]"/>
          <p:cNvPicPr/>
          <p:nvPr/>
        </p:nvPicPr>
        <p:blipFill>
          <a:blip r:embed="rId2"/>
          <a:stretch/>
        </p:blipFill>
        <p:spPr>
          <a:xfrm>
            <a:off x="5580000" y="2924280"/>
            <a:ext cx="11541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6"/>
          <p:cNvSpPr/>
          <p:nvPr/>
        </p:nvSpPr>
        <p:spPr>
          <a:xfrm>
            <a:off x="4643280" y="2565360"/>
            <a:ext cx="3097440" cy="28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Take a leaf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oil it in alcoho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dd iodi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What do you write dow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n outline of what you are doing and why you are doing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prediction as to what you expect to find and w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conclusion explaining what you actually did find out (this MUST contain the chemical equation for photosynthe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9:10:44Z</dcterms:created>
  <dc:creator>Paul</dc:creator>
  <dc:description/>
  <dc:language>en-US</dc:language>
  <cp:lastModifiedBy>RomaK</cp:lastModifiedBy>
  <dcterms:modified xsi:type="dcterms:W3CDTF">2015-09-04T11:38:12Z</dcterms:modified>
  <cp:revision>7</cp:revision>
  <dc:subject/>
  <dc:title>Pl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