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3.jpeg" ContentType="image/jpeg"/>
  <Override PartName="/ppt/media/image2.jpeg" ContentType="image/jpeg"/>
  <Override PartName="/ppt/media/image5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C45A-AC03-4FFF-A6E3-39E501DA60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 of the s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fertilisers and their effects o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nswer exam questions on the eff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 about Pesticides and their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ise the key points about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ate concentration falls during spring and summer and rises during autumn and wi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lgal growth as autumn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y all plants hav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g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Lipid solu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Bioaccul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 D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 and Pestic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troph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Eutrophication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chemical Oxygen Demand (BOD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sures the rate of oxygen consumption by a sample of water, and therefore gives a good indication of eutrophication. A high BOD means lots of organic material and aerobic microbes, i.e. eutroph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B4C-A296-42C2-8961-CA4871C3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746-831D-4C5E-898A-4F99A94B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F29-29EC-45C6-93B8-0B1670BB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528-D796-445C-AE0A-A5BF7D0C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A8FC-0887-4EB4-99CD-69D92FCC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902D-73E9-4AE1-BA03-3D3BD669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EE8-C26E-4E48-B4A6-567DAEF9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673F-80D5-4537-9329-2B55A7E7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5BFD-6962-45AA-AE17-E66C865F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645F-DE44-4EB8-890E-A0B5F7DF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21EE-1D10-4D1D-AB90-EFE00393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830-04D7-4329-A843-292FE409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268E-4D36-40FA-9531-4D6B9223A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27"/>
          <p:cNvSpPr/>
          <p:nvPr/>
        </p:nvSpPr>
        <p:spPr>
          <a:xfrm>
            <a:off x="-39600" y="1440000"/>
            <a:ext cx="8969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00"/>
                </a:solidFill>
                <a:latin typeface="Tahoma"/>
              </a:rPr>
              <a:t>Aims of the session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fertilisers and their effects on the environment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Be able to answer exam questions on the effects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Learn about Pesticides and their effect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Summarise the key points about pesticid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norfolk broads"/>
          <p:cNvPicPr/>
          <p:nvPr/>
        </p:nvPicPr>
        <p:blipFill>
          <a:blip r:embed="rId1"/>
          <a:srcRect l="0" t="32980" r="0" b="0"/>
          <a:stretch/>
        </p:blipFill>
        <p:spPr>
          <a:xfrm>
            <a:off x="152280" y="0"/>
            <a:ext cx="8763120" cy="68421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river"/>
          <p:cNvPicPr/>
          <p:nvPr/>
        </p:nvPicPr>
        <p:blipFill>
          <a:blip r:embed="rId1"/>
          <a:srcRect l="0" t="1879" r="0" b="24885"/>
          <a:stretch/>
        </p:blipFill>
        <p:spPr>
          <a:xfrm>
            <a:off x="1066680" y="0"/>
            <a:ext cx="7162920" cy="6816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209680" y="4876920"/>
            <a:ext cx="519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The nitrate concentration falls during spring and summer and rises during autumn and winter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362320" y="6064200"/>
            <a:ext cx="51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Less algal growth as autumn begins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Tempus Sans ITC"/>
              </a:rPr>
              <a:t>Possibly all plants have die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river"/>
          <p:cNvPicPr/>
          <p:nvPr/>
        </p:nvPicPr>
        <p:blipFill>
          <a:blip r:embed="rId1"/>
          <a:srcRect l="7501" t="76059" r="0" b="0"/>
          <a:stretch/>
        </p:blipFill>
        <p:spPr>
          <a:xfrm>
            <a:off x="609480" y="401760"/>
            <a:ext cx="8458200" cy="284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river 1"/>
          <p:cNvPicPr/>
          <p:nvPr/>
        </p:nvPicPr>
        <p:blipFill>
          <a:blip r:embed="rId2"/>
          <a:srcRect l="0" t="2723" r="1834" b="0"/>
          <a:stretch/>
        </p:blipFill>
        <p:spPr>
          <a:xfrm>
            <a:off x="1143000" y="3170160"/>
            <a:ext cx="7848720" cy="2621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620800" y="281952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13920" y="1879560"/>
            <a:ext cx="306828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ahoma"/>
              </a:rPr>
              <a:t>Include: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Herb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Insect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Fung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actericid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Crop Spraying"/>
          <p:cNvPicPr/>
          <p:nvPr/>
        </p:nvPicPr>
        <p:blipFill>
          <a:blip r:embed="rId1"/>
          <a:stretch/>
        </p:blipFill>
        <p:spPr>
          <a:xfrm>
            <a:off x="0" y="38736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garden2"/>
          <p:cNvPicPr/>
          <p:nvPr/>
        </p:nvPicPr>
        <p:blipFill>
          <a:blip r:embed="rId1"/>
          <a:srcRect l="0" t="0" r="5991" b="0"/>
          <a:stretch/>
        </p:blipFill>
        <p:spPr>
          <a:xfrm>
            <a:off x="4361040" y="0"/>
            <a:ext cx="47829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fungicide"/>
          <p:cNvPicPr/>
          <p:nvPr/>
        </p:nvPicPr>
        <p:blipFill>
          <a:blip r:embed="rId2"/>
          <a:stretch/>
        </p:blipFill>
        <p:spPr>
          <a:xfrm>
            <a:off x="0" y="0"/>
            <a:ext cx="4800600" cy="3203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lama5"/>
          <p:cNvPicPr/>
          <p:nvPr/>
        </p:nvPicPr>
        <p:blipFill>
          <a:blip r:embed="rId3"/>
          <a:srcRect l="2500" t="12951" r="0" b="0"/>
          <a:stretch/>
        </p:blipFill>
        <p:spPr>
          <a:xfrm>
            <a:off x="0" y="2951280"/>
            <a:ext cx="4800600" cy="215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crop"/>
          <p:cNvPicPr/>
          <p:nvPr/>
        </p:nvPicPr>
        <p:blipFill>
          <a:blip r:embed="rId4"/>
          <a:srcRect l="0" t="18770" r="0" b="36926"/>
          <a:stretch/>
        </p:blipFill>
        <p:spPr>
          <a:xfrm>
            <a:off x="0" y="5057640"/>
            <a:ext cx="4800600" cy="18003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49120" y="152280"/>
            <a:ext cx="360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4080" y="31989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Persistence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+ Lipid solubilit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4303800" y="3452760"/>
            <a:ext cx="45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= Bioacculmulatio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04120" y="152280"/>
            <a:ext cx="59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Bioaccumulation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740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0" y="3168720"/>
          <a:ext cx="914400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8720"/>
                    <a:ext cx="91440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6"/>
          <p:cNvSpPr/>
          <p:nvPr/>
        </p:nvSpPr>
        <p:spPr>
          <a:xfrm>
            <a:off x="375480" y="203184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.g DD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14"/>
          <p:cNvGrpSpPr/>
          <p:nvPr/>
        </p:nvGrpSpPr>
        <p:grpSpPr>
          <a:xfrm>
            <a:off x="2082960" y="2171880"/>
            <a:ext cx="4875120" cy="2514600"/>
            <a:chOff x="2082960" y="2171880"/>
            <a:chExt cx="4875120" cy="2514600"/>
          </a:xfrm>
        </p:grpSpPr>
        <p:sp>
          <p:nvSpPr>
            <p:cNvPr id="125" name="Rectangle 7"/>
            <p:cNvSpPr/>
            <p:nvPr/>
          </p:nvSpPr>
          <p:spPr>
            <a:xfrm>
              <a:off x="2082960" y="217188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3"/>
            <p:cNvGrpSpPr/>
            <p:nvPr/>
          </p:nvGrpSpPr>
          <p:grpSpPr>
            <a:xfrm>
              <a:off x="2082960" y="2217960"/>
              <a:ext cx="4768920" cy="2468520"/>
              <a:chOff x="2082960" y="2217960"/>
              <a:chExt cx="4768920" cy="2468520"/>
            </a:xfrm>
          </p:grpSpPr>
          <p:sp>
            <p:nvSpPr>
              <p:cNvPr id="127" name="Rectangle 8"/>
              <p:cNvSpPr/>
              <p:nvPr/>
            </p:nvSpPr>
            <p:spPr>
              <a:xfrm>
                <a:off x="2082960" y="221796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Group 12"/>
              <p:cNvGrpSpPr/>
              <p:nvPr/>
            </p:nvGrpSpPr>
            <p:grpSpPr>
              <a:xfrm>
                <a:off x="2082960" y="2264040"/>
                <a:ext cx="4680000" cy="2422440"/>
                <a:chOff x="2082960" y="2264040"/>
                <a:chExt cx="4680000" cy="2422440"/>
              </a:xfrm>
            </p:grpSpPr>
            <p:sp>
              <p:nvSpPr>
                <p:cNvPr id="129" name="Rectangle 9"/>
                <p:cNvSpPr/>
                <p:nvPr/>
              </p:nvSpPr>
              <p:spPr>
                <a:xfrm>
                  <a:off x="2082960" y="226404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10"/>
                <p:cNvSpPr/>
                <p:nvPr/>
              </p:nvSpPr>
              <p:spPr>
                <a:xfrm>
                  <a:off x="2082960" y="2264040"/>
                  <a:ext cx="4465800" cy="242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6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2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31" name="Picture 11" descr="bioaccumulation"/>
          <p:cNvPicPr/>
          <p:nvPr/>
        </p:nvPicPr>
        <p:blipFill>
          <a:blip r:embed="rId3"/>
          <a:stretch/>
        </p:blipFill>
        <p:spPr>
          <a:xfrm>
            <a:off x="2046240" y="4267080"/>
            <a:ext cx="4811760" cy="2057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Bioaccumulation%20l"/>
          <p:cNvPicPr/>
          <p:nvPr/>
        </p:nvPicPr>
        <p:blipFill>
          <a:blip r:embed="rId1"/>
          <a:stretch/>
        </p:blipFill>
        <p:spPr>
          <a:xfrm>
            <a:off x="1241280" y="0"/>
            <a:ext cx="6386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76480" y="2819520"/>
            <a:ext cx="867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 and Pesticide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9"/>
          <p:cNvGrpSpPr/>
          <p:nvPr/>
        </p:nvGrpSpPr>
        <p:grpSpPr>
          <a:xfrm>
            <a:off x="2135160" y="1706400"/>
            <a:ext cx="4875120" cy="3444840"/>
            <a:chOff x="2135160" y="1706400"/>
            <a:chExt cx="4875120" cy="3444840"/>
          </a:xfrm>
        </p:grpSpPr>
        <p:sp>
          <p:nvSpPr>
            <p:cNvPr id="136" name="Rectangle 2"/>
            <p:cNvSpPr/>
            <p:nvPr/>
          </p:nvSpPr>
          <p:spPr>
            <a:xfrm>
              <a:off x="2135160" y="1706400"/>
              <a:ext cx="487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Group 8"/>
            <p:cNvGrpSpPr/>
            <p:nvPr/>
          </p:nvGrpSpPr>
          <p:grpSpPr>
            <a:xfrm>
              <a:off x="2135160" y="1752480"/>
              <a:ext cx="4768920" cy="3398760"/>
              <a:chOff x="2135160" y="1752480"/>
              <a:chExt cx="4768920" cy="33987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2135160" y="1752480"/>
                <a:ext cx="4768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Group 7"/>
              <p:cNvGrpSpPr/>
              <p:nvPr/>
            </p:nvGrpSpPr>
            <p:grpSpPr>
              <a:xfrm>
                <a:off x="2135160" y="1798560"/>
                <a:ext cx="4680000" cy="3352680"/>
                <a:chOff x="2135160" y="1798560"/>
                <a:chExt cx="4680000" cy="3352680"/>
              </a:xfrm>
            </p:grpSpPr>
            <p:sp>
              <p:nvSpPr>
                <p:cNvPr id="140" name="Rectangle 4"/>
                <p:cNvSpPr/>
                <p:nvPr/>
              </p:nvSpPr>
              <p:spPr>
                <a:xfrm>
                  <a:off x="2135160" y="1798560"/>
                  <a:ext cx="4680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5"/>
                <p:cNvSpPr/>
                <p:nvPr/>
              </p:nvSpPr>
              <p:spPr>
                <a:xfrm>
                  <a:off x="2135160" y="1798560"/>
                  <a:ext cx="4562640" cy="335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9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19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  </a:t>
                  </a: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142" name="Picture 6" descr="pcbs"/>
          <p:cNvPicPr/>
          <p:nvPr/>
        </p:nvPicPr>
        <p:blipFill>
          <a:blip r:embed="rId1"/>
          <a:stretch/>
        </p:blipFill>
        <p:spPr>
          <a:xfrm>
            <a:off x="380880" y="531720"/>
            <a:ext cx="8229600" cy="54118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371600"/>
            <a:ext cx="9144000" cy="41911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649240" y="2895480"/>
            <a:ext cx="35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Tahoma"/>
              </a:rPr>
              <a:t>Fertilisers</a:t>
            </a:r>
            <a:endParaRPr b="0" i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7"/>
          <p:cNvGrpSpPr/>
          <p:nvPr/>
        </p:nvGrpSpPr>
        <p:grpSpPr>
          <a:xfrm>
            <a:off x="3083040" y="1943280"/>
            <a:ext cx="2977920" cy="2895480"/>
            <a:chOff x="3083040" y="1943280"/>
            <a:chExt cx="2977920" cy="2895480"/>
          </a:xfrm>
        </p:grpSpPr>
        <p:sp>
          <p:nvSpPr>
            <p:cNvPr id="57" name="Rectangle 4"/>
            <p:cNvSpPr/>
            <p:nvPr/>
          </p:nvSpPr>
          <p:spPr>
            <a:xfrm>
              <a:off x="3083040" y="19432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3083040" y="1943280"/>
              <a:ext cx="29779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i="1" lang="en-GB" sz="18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i="1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Picture 6" descr="clay-2-text"/>
          <p:cNvPicPr/>
          <p:nvPr/>
        </p:nvPicPr>
        <p:blipFill>
          <a:blip r:embed="rId1"/>
          <a:stretch/>
        </p:blipFill>
        <p:spPr>
          <a:xfrm>
            <a:off x="0" y="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7"/>
          <p:cNvPicPr/>
          <p:nvPr/>
        </p:nvPicPr>
        <p:blipFill>
          <a:blip r:embed="rId2"/>
          <a:stretch/>
        </p:blipFill>
        <p:spPr>
          <a:xfrm>
            <a:off x="5410080" y="0"/>
            <a:ext cx="3733920" cy="2757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0" y="884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0" y="432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0" y="5151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4" descr="3"/>
          <p:cNvPicPr/>
          <p:nvPr/>
        </p:nvPicPr>
        <p:blipFill>
          <a:blip r:embed="rId3"/>
          <a:stretch/>
        </p:blipFill>
        <p:spPr>
          <a:xfrm>
            <a:off x="0" y="4038480"/>
            <a:ext cx="280836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boat"/>
          <p:cNvPicPr/>
          <p:nvPr/>
        </p:nvPicPr>
        <p:blipFill>
          <a:blip r:embed="rId4"/>
          <a:stretch/>
        </p:blipFill>
        <p:spPr>
          <a:xfrm>
            <a:off x="1981080" y="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fertiliser02"/>
          <p:cNvPicPr/>
          <p:nvPr/>
        </p:nvPicPr>
        <p:blipFill>
          <a:blip r:embed="rId5"/>
          <a:stretch/>
        </p:blipFill>
        <p:spPr>
          <a:xfrm>
            <a:off x="2590920" y="40384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fertiliser_spreading"/>
          <p:cNvPicPr/>
          <p:nvPr/>
        </p:nvPicPr>
        <p:blipFill>
          <a:blip r:embed="rId6"/>
          <a:srcRect l="32010" t="0" r="0" b="0"/>
          <a:stretch/>
        </p:blipFill>
        <p:spPr>
          <a:xfrm>
            <a:off x="6248520" y="4030560"/>
            <a:ext cx="2895480" cy="282744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3262320" y="8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3581280" y="304920"/>
          <a:ext cx="49500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04920"/>
                    <a:ext cx="49500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0" y="0"/>
            <a:ext cx="27432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 rot="16200000">
            <a:off x="-907560" y="2459160"/>
            <a:ext cx="4348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The process of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Eutrophication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1523880" y="1712880"/>
          <a:ext cx="6324840" cy="50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12880"/>
                    <a:ext cx="6324840" cy="50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3"/>
          <p:cNvSpPr/>
          <p:nvPr/>
        </p:nvSpPr>
        <p:spPr>
          <a:xfrm>
            <a:off x="414720" y="380880"/>
            <a:ext cx="82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process of Eutrophication cont.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28600" y="438120"/>
            <a:ext cx="8686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  <a:ea typeface="Times New Roman"/>
              </a:rPr>
              <a:t>Biochemical Oxygen Demand (BOD). 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measures the rate of oxygen consumption by a sample of water, and therefore gives a good indication of eutrophication. A high BOD means lots of organic material and aerobic microbes, i.e. eutrophication</a:t>
            </a:r>
            <a:r>
              <a:rPr b="0" lang="en-GB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227484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3" descr="photo2"/>
          <p:cNvPicPr/>
          <p:nvPr/>
        </p:nvPicPr>
        <p:blipFill>
          <a:blip r:embed="rId1"/>
          <a:stretch/>
        </p:blipFill>
        <p:spPr>
          <a:xfrm>
            <a:off x="0" y="301680"/>
            <a:ext cx="9144000" cy="62546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norfolk broads 1"/>
          <p:cNvPicPr/>
          <p:nvPr/>
        </p:nvPicPr>
        <p:blipFill>
          <a:blip r:embed="rId1"/>
          <a:srcRect l="5538" t="2043" r="7270" b="6001"/>
          <a:stretch/>
        </p:blipFill>
        <p:spPr>
          <a:xfrm>
            <a:off x="1981080" y="76320"/>
            <a:ext cx="4694400" cy="67053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norfolk broads"/>
          <p:cNvPicPr/>
          <p:nvPr/>
        </p:nvPicPr>
        <p:blipFill>
          <a:blip r:embed="rId1"/>
          <a:srcRect l="0" t="0" r="0" b="65961"/>
          <a:stretch/>
        </p:blipFill>
        <p:spPr>
          <a:xfrm>
            <a:off x="0" y="1098720"/>
            <a:ext cx="9144000" cy="36255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14:59:29Z</dcterms:created>
  <dc:creator>I C Smith</dc:creator>
  <dc:description/>
  <dc:language>en-US</dc:language>
  <cp:lastModifiedBy>LEGION2</cp:lastModifiedBy>
  <dcterms:modified xsi:type="dcterms:W3CDTF">2016-01-12T14:41:58Z</dcterms:modified>
  <cp:revision>21</cp:revision>
  <dc:subject/>
  <dc:title>PowerPoint Presentation</dc:title>
</cp:coreProperties>
</file>