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21.wmf" ContentType="image/x-wmf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3.jpeg" ContentType="image/jpeg"/>
  <Override PartName="/ppt/media/image2.jpeg" ContentType="image/jpeg"/>
  <Override PartName="/ppt/media/image5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21AE2-38F7-4396-A047-316C7E47768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s of the session: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 about fertilisers and their effects on the environment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able to answer exam questions on the effects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 about Pesticides and their effect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ise the key points about pesticide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s of the sess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 about fertilisers and their effects on the enviro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able to answer exam questions on the effec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 about Pesticides and their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ise the key points about pestic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itrate concentration falls during spring and summer and rises during autumn and winter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algal growth as autumn begin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y all plants have died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itrate concentration falls during spring and summer and rises during autumn and wi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algal growth as autumn beg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y all plants have d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sticide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stic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sticide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clude: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erbicide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secticide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ungicide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ctericide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stic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bic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ectic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gic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teric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sticide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rsistence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+ Lipid solubility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 Bioacculmulation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stic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istenc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Lipid solu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Bioacculm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ioaccumulation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.g DDT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accum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 DD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rtilisers and Pesticide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sers and Pestic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rtiliser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process of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utrophication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cess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troph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cess of Eutrophication cont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cess of Eutrophication co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chemical Oxygen Demand (BOD).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sures the rate of oxygen consumption by a sample of water, and therefore gives a good indication of eutrophication. A high BOD means lots of organic material and aerobic microbes, i.e. eutrophication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chemical Oxygen Demand (BOD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sures the rate of oxygen consumption by a sample of water, and therefore gives a good indication of eutrophication. A high BOD means lots of organic material and aerobic microbes, i.e. eutroph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E515-2BFB-4137-8DC5-A60151238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34EF-8AB4-43D5-BCAC-1E3D4BD49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CD3E-8F1D-4073-98E2-B1C0B3270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F00D-E8D6-4C9B-8089-AE9E6223D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7674-9C0D-44E5-92F6-89BEDD4C5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EC88-17DF-4CE9-AD5A-31624321D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3407-7C7B-4253-96C8-BF2E4FC7C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5FDD-5840-4F22-8A45-4372B0CD5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D415-37B0-4E05-899E-257893366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FCB0-A3F5-4D47-924A-E7C0E09A2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0C31-07E8-44BC-846F-DD9AF909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DBE5-9EC0-4345-82C6-AD1E60EC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367A3-C9E9-4926-A1E7-0372BB9102B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026"/>
          <p:cNvSpPr/>
          <p:nvPr/>
        </p:nvSpPr>
        <p:spPr>
          <a:xfrm>
            <a:off x="0" y="1371600"/>
            <a:ext cx="9144000" cy="41911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027"/>
          <p:cNvSpPr/>
          <p:nvPr/>
        </p:nvSpPr>
        <p:spPr>
          <a:xfrm>
            <a:off x="-39600" y="1440000"/>
            <a:ext cx="896940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ff00"/>
                </a:solidFill>
                <a:latin typeface="Tahoma"/>
              </a:rPr>
              <a:t>Aims of the session: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Learn about fertilisers and their effects on the environment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Be able to answer exam questions on the effects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Learn about Pesticides and their effect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Summarise the key points about pesticid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norfolk broads"/>
          <p:cNvPicPr/>
          <p:nvPr/>
        </p:nvPicPr>
        <p:blipFill>
          <a:blip r:embed="rId1"/>
          <a:srcRect l="0" t="32980" r="0" b="0"/>
          <a:stretch/>
        </p:blipFill>
        <p:spPr>
          <a:xfrm>
            <a:off x="152280" y="0"/>
            <a:ext cx="8763120" cy="684216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river"/>
          <p:cNvPicPr/>
          <p:nvPr/>
        </p:nvPicPr>
        <p:blipFill>
          <a:blip r:embed="rId1"/>
          <a:srcRect l="0" t="1879" r="0" b="24885"/>
          <a:stretch/>
        </p:blipFill>
        <p:spPr>
          <a:xfrm>
            <a:off x="1066680" y="0"/>
            <a:ext cx="7162920" cy="68166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2209680" y="4876920"/>
            <a:ext cx="5197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Tempus Sans ITC"/>
              </a:rPr>
              <a:t>The nitrate concentration falls during spring and summer and rises during autumn and winte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2362320" y="6064200"/>
            <a:ext cx="519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Tempus Sans ITC"/>
              </a:rPr>
              <a:t>Less algal growth as autumn begin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Tempus Sans ITC"/>
              </a:rPr>
              <a:t>Possibly all plants have died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river"/>
          <p:cNvPicPr/>
          <p:nvPr/>
        </p:nvPicPr>
        <p:blipFill>
          <a:blip r:embed="rId1"/>
          <a:srcRect l="7501" t="76059" r="0" b="0"/>
          <a:stretch/>
        </p:blipFill>
        <p:spPr>
          <a:xfrm>
            <a:off x="609480" y="401760"/>
            <a:ext cx="8458200" cy="2844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river 1"/>
          <p:cNvPicPr/>
          <p:nvPr/>
        </p:nvPicPr>
        <p:blipFill>
          <a:blip r:embed="rId2"/>
          <a:srcRect l="0" t="2723" r="1834" b="0"/>
          <a:stretch/>
        </p:blipFill>
        <p:spPr>
          <a:xfrm>
            <a:off x="1143000" y="3170160"/>
            <a:ext cx="7848720" cy="262116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0" y="1371600"/>
            <a:ext cx="9144000" cy="41911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2620800" y="2819520"/>
            <a:ext cx="360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Tahoma"/>
              </a:rPr>
              <a:t>Pesticides</a:t>
            </a:r>
            <a:endParaRPr b="0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249120" y="152280"/>
            <a:ext cx="360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Tahoma"/>
              </a:rPr>
              <a:t>Pesticides</a:t>
            </a:r>
            <a:endParaRPr b="0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13920" y="1879560"/>
            <a:ext cx="3068280" cy="36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ahoma"/>
              </a:rPr>
              <a:t>Include: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Herbicid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Insecticid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Fungicid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Bactericid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3" descr="Crop Spraying"/>
          <p:cNvPicPr/>
          <p:nvPr/>
        </p:nvPicPr>
        <p:blipFill>
          <a:blip r:embed="rId1"/>
          <a:stretch/>
        </p:blipFill>
        <p:spPr>
          <a:xfrm>
            <a:off x="0" y="387360"/>
            <a:ext cx="9144000" cy="608184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garden2"/>
          <p:cNvPicPr/>
          <p:nvPr/>
        </p:nvPicPr>
        <p:blipFill>
          <a:blip r:embed="rId1"/>
          <a:srcRect l="0" t="0" r="5991" b="0"/>
          <a:stretch/>
        </p:blipFill>
        <p:spPr>
          <a:xfrm>
            <a:off x="4361040" y="0"/>
            <a:ext cx="478296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fungicide"/>
          <p:cNvPicPr/>
          <p:nvPr/>
        </p:nvPicPr>
        <p:blipFill>
          <a:blip r:embed="rId2"/>
          <a:stretch/>
        </p:blipFill>
        <p:spPr>
          <a:xfrm>
            <a:off x="0" y="0"/>
            <a:ext cx="4800600" cy="3203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lama5"/>
          <p:cNvPicPr/>
          <p:nvPr/>
        </p:nvPicPr>
        <p:blipFill>
          <a:blip r:embed="rId3"/>
          <a:srcRect l="2500" t="12951" r="0" b="0"/>
          <a:stretch/>
        </p:blipFill>
        <p:spPr>
          <a:xfrm>
            <a:off x="0" y="2951280"/>
            <a:ext cx="4800600" cy="2154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crop"/>
          <p:cNvPicPr/>
          <p:nvPr/>
        </p:nvPicPr>
        <p:blipFill>
          <a:blip r:embed="rId4"/>
          <a:srcRect l="0" t="18770" r="0" b="36926"/>
          <a:stretch/>
        </p:blipFill>
        <p:spPr>
          <a:xfrm>
            <a:off x="0" y="5057640"/>
            <a:ext cx="4800600" cy="180036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249120" y="152280"/>
            <a:ext cx="360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Tahoma"/>
              </a:rPr>
              <a:t>Pesticides</a:t>
            </a:r>
            <a:endParaRPr b="0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154080" y="31989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Persistence </a:t>
            </a: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+ Lipid solubility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4303800" y="3452760"/>
            <a:ext cx="45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= Bioacculmulatio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204120" y="152280"/>
            <a:ext cx="597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Tahoma"/>
              </a:rPr>
              <a:t>Bioaccumulation</a:t>
            </a:r>
            <a:endParaRPr b="0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2057400" y="32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Object 4"/>
          <p:cNvGraphicFramePr/>
          <p:nvPr/>
        </p:nvGraphicFramePr>
        <p:xfrm>
          <a:off x="0" y="3168720"/>
          <a:ext cx="9144000" cy="52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168720"/>
                    <a:ext cx="914400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Text Box 6"/>
          <p:cNvSpPr/>
          <p:nvPr/>
        </p:nvSpPr>
        <p:spPr>
          <a:xfrm>
            <a:off x="375480" y="2031840"/>
            <a:ext cx="16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.g DD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Group 14"/>
          <p:cNvGrpSpPr/>
          <p:nvPr/>
        </p:nvGrpSpPr>
        <p:grpSpPr>
          <a:xfrm>
            <a:off x="2082960" y="2171880"/>
            <a:ext cx="4875120" cy="2514600"/>
            <a:chOff x="2082960" y="2171880"/>
            <a:chExt cx="4875120" cy="2514600"/>
          </a:xfrm>
        </p:grpSpPr>
        <p:sp>
          <p:nvSpPr>
            <p:cNvPr id="125" name="Rectangle 7"/>
            <p:cNvSpPr/>
            <p:nvPr/>
          </p:nvSpPr>
          <p:spPr>
            <a:xfrm>
              <a:off x="2082960" y="2171880"/>
              <a:ext cx="487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Group 13"/>
            <p:cNvGrpSpPr/>
            <p:nvPr/>
          </p:nvGrpSpPr>
          <p:grpSpPr>
            <a:xfrm>
              <a:off x="2082960" y="2217960"/>
              <a:ext cx="4768920" cy="2468520"/>
              <a:chOff x="2082960" y="2217960"/>
              <a:chExt cx="4768920" cy="2468520"/>
            </a:xfrm>
          </p:grpSpPr>
          <p:sp>
            <p:nvSpPr>
              <p:cNvPr id="127" name="Rectangle 8"/>
              <p:cNvSpPr/>
              <p:nvPr/>
            </p:nvSpPr>
            <p:spPr>
              <a:xfrm>
                <a:off x="2082960" y="2217960"/>
                <a:ext cx="4768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8" name="Group 12"/>
              <p:cNvGrpSpPr/>
              <p:nvPr/>
            </p:nvGrpSpPr>
            <p:grpSpPr>
              <a:xfrm>
                <a:off x="2082960" y="2264040"/>
                <a:ext cx="4680000" cy="2422440"/>
                <a:chOff x="2082960" y="2264040"/>
                <a:chExt cx="4680000" cy="2422440"/>
              </a:xfrm>
            </p:grpSpPr>
            <p:sp>
              <p:nvSpPr>
                <p:cNvPr id="129" name="Rectangle 9"/>
                <p:cNvSpPr/>
                <p:nvPr/>
              </p:nvSpPr>
              <p:spPr>
                <a:xfrm>
                  <a:off x="2082960" y="2264040"/>
                  <a:ext cx="4680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Rectangle 10"/>
                <p:cNvSpPr/>
                <p:nvPr/>
              </p:nvSpPr>
              <p:spPr>
                <a:xfrm>
                  <a:off x="2082960" y="2264040"/>
                  <a:ext cx="4465800" cy="242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86000"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29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</a:rPr>
                    <a:t>                                                              </a:t>
                  </a: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131" name="Picture 11" descr="bioaccumulation"/>
          <p:cNvPicPr/>
          <p:nvPr/>
        </p:nvPicPr>
        <p:blipFill>
          <a:blip r:embed="rId3"/>
          <a:stretch/>
        </p:blipFill>
        <p:spPr>
          <a:xfrm>
            <a:off x="2046240" y="4267080"/>
            <a:ext cx="4811760" cy="205740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3" descr="Bioaccumulation%20l"/>
          <p:cNvPicPr/>
          <p:nvPr/>
        </p:nvPicPr>
        <p:blipFill>
          <a:blip r:embed="rId1"/>
          <a:stretch/>
        </p:blipFill>
        <p:spPr>
          <a:xfrm>
            <a:off x="1241280" y="0"/>
            <a:ext cx="638676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0" y="1371600"/>
            <a:ext cx="9144000" cy="41911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276480" y="2819520"/>
            <a:ext cx="867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Tahoma"/>
              </a:rPr>
              <a:t>Fertilisers and Pesticides</a:t>
            </a:r>
            <a:endParaRPr b="0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9"/>
          <p:cNvGrpSpPr/>
          <p:nvPr/>
        </p:nvGrpSpPr>
        <p:grpSpPr>
          <a:xfrm>
            <a:off x="2135160" y="1706400"/>
            <a:ext cx="4875120" cy="3444840"/>
            <a:chOff x="2135160" y="1706400"/>
            <a:chExt cx="4875120" cy="3444840"/>
          </a:xfrm>
        </p:grpSpPr>
        <p:sp>
          <p:nvSpPr>
            <p:cNvPr id="136" name="Rectangle 2"/>
            <p:cNvSpPr/>
            <p:nvPr/>
          </p:nvSpPr>
          <p:spPr>
            <a:xfrm>
              <a:off x="2135160" y="1706400"/>
              <a:ext cx="487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" name="Group 8"/>
            <p:cNvGrpSpPr/>
            <p:nvPr/>
          </p:nvGrpSpPr>
          <p:grpSpPr>
            <a:xfrm>
              <a:off x="2135160" y="1752480"/>
              <a:ext cx="4768920" cy="3398760"/>
              <a:chOff x="2135160" y="1752480"/>
              <a:chExt cx="4768920" cy="3398760"/>
            </a:xfrm>
          </p:grpSpPr>
          <p:sp>
            <p:nvSpPr>
              <p:cNvPr id="138" name="Rectangle 3"/>
              <p:cNvSpPr/>
              <p:nvPr/>
            </p:nvSpPr>
            <p:spPr>
              <a:xfrm>
                <a:off x="2135160" y="1752480"/>
                <a:ext cx="4768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9" name="Group 7"/>
              <p:cNvGrpSpPr/>
              <p:nvPr/>
            </p:nvGrpSpPr>
            <p:grpSpPr>
              <a:xfrm>
                <a:off x="2135160" y="1798560"/>
                <a:ext cx="4680000" cy="3352680"/>
                <a:chOff x="2135160" y="1798560"/>
                <a:chExt cx="4680000" cy="3352680"/>
              </a:xfrm>
            </p:grpSpPr>
            <p:sp>
              <p:nvSpPr>
                <p:cNvPr id="140" name="Rectangle 4"/>
                <p:cNvSpPr/>
                <p:nvPr/>
              </p:nvSpPr>
              <p:spPr>
                <a:xfrm>
                  <a:off x="2135160" y="1798560"/>
                  <a:ext cx="4680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Rectangle 5"/>
                <p:cNvSpPr/>
                <p:nvPr/>
              </p:nvSpPr>
              <p:spPr>
                <a:xfrm>
                  <a:off x="2135160" y="1798560"/>
                  <a:ext cx="4562640" cy="335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89000"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9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</a:rPr>
                    <a:t>                                                           </a:t>
                  </a: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142" name="Picture 6" descr="pcbs"/>
          <p:cNvPicPr/>
          <p:nvPr/>
        </p:nvPicPr>
        <p:blipFill>
          <a:blip r:embed="rId1"/>
          <a:stretch/>
        </p:blipFill>
        <p:spPr>
          <a:xfrm>
            <a:off x="380880" y="531720"/>
            <a:ext cx="8229600" cy="541188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0" y="1371600"/>
            <a:ext cx="9144000" cy="41911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2649240" y="2895480"/>
            <a:ext cx="359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Tahoma"/>
              </a:rPr>
              <a:t>Fertilisers</a:t>
            </a:r>
            <a:endParaRPr b="0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Group 7"/>
          <p:cNvGrpSpPr/>
          <p:nvPr/>
        </p:nvGrpSpPr>
        <p:grpSpPr>
          <a:xfrm>
            <a:off x="3083040" y="1943280"/>
            <a:ext cx="2977920" cy="2895480"/>
            <a:chOff x="3083040" y="1943280"/>
            <a:chExt cx="2977920" cy="2895480"/>
          </a:xfrm>
        </p:grpSpPr>
        <p:sp>
          <p:nvSpPr>
            <p:cNvPr id="57" name="Rectangle 4"/>
            <p:cNvSpPr/>
            <p:nvPr/>
          </p:nvSpPr>
          <p:spPr>
            <a:xfrm>
              <a:off x="3083040" y="19432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Rectangle 5"/>
            <p:cNvSpPr/>
            <p:nvPr/>
          </p:nvSpPr>
          <p:spPr>
            <a:xfrm>
              <a:off x="3083040" y="1943280"/>
              <a:ext cx="29779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GB" sz="184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9" name="Picture 6" descr="clay-2-text"/>
          <p:cNvPicPr/>
          <p:nvPr/>
        </p:nvPicPr>
        <p:blipFill>
          <a:blip r:embed="rId1"/>
          <a:stretch/>
        </p:blipFill>
        <p:spPr>
          <a:xfrm>
            <a:off x="0" y="0"/>
            <a:ext cx="2057400" cy="2743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7"/>
          <p:cNvPicPr/>
          <p:nvPr/>
        </p:nvPicPr>
        <p:blipFill>
          <a:blip r:embed="rId2"/>
          <a:stretch/>
        </p:blipFill>
        <p:spPr>
          <a:xfrm>
            <a:off x="5410080" y="0"/>
            <a:ext cx="3733920" cy="27576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2"/>
          <p:cNvSpPr/>
          <p:nvPr/>
        </p:nvSpPr>
        <p:spPr>
          <a:xfrm>
            <a:off x="0" y="8841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15"/>
          <p:cNvSpPr/>
          <p:nvPr/>
        </p:nvSpPr>
        <p:spPr>
          <a:xfrm>
            <a:off x="0" y="4329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16"/>
          <p:cNvSpPr/>
          <p:nvPr/>
        </p:nvSpPr>
        <p:spPr>
          <a:xfrm>
            <a:off x="0" y="51516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14" descr="3"/>
          <p:cNvPicPr/>
          <p:nvPr/>
        </p:nvPicPr>
        <p:blipFill>
          <a:blip r:embed="rId3"/>
          <a:stretch/>
        </p:blipFill>
        <p:spPr>
          <a:xfrm>
            <a:off x="0" y="4038480"/>
            <a:ext cx="2808360" cy="2819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boat"/>
          <p:cNvPicPr/>
          <p:nvPr/>
        </p:nvPicPr>
        <p:blipFill>
          <a:blip r:embed="rId4"/>
          <a:stretch/>
        </p:blipFill>
        <p:spPr>
          <a:xfrm>
            <a:off x="1981080" y="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fertiliser02"/>
          <p:cNvPicPr/>
          <p:nvPr/>
        </p:nvPicPr>
        <p:blipFill>
          <a:blip r:embed="rId5"/>
          <a:stretch/>
        </p:blipFill>
        <p:spPr>
          <a:xfrm>
            <a:off x="2590920" y="403848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7" descr="fertiliser_spreading"/>
          <p:cNvPicPr/>
          <p:nvPr/>
        </p:nvPicPr>
        <p:blipFill>
          <a:blip r:embed="rId6"/>
          <a:srcRect l="32010" t="0" r="0" b="0"/>
          <a:stretch/>
        </p:blipFill>
        <p:spPr>
          <a:xfrm>
            <a:off x="6248520" y="4030560"/>
            <a:ext cx="2895480" cy="282744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3262320" y="8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Object 2"/>
          <p:cNvGraphicFramePr/>
          <p:nvPr/>
        </p:nvGraphicFramePr>
        <p:xfrm>
          <a:off x="3581280" y="304920"/>
          <a:ext cx="4950000" cy="63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304920"/>
                    <a:ext cx="495000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Rectangle 6"/>
          <p:cNvSpPr/>
          <p:nvPr/>
        </p:nvSpPr>
        <p:spPr>
          <a:xfrm>
            <a:off x="0" y="0"/>
            <a:ext cx="2743200" cy="68580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7"/>
          <p:cNvSpPr/>
          <p:nvPr/>
        </p:nvSpPr>
        <p:spPr>
          <a:xfrm rot="16200000">
            <a:off x="-907560" y="2459160"/>
            <a:ext cx="434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ahoma"/>
              </a:rPr>
              <a:t>The process of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ahoma"/>
              </a:rPr>
              <a:t>Eutrophication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4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Object 2"/>
          <p:cNvGraphicFramePr/>
          <p:nvPr/>
        </p:nvGraphicFramePr>
        <p:xfrm>
          <a:off x="1523880" y="1712880"/>
          <a:ext cx="6324840" cy="506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712880"/>
                    <a:ext cx="6324840" cy="506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Text Box 3"/>
          <p:cNvSpPr/>
          <p:nvPr/>
        </p:nvSpPr>
        <p:spPr>
          <a:xfrm>
            <a:off x="414720" y="380880"/>
            <a:ext cx="824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The process of Eutrophication cont.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228600" y="438120"/>
            <a:ext cx="8686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  <a:ea typeface="Times New Roman"/>
              </a:rPr>
              <a:t>Biochemical Oxygen Demand (BOD).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measures the rate of oxygen consumption by a sample of water, and therefore gives a good indication of eutrophication. A high BOD means lots of organic material and aerobic microbes, i.e. eutrophication</a:t>
            </a:r>
            <a:r>
              <a:rPr b="0" lang="en-GB" sz="25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i="1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2274840" y="18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3" descr="photo2"/>
          <p:cNvPicPr/>
          <p:nvPr/>
        </p:nvPicPr>
        <p:blipFill>
          <a:blip r:embed="rId1"/>
          <a:stretch/>
        </p:blipFill>
        <p:spPr>
          <a:xfrm>
            <a:off x="0" y="301680"/>
            <a:ext cx="9144000" cy="625464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norfolk broads 1"/>
          <p:cNvPicPr/>
          <p:nvPr/>
        </p:nvPicPr>
        <p:blipFill>
          <a:blip r:embed="rId1"/>
          <a:srcRect l="5538" t="2043" r="7270" b="6001"/>
          <a:stretch/>
        </p:blipFill>
        <p:spPr>
          <a:xfrm>
            <a:off x="1981080" y="76320"/>
            <a:ext cx="4694400" cy="670536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norfolk broads"/>
          <p:cNvPicPr/>
          <p:nvPr/>
        </p:nvPicPr>
        <p:blipFill>
          <a:blip r:embed="rId1"/>
          <a:srcRect l="0" t="0" r="0" b="65961"/>
          <a:stretch/>
        </p:blipFill>
        <p:spPr>
          <a:xfrm>
            <a:off x="0" y="1098720"/>
            <a:ext cx="9144000" cy="362556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0T14:59:29Z</dcterms:created>
  <dc:creator>I C Smith</dc:creator>
  <dc:description/>
  <dc:language>en-US</dc:language>
  <cp:lastModifiedBy>LEGION2</cp:lastModifiedBy>
  <dcterms:modified xsi:type="dcterms:W3CDTF">2016-01-12T14:41:58Z</dcterms:modified>
  <cp:revision>21</cp:revision>
  <dc:subject/>
  <dc:title>PowerPoint Presentation</dc:title>
</cp:coreProperties>
</file>