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396F-D159-437B-BFC9-7D05E27BA0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A2F-4DD4-471B-8794-1F79866D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F8F-E201-484D-906E-2DA6F98B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924-02B0-49BF-95DC-DB76DB91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4F2-87B8-4621-BAF8-D1825D0C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4073-2484-4ACB-A17E-DBD4979B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FF21-B503-4C85-8583-3D26986E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B89F-E6B4-4CB2-90C7-012ACAC4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B1F6-8A94-4830-9E0C-45CA6021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BFB0-EFF3-4B23-B127-3349587A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F300-268D-446B-8BC2-D477C58D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DC29-5DC7-4FFD-A34A-3C3FD5BD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6AA-7EF8-4B5D-B7E2-3DF5ACDC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5B2E-2183-414D-8C2B-79CCBDC3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30D7-9530-4E9B-9E85-705120B7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69E5-E5B9-4A98-8FB5-601E2234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92AD-2FED-4F9B-880F-C69BAECD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8167-153E-4BB2-8F04-0B428F5A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42222-1B75-400C-9AA9-9F02FC2D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84745-DBE0-4146-AD46-21095923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300AF-2E94-43D7-AD2D-9FEB8056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40BFB-9E0A-4CAF-BFBE-6326C14C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66951-49AE-4FFB-8329-291E4D9C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220-E49A-456E-9A6C-4891B6CE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81596-F581-4744-9419-549AF5C3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273F4-B576-4F23-987D-85DCB6ED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F9F12-41A5-4F90-88FB-4F90ACD1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ADCB5-ECD3-4594-A27D-C4A8A53E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133E7-6235-47F8-B77A-16F3531E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1C9C0-25E5-48E0-9E0E-326A42CC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82E38-DC5D-4B56-90E9-98C958D1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29745-228A-49E6-8749-F190E3E0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FEC88-EDF0-4477-86C3-FC85CA9F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4B326-D874-46BE-97B9-2CDF729F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8F6-C7CD-48C7-9A04-03DF0119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21EF1-CEA7-4A83-AD00-52EF05CA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BDB4C-384A-4F65-96F0-B79861D6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47D6B-9F6B-4530-BFD7-6C1301ED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46720-E6E0-47CE-AF80-382B00A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0AF94-DA09-47E1-991F-FE0D111F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ADDEB-A837-4183-A45B-36D0FE07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1EC53-D323-498B-BA19-5CDCB3FA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8BA74-0439-4463-8F68-CEE462B5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069B5-901A-4485-9870-24AC3CFD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AB156-9FDF-4AD2-8D0D-3A181C12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B92-EAF4-467F-8A43-0D9CB1B6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9A5EA-03A9-4800-9C71-A7EFEE19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B8906-D167-44FF-8C0A-2DF69B62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4AD44-89BF-439B-B934-6E2F1869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C1675-708D-4091-A0C2-3C53E653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A06E0-C613-4EED-80FE-184E8E46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E6ADD-2EAD-49F0-8AC0-8277CFFB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5BC50-3FAB-4E29-B7E9-17E2B3C6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BECDF-AA32-4ACA-8327-5F47B6D2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D2E7A-110B-4B1E-B290-B614421A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FB60B-80CE-4688-88ED-AF3F4C81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022-2279-467A-9D2F-0DD79923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D688F-2441-4126-BDA6-0D322CCF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EBEC-F31D-464F-802C-8A0F64D3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193CA-E7E9-4F08-AAB8-D8D92E81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714F6-C2A2-423C-BCA2-5E550D8E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6D4D0-2F80-49E9-A1B6-338E6C2C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B69DC-4385-49B7-B580-494BEE88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9C2CA-CD80-44CC-8170-EB894F72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07EB1-5C3D-4A74-B708-38ED1B3E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5F4A6-5A7B-4BA3-9AC1-B315DE38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80E1F-91BD-4791-A5D4-2FA931D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924-7F35-4696-874C-CEE02E82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A16F4-C819-4A52-8E73-CEF72F0B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93777-A300-4869-B4C5-0FDEA95E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5397-BCD9-4B67-BD39-6FA17912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418A5-2B7E-4CD8-A7FF-4EBB1A00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824F9-231B-47DC-9982-AC77E3EA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B7A10-950A-4482-945D-B14ABF79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3A491-1A14-45E2-8916-88491725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35145-6F8D-48AE-95B4-22080C04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E05E8-866A-40A5-9EB8-F9103108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D5C78-F74D-4E65-8949-DEDBD009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20A-1CA8-4FE5-968C-A45170F1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6E0B2-39B5-4F10-923C-05139FE3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7EE8E-FDE5-450F-AD9A-FB71D6ED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0750B-9D65-48D8-A702-3C65B5F1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75894-A04A-4A56-87F6-55DB8C67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045CF3-FC5A-4754-AB45-A4672208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623BB-F807-40B2-B4AD-CC02E7AF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FBD49-94C8-46B6-AA46-07140A41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FCBED-18EC-449B-920D-5ADA73C1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0D5E2-F9F6-45B4-A9FF-990A6220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195BB-4B78-4EBB-998C-6D31A2D6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249-26AA-4AAB-A096-52C804B7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2097C-96DC-4F4B-9D7B-E64D7D27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E1471-A95D-4EB9-9F55-38AEBF87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20C08-59CB-44BC-A5A4-7B75F46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C249D-E505-4BE7-98E0-C6E3DF9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6EF1A-E22E-47CE-9FAB-F5549842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2A6FC-5A04-406B-B12A-35ACEF55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FDBE8-D8C7-47B6-84BE-BBBB296A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A942-2EC1-4F60-A758-847B766819C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A555-6ECF-4557-B0C1-274F7E0E61F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21D4-7F1B-48D7-BF54-084A158C2B1E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8C65-B035-4D68-A4A3-BA60AA0A7B97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045C-24F2-4A68-AD09-F0E3D7C7735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AA9F-184C-49D4-B051-BF9DFC6D2C5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D249-8C00-4FD6-B1DA-8F0CAC11062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475B-843C-4601-9F24-9429B46E33D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55B4-05F3-4C66-AFC6-FC18DC33C7C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15E0-FD51-40CD-8D7C-6A5A1217E74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BCD6-0454-48D5-8210-5F0737DB1DB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8657-F92C-488E-B15F-EFC8F5604F6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2FB3-5157-4435-810D-579E22BFC42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750C-2E15-4786-AFD7-259BA110041C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F6C4-56A9-4546-840C-956C7C6D529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D4F7-3CBD-4CAC-ABBD-7536BFE2EEC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OSSI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races of the past……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2" descr="C:\Documents and Settings\carolyn.kinne\Local Settings\Temporary Internet Files\Content.IE5\E2LUDJLQ\MPj04386170000[1].jpg"/>
          <p:cNvPicPr/>
          <p:nvPr/>
        </p:nvPicPr>
        <p:blipFill>
          <a:blip r:embed="rId1"/>
          <a:stretch/>
        </p:blipFill>
        <p:spPr>
          <a:xfrm>
            <a:off x="1219320" y="533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happened befor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traces of things that happened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and animals can become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only discovered a small number of the plants and animals from the p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not the original, only a cop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C:\Documents and Settings\carolyn.kinne\Local Settings\Temporary Internet Files\Content.IE5\E2LUDJLQ\MCj02863140000[1].wmf"/>
          <p:cNvPicPr/>
          <p:nvPr/>
        </p:nvPicPr>
        <p:blipFill>
          <a:blip r:embed="rId1"/>
          <a:stretch/>
        </p:blipFill>
        <p:spPr>
          <a:xfrm>
            <a:off x="3657600" y="4495680"/>
            <a:ext cx="1778040" cy="18129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example of fossilized plants is petrified w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rns, tree leaves, and other plants have been found, to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C:\Documents and Settings\carolyn.kinne\Local Settings\Temporary Internet Files\Content.IE5\E2LUDJLQ\MCj02938980000[1].wmf"/>
          <p:cNvPicPr/>
          <p:nvPr/>
        </p:nvPicPr>
        <p:blipFill>
          <a:blip r:embed="rId1"/>
          <a:stretch/>
        </p:blipFill>
        <p:spPr>
          <a:xfrm>
            <a:off x="3733920" y="3886200"/>
            <a:ext cx="1465200" cy="182736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imal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fossils are of dinosau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also fossils of sea creatures and mam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many fossils are found in one place because of a flood, earthquake, or other disa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C:\Documents and Settings\carolyn.kinne\Local Settings\Temporary Internet Files\Content.IE5\E2LUDJLQ\MPj03857610000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276720" cy="23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Documents and Settings\carolyn.kinne\Local Settings\Temporary Internet Files\Content.IE5\60TCN93U\MCAN01357_0000[1].wmf"/>
          <p:cNvPicPr/>
          <p:nvPr/>
        </p:nvPicPr>
        <p:blipFill>
          <a:blip r:embed="rId2"/>
          <a:stretch/>
        </p:blipFill>
        <p:spPr>
          <a:xfrm>
            <a:off x="1371600" y="4267080"/>
            <a:ext cx="254484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fossils are fo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often found by acci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leontologists and geologists use clues in the rocks to find good places to hunt for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avating fossils is hard work, and must be done carefu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2" descr="C:\Documents and Settings\carolyn.kinne\Local Settings\Temporary Internet Files\Content.IE5\MNV8FF4K\MCj01557110000[1].wmf"/>
          <p:cNvPicPr/>
          <p:nvPr/>
        </p:nvPicPr>
        <p:blipFill>
          <a:blip r:embed="rId1"/>
          <a:stretch/>
        </p:blipFill>
        <p:spPr>
          <a:xfrm>
            <a:off x="3276720" y="4343400"/>
            <a:ext cx="1820880" cy="144468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How are fossils made?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fossil is made when a plant or animal is covered quickly with mud or as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organism’s tissues are replaced over a long period of time with minerals from the soil it was buried 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can be dated by the layer of rock they were found in, or by radiocarbon da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2" descr="C:\Documents and Settings\carolyn.kinne\Local Settings\Temporary Internet Files\Content.IE5\XKKQW3N2\MCNA00178_0000[1].wmf"/>
          <p:cNvPicPr/>
          <p:nvPr/>
        </p:nvPicPr>
        <p:blipFill>
          <a:blip r:embed="rId1"/>
          <a:stretch/>
        </p:blipFill>
        <p:spPr>
          <a:xfrm>
            <a:off x="3505320" y="5029200"/>
            <a:ext cx="1828800" cy="159876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ues to the pa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fossils give us an idea of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give clues about the diet of ani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imals give clues about the availability of plants and the climate when they liv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clues fit together to make a more complete picture of what the world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carolyn.kinne\Local Settings\Temporary Internet Files\Content.IE5\60TCN93U\MCj01985300000[1].wmf"/>
          <p:cNvPicPr/>
          <p:nvPr/>
        </p:nvPicPr>
        <p:blipFill>
          <a:blip r:embed="rId1"/>
          <a:stretch/>
        </p:blipFill>
        <p:spPr>
          <a:xfrm>
            <a:off x="3657600" y="5105520"/>
            <a:ext cx="1173240" cy="15094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n we ever really know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matter how many clues we have, we can never really know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can make an educated guess, and fill in the gaps using what we know about life to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’s fun to imagine what it was like when the dinosaurs lived.  Try it next time you feel bor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8:59:39Z</dcterms:created>
  <dc:creator>Ector County ISD Employee</dc:creator>
  <dc:description/>
  <dc:language>en-US</dc:language>
  <cp:lastModifiedBy>LEGION2</cp:lastModifiedBy>
  <dcterms:modified xsi:type="dcterms:W3CDTF">2016-01-13T07:22:22Z</dcterms:modified>
  <cp:revision>8</cp:revision>
  <dc:subject/>
  <dc:title>Fossils</dc:title>
</cp:coreProperties>
</file>