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5744-1DDC-43E6-81E0-51A50EF2FE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s of the past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s of the past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ed befo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traces of things that happened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and animals can become 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only discovered a small number of the plants and animals from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not the original, only a co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ed bef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traces of things that happened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and animals can become 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only discovered a small number of the plants and animals from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not the original, only a co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example of fossilized plants is petrified 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ns, tree leaves, and other plants have been found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example of fossilized plants is petrified 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ns, tree leaves, and other plants have been found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fossils are of dinosa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fossils of sea creatures and 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ny fossils are found in one place because of a flood, earthquake, or other dis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fossils are of dinosa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fossils of sea creatures and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ny fossils are found in one place because of a flood, earthquake, or other dis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fossils are f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often found by acc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eontologists and geologists use clues in the rocks to find good places to hunt for 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avating fossils is hard work, and must be done carefu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fossil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often found by acc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eontologists and geologists use clues in the rocks to find good places to hunt for 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avating fossils is hard work, and must be done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fossils mad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ssil is made when a plant or animal is covered quickly with mud or 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ganism’s tissues are replaced over a long period of time with minerals from the soil it was buried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can be dated by the layer of rock they were found in, or by radiocarbon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fossils mad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ssil is made when a plant or animal is covered quickly with mud or 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ganism’s tissues are replaced over a long period of time with minerals from the soil it was buri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can be dated by the layer of rock they were found in, or by radiocarbon d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ues to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fossils give us an idea of what life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give clues about the diet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give clues about the availability of plants and the climate when they li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lues fit together to make a more complete picture of what the world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ues to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fossils give us an idea of what life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give clues about the diet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give clues about the availability of plants and the climate when they l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lues fit together to make a more complete picture of what the world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ever really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many clues we have, we can never really know what life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make an educated guess, and fill in the gaps using what we know about lif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un to imagine what it was like when the dinosaurs lived.  Try it next time you feel bo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ever really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many clues we have, we can never really know what life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make an educated guess, and fill in the gaps using what we know about life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un to imagine what it was like when the dinosaurs lived.  Try it next time you feel bo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081F-DBD1-409D-843A-3C499FB4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D843-803D-4208-A4C1-66CD3687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B1B8-FFEE-4670-9A2C-E4A7673A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A66-1B16-46BF-B434-1156BA94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31C7-0B56-431B-96FF-AC160F38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E4DE-F999-4B1E-9EBB-B21952A1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9460-E5D1-4873-B4AA-F2B82C0B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4949-F1F1-4351-9FF7-0E98E8FF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E4E6-E6F3-4CA2-8F3A-07D04ADB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B797-5042-4B43-A0FA-AD0A0FDC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C0C0-5A5A-441E-B6CE-7277EC36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8EF0-6FE3-435D-9B8E-F6CEB515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74F0-0DE0-4A44-A7D2-F9A1136A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B78A-3E00-4377-A047-89D37755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457C-6956-44EB-9125-EE059460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5A48-C6D8-4884-A58D-14E8D97F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0B61-732F-49C9-95BF-D0964204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3DD3E-56AE-4DC6-9B5D-419892B6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E8D5E-7D9F-485F-8060-FE6FDA2C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F6974-5BCB-4903-9309-7EEB8176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ED792-EBC4-42F3-BE9C-53D2FF1E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EB6D7-164E-40EB-BADF-9286822C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3AE-B5F8-442F-ADFC-032B3B65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37511-2B88-4A83-9ECC-687B0183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4A7AC-719E-4894-96B0-5F581953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A5761-3BF0-4F3B-B321-6EEAC718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97544-71C8-457E-9AFC-2ECC5803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6D33D-E4F9-44B6-81B6-F99A60E9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71F0F-D0A9-45F8-AA05-25DD7BDD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8E161-66A3-4699-8607-82DA3A6B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2BFCEF-F27D-4E1E-8FE2-BD234C88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A14DF4-23E0-4F9B-895A-58809C8B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DFD161-AA09-4C29-B3B7-7F4DDFF9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5F59-99A0-46B1-87D9-5DB1212C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ABD135-E1E4-4FA0-A8B1-68749175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6C5C1B-736E-438B-83F8-E5F07B7A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FC0C0C-F521-4F1F-9457-FA21AC0C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46FACF-F199-4FE9-A51D-D8A1077D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B301D8-FDD5-4DB7-AB33-A8316123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812B53-BAF2-44B8-A8A1-44905B87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0ECEAA-333F-449D-903D-67BCCBDC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991F38-672A-4812-A3AA-4806319F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5E146F-CD55-4602-8EB7-1973B9C6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6464BE-77E4-459B-895A-3EF9AD45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F101-60B8-47BA-9E87-DCECADF4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B8F87-6581-4338-B4F6-070B8CBC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123912-5BAA-4DB8-A4D1-D400F300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F04D5-7734-4CA4-874F-CF84FFF7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C10A4F-0F37-4A17-8A2A-657817E5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800469-C2CC-4F7A-B702-4D7F8B24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7A046D-2A9A-4B93-8D4A-EEA69918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2CC036-259F-44A0-98E1-F4D76BC5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733FBB-4B7B-4842-AD22-6C5348CA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790455-2921-4349-A270-214E9551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1F42F4-2698-4CC0-88EA-2836A4E0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DF1-976E-4E7E-94EE-B0B56F9C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EEE111-4009-4917-815D-969C4F8C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23E63-1A68-40F2-AFEB-A6FDE42B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9D717-162D-49C9-8CC1-085F403E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1F8AB-C297-4C3D-9175-8E57DFC7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B082A-9F94-4C51-A149-E1882864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9F096-836F-4F54-9C07-D98AA969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FA3DE-FA0D-42BB-8FCD-E69D802F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F2A9F-DFA9-42E7-92A9-7532C95C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D167E-9614-43C1-A3E6-A85BA5DA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0B42C-00E7-4FEC-B22F-11ECE1E1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6A1-1D54-4072-90B8-012BCC81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0B9B1-2676-48EC-891E-EE9CCFA6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B5C99-163E-4F2C-9997-9C0BF2EC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DE46E-DA9C-4B80-80F8-673D0FE1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F0B203-1FC8-48C2-9F59-96C64743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1BF89C-B8FF-4C03-83C5-725EB3E5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08A7AC-D838-478B-817C-9195F0A9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8627EA-A90D-49B0-9E16-326B5734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AC4A42-8334-401C-A876-873F46E9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566514-B10C-4408-844E-E6FD03C4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28998D-BFAF-42BD-B3A2-C5DCDDFE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2220-8570-4B2B-B534-6DCECA77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E23C6A-B8CD-46C2-AA76-91F9E3FC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167738-B65E-45E1-AF37-BA0F1E3D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9C972D-9E0F-4AB1-8753-2CF71BB7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3107C1-A1D4-48DB-A529-A382FE04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4DD89B-D284-42BC-8FE5-061AEB6A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A51EF-C52C-4116-BE31-45909160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58E26-D7C9-4504-B1EF-853FB688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AF093-7BD2-4D84-BD2F-8EAE7CD5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3C07C-FB23-4AE1-81C5-DBBACE61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591B8-A179-4367-AB9B-3F1A675E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BB2-2D7D-4BF3-A93B-F8DF7AB1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E2D37-04BF-4294-A843-AC123B55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0B18C-F258-4A0C-82E6-74B34F84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73742-477C-41B7-BDD5-F099772B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E096B-206C-44F7-87A7-7309F2F1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84C56-8623-4907-992C-9FFC628E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A457B-8760-42C5-AF01-6C563650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22701-4A2E-4EF2-99D7-174B7159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42A4-CAF2-433F-B4D7-3741A1F0FBD1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0B47-0F46-41FC-B931-7132A9D2706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272D-6A4B-4094-99E7-0D8E9DB705F3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7F09-9D9B-43A0-9DCD-8E82EFC000A5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DDD9-6352-4C40-9C93-5E7BA00480E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FABF-70C4-4FA3-8EB6-93CA76A27AFA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2257-4307-4F95-852E-22440B6919A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769C-0301-4038-B749-55D81C81B76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86A6-CD16-4F86-8A7C-13C23C2652A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C205-5B21-4791-A4D7-A9C3D4BF27A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D2BF-6B66-40ED-8DF4-6884145A9DF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B370-063E-4BE3-95B6-A7F717DA617E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A35B-35FE-4D9A-AE0F-BD4D289069F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7EF4-AC10-46E0-B5F8-1A025DE34D4E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05CF-6AC5-460B-921E-FD2B822316E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CCD3-3F5B-4DC6-9C5D-8E01B68C7D8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FOSSIL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races of the past……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9" name="Picture 2" descr="C:\Documents and Settings\carolyn.kinne\Local Settings\Temporary Internet Files\Content.IE5\E2LUDJLQ\MPj04386170000[1].jpg"/>
          <p:cNvPicPr/>
          <p:nvPr/>
        </p:nvPicPr>
        <p:blipFill>
          <a:blip r:embed="rId1"/>
          <a:stretch/>
        </p:blipFill>
        <p:spPr>
          <a:xfrm>
            <a:off x="1219320" y="533520"/>
            <a:ext cx="6400800" cy="42606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2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happened before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traces of things that happened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nts and animals can become fossi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only discovered a small number of the plants and animals from the p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not the original, only a cop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2" descr="C:\Documents and Settings\carolyn.kinne\Local Settings\Temporary Internet Files\Content.IE5\E2LUDJLQ\MCj02863140000[1].wmf"/>
          <p:cNvPicPr/>
          <p:nvPr/>
        </p:nvPicPr>
        <p:blipFill>
          <a:blip r:embed="rId1"/>
          <a:stretch/>
        </p:blipFill>
        <p:spPr>
          <a:xfrm>
            <a:off x="3657600" y="4495680"/>
            <a:ext cx="1778040" cy="181296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la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most famous example of fossilized plants is petrified wo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rns, tree leaves, and other plants have been found, to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7" descr="C:\Documents and Settings\carolyn.kinne\Local Settings\Temporary Internet Files\Content.IE5\E2LUDJLQ\MCj02938980000[1].wmf"/>
          <p:cNvPicPr/>
          <p:nvPr/>
        </p:nvPicPr>
        <p:blipFill>
          <a:blip r:embed="rId1"/>
          <a:stretch/>
        </p:blipFill>
        <p:spPr>
          <a:xfrm>
            <a:off x="3733920" y="3886200"/>
            <a:ext cx="1465200" cy="182736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nimals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most famous fossils are of dinosau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 are also fossils of sea creatures and mamm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metimes many fossils are found in one place because of a flood, earthquake, or other disas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1" name="Picture 3" descr="C:\Documents and Settings\carolyn.kinne\Local Settings\Temporary Internet Files\Content.IE5\E2LUDJLQ\MPj03857610000[1].jpg"/>
          <p:cNvPicPr/>
          <p:nvPr/>
        </p:nvPicPr>
        <p:blipFill>
          <a:blip r:embed="rId1"/>
          <a:stretch/>
        </p:blipFill>
        <p:spPr>
          <a:xfrm>
            <a:off x="5486400" y="3962520"/>
            <a:ext cx="3276720" cy="2340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Documents and Settings\carolyn.kinne\Local Settings\Temporary Internet Files\Content.IE5\60TCN93U\MCAN01357_0000[1].wmf"/>
          <p:cNvPicPr/>
          <p:nvPr/>
        </p:nvPicPr>
        <p:blipFill>
          <a:blip r:embed="rId2"/>
          <a:stretch/>
        </p:blipFill>
        <p:spPr>
          <a:xfrm>
            <a:off x="1371600" y="4267080"/>
            <a:ext cx="2544840" cy="156528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w fossils are foun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often found by accid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leontologists and geologists use clues in the rocks to find good places to hunt for fossi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cavating fossils is hard work, and must be done careful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2" descr="C:\Documents and Settings\carolyn.kinne\Local Settings\Temporary Internet Files\Content.IE5\MNV8FF4K\MCj01557110000[1].wmf"/>
          <p:cNvPicPr/>
          <p:nvPr/>
        </p:nvPicPr>
        <p:blipFill>
          <a:blip r:embed="rId1"/>
          <a:stretch/>
        </p:blipFill>
        <p:spPr>
          <a:xfrm>
            <a:off x="3276720" y="4343400"/>
            <a:ext cx="1820880" cy="144468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How are fossils made?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fossil is made when a plant or animal is covered quickly with mud or as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organism’s tissues are replaced over a long period of time with minerals from the soil it was buried 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can be dated by the layer of rock they were found in, or by radiocarbon dat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0" name="Picture 2" descr="C:\Documents and Settings\carolyn.kinne\Local Settings\Temporary Internet Files\Content.IE5\XKKQW3N2\MCNA00178_0000[1].wmf"/>
          <p:cNvPicPr/>
          <p:nvPr/>
        </p:nvPicPr>
        <p:blipFill>
          <a:blip r:embed="rId1"/>
          <a:stretch/>
        </p:blipFill>
        <p:spPr>
          <a:xfrm>
            <a:off x="3505320" y="5029200"/>
            <a:ext cx="1828800" cy="159876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ues to the pas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ny fossils give us an idea of what life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nts give clues about the diet of anim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imals give clues about the availability of plants and the climate when they liv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ny clues fit together to make a more complete picture of what the world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Picture 2" descr="C:\Documents and Settings\carolyn.kinne\Local Settings\Temporary Internet Files\Content.IE5\60TCN93U\MCj01985300000[1].wmf"/>
          <p:cNvPicPr/>
          <p:nvPr/>
        </p:nvPicPr>
        <p:blipFill>
          <a:blip r:embed="rId1"/>
          <a:stretch/>
        </p:blipFill>
        <p:spPr>
          <a:xfrm>
            <a:off x="3657600" y="5105520"/>
            <a:ext cx="1173240" cy="150948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n we ever really know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 matter how many clues we have, we can never really know what life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can make an educated guess, and fill in the gaps using what we know about life to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’s fun to imagine what it was like when the dinosaurs lived.  Try it next time you feel bored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8:59:39Z</dcterms:created>
  <dc:creator>Ector County ISD Employee</dc:creator>
  <dc:description/>
  <dc:language>en-US</dc:language>
  <cp:lastModifiedBy>LEGION2</cp:lastModifiedBy>
  <dcterms:modified xsi:type="dcterms:W3CDTF">2016-01-13T07:22:22Z</dcterms:modified>
  <cp:revision>8</cp:revision>
  <dc:subject/>
  <dc:title>Fossils</dc:title>
</cp:coreProperties>
</file>