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D9C-7550-4345-AC92-CAE02AAE48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E465-D2DA-474B-811D-FE7FBB9F1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613-81A8-4246-8FC0-548A4FA5A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7D3A-5F76-4DAD-808A-00BF17D47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5B00-91A2-41BF-B1A9-833408BDF8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5D78-066F-47F8-A9FE-E5384A6B3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lick and reveal activity could be used to check students’ understanding of weight an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note that the classification of Pluto as a planet was still being addressed at the time of publication and so it has still been included as part of thi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62B9-288E-44C5-AF99-271AA400A7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BCE-3B2E-48B2-8E54-E9D4A1E3AA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wo-part sequence shows how gravity affects an astronaut’s movement o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24F3-761A-491B-95F6-C8C1A8319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29B3-680F-42C2-B968-8432EA84BB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6819-5879-4186-9B2D-B590900A4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shows astronaut Edwin E. Aldrin Jr. walking on the lunar surface during the Apollo 11 mission to the Moon in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12C6-0880-43FC-B4FE-CCF02169C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ultiple-choice quiz could be used as a plenary activity to assess students’ understanding of weight and mass calculations. Class voting or the use of coloured traffic light cards could be used to make this a whole-clas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941E-8DE7-49C2-A2B1-8858B30A3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BF2C-07DF-4572-9A6D-A34EBB534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A44B-2934-4B61-9B5C-36111278A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BA30-315A-4B89-93CA-901D56F46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EF1C-8965-46BF-A680-87CC79AA2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6895-7314-4DF2-85E4-30C522D81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2441-7D0D-4DEC-B90F-3059EDBE1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2C97-1BD0-4146-A7BC-99B0A3C9ED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4DDF-4014-42B2-BEA1-843E73C0B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3F8-3CBE-45EE-B276-C3361BAE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F5C-C384-4B6D-98CE-18D3527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28D-7029-4AE3-BE23-52C3383A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A86-22B4-49D4-9656-A60BEDF8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FFB-57DB-45A6-BA1C-0D9DC14F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3A3-DEDA-4051-9804-3A7178EE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F3E-18B2-4158-B00B-676B977A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7BD-1EB8-42DD-BFAA-33DF7747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5CB-6DCD-4754-A433-B0B41B18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623-CF1B-4BDB-B40A-FA33B72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AD8-670E-4235-B1BF-55E4CAA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134-2FC9-4504-A41D-68756A39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185D-FB76-4623-83F2-97D9E0CCA1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f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g00140_"/>
          <p:cNvPicPr/>
          <p:nvPr/>
        </p:nvPicPr>
        <p:blipFill>
          <a:blip r:embed="rId1"/>
          <a:stretch/>
        </p:blipFill>
        <p:spPr>
          <a:xfrm>
            <a:off x="395280" y="33336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leplanets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63400" y="1468440"/>
            <a:ext cx="45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ave you ever heard anyone saying that “the scales don’t tell the truth about their weight”? You may be surprised to hear that they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3400" y="3551400"/>
            <a:ext cx="49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ales give a reading in kilograms, which are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not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98600" y="78408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WARNING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his lesson may alter your we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3400" y="490536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onfusion arises because most people use the word ‘weight’ when scientists would use the word ‘mas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ales_man"/>
          <p:cNvPicPr/>
          <p:nvPr/>
        </p:nvPicPr>
        <p:blipFill>
          <a:blip r:embed="rId1"/>
          <a:stretch/>
        </p:blipFill>
        <p:spPr>
          <a:xfrm>
            <a:off x="5624640" y="1600200"/>
            <a:ext cx="2990880" cy="47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63400" y="1795320"/>
            <a:ext cx="78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mount of matter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 an object and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400" y="388764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is caused by the pull of gravity acting on a mass. Like other forces, weight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has both magnitude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3400" y="5299200"/>
            <a:ext cx="78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the object is in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692360" y="1052640"/>
            <a:ext cx="5759280" cy="649080"/>
            <a:chOff x="1692360" y="1052640"/>
            <a:chExt cx="5759280" cy="649080"/>
          </a:xfrm>
        </p:grpSpPr>
        <p:sp>
          <p:nvSpPr>
            <p:cNvPr id="78" name="AutoShape 7"/>
            <p:cNvSpPr/>
            <p:nvPr/>
          </p:nvSpPr>
          <p:spPr>
            <a:xfrm>
              <a:off x="1692360" y="1052640"/>
              <a:ext cx="5759280" cy="64908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901880" y="1149120"/>
              <a:ext cx="53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ass and weight are not the sam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563400" y="2841480"/>
            <a:ext cx="77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is not a force and has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ight and mass on differen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179280" y="1052640"/>
          <a:ext cx="86997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997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3400" y="7840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the force that attracts objects with mass towards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400" y="4836960"/>
            <a:ext cx="41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arth has a bigger mass than the Moon and so exerts a stronger gravitational pull on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63400" y="3192480"/>
            <a:ext cx="39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an apple will have the same mass on Earth as on the Moon, but its weight will b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newton"/>
          <p:cNvPicPr/>
          <p:nvPr/>
        </p:nvPicPr>
        <p:blipFill>
          <a:blip r:embed="rId1"/>
          <a:stretch/>
        </p:blipFill>
        <p:spPr>
          <a:xfrm>
            <a:off x="4703760" y="976320"/>
            <a:ext cx="424332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58720" y="19908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bigger the mass of the object, the stronger the force of gr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t and mass 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250920" y="1341360"/>
          <a:ext cx="86994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weight of an object depends on its mass and the gravitational field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116000" y="1844640"/>
            <a:ext cx="6862680" cy="649440"/>
            <a:chOff x="1116000" y="1844640"/>
            <a:chExt cx="6862680" cy="649440"/>
          </a:xfrm>
        </p:grpSpPr>
        <p:sp>
          <p:nvSpPr>
            <p:cNvPr id="97" name="AutoShape 5"/>
            <p:cNvSpPr/>
            <p:nvPr/>
          </p:nvSpPr>
          <p:spPr>
            <a:xfrm>
              <a:off x="1116000" y="1844640"/>
              <a:ext cx="6862680" cy="64944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1289160" y="1918080"/>
              <a:ext cx="6511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weight = mass x gravitational field str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716040" y="334152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ight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16040" y="3803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ss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ilograms (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16040" y="4253040"/>
            <a:ext cx="72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avitational field strength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per kilogram (N/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0240" y="5283360"/>
            <a:ext cx="8456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avitational field strength depends on the force of gravity. On Earth it is 1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/kg, but it varies depending on planet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7720" y="2668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units for these quantiti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the weight of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3400" y="78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ar has a mass of 10,00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400" y="351648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3400" y="443232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0,00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kg x 1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3400" y="507852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100,00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3400" y="14302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is the weight of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400" y="2076480"/>
            <a:ext cx="43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Use 1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value of 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24234678"/>
          <p:cNvPicPr/>
          <p:nvPr/>
        </p:nvPicPr>
        <p:blipFill>
          <a:blip r:embed="rId1"/>
          <a:stretch/>
        </p:blipFill>
        <p:spPr>
          <a:xfrm>
            <a:off x="5141880" y="912960"/>
            <a:ext cx="3764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lculating the weight of an astro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3400" y="78408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An astronaut and his equipment have a mass of 150</a:t>
            </a:r>
            <a:r>
              <a:rPr b="0" lang="en-GB" sz="1000" spc="-1" strike="noStrike">
                <a:solidFill>
                  <a:srgbClr val="00006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673958"/>
          <p:cNvPicPr/>
          <p:nvPr/>
        </p:nvPicPr>
        <p:blipFill>
          <a:blip r:embed="rId1"/>
          <a:stretch/>
        </p:blipFill>
        <p:spPr>
          <a:xfrm>
            <a:off x="5405400" y="903240"/>
            <a:ext cx="3265560" cy="513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63400" y="2852640"/>
            <a:ext cx="44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(Use 1.6 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the value of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3400" y="1817640"/>
            <a:ext cx="43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What is the weight when he is standing on the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400" y="385920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400" y="477504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50 kg x 1.6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3400" y="542124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24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ShockwaveFlash1"/>
          <p:cNvGraphicFramePr/>
          <p:nvPr/>
        </p:nvGraphicFramePr>
        <p:xfrm>
          <a:off x="444600" y="1125360"/>
          <a:ext cx="8699400" cy="530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588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the fastest speed that could EVER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300 000 km per SECO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(That’s 186 000 miles per se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ght takes  2 seconds to reach the Earth from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it takes it 8 minutes to reach the Earth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0"/>
            <a:ext cx="845820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were in a spaceship that travelled at the speed of light and you started a journey from the Sun it would t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bou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 minutes to reach Merc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minutes to reach Ven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8 minutes to reach the Ea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ours to reach Plu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years to reach the next st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0 years to reach the edge of the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 000 years to reach the next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 000 years to reach the next Clus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609480"/>
            <a:ext cx="8001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al rockets don’t travel at the speed of light, they travel MUCH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Apollo missions took 4 days to reach the moon - at the speed of light it would have taken 2 second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rockets were travelling roughly 200 000 times slower tha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peed it would take 125 YEARS to get to Plu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16:07Z</dcterms:created>
  <dc:creator>Heather Murphy</dc:creator>
  <dc:description/>
  <dc:language>en-US</dc:language>
  <cp:lastModifiedBy>RomaK</cp:lastModifiedBy>
  <dcterms:modified xsi:type="dcterms:W3CDTF">2015-07-31T22:40:50Z</dcterms:modified>
  <cp:revision>6</cp:revision>
  <dc:subject/>
  <dc:title>Exploring our Solar System</dc:title>
</cp:coreProperties>
</file>