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CD6B-2A3D-4B3C-A223-63A0B7BE14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BD60-B81C-4121-B32D-DDEAE43F0C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oring 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6959-4D09-454A-A3C6-C1FECCDA2F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lculating how long light tak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at a speed of 300 000 000 m/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does light from the Sun take to reach Earth? (distance of Earth from the Sun is 150 million 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from earth to the sun = 150 000 000 000 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 000 000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000 000 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500 seconds (/60 =8.3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D318-7FFA-4A39-8BBA-6A3C9D36CD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used about weight and m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B4A0-FD8F-4339-BE99-41E88842E3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mass and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7494-58D1-4B71-9936-7F4BAEEAD8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lick and reveal activity could be used to check students’ understanding of weight and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note that the classification of Pluto as a planet was still being addressed at the time of publication and so it has still been included as part of this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4BC0-12D8-46AE-AFD2-5546EC8049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 does weight v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9ACB-D8BB-410E-B7CB-51E1EF681A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wo-part sequence shows how gravity affects an astronaut’s movement on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B25F-E1B3-4555-A58D-65BDF71688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we calculate an objects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06D8-5D6A-4849-9654-5C61B97984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6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DD15-3DF0-4390-A1C8-6206A28A1D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6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shows astronaut Edwin E. Aldrin Jr. walking on the lunar surface during the Apollo 11 mission to the Moon in 196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6F74-1833-4FD3-85B5-E5E07B8874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multiple-choice quiz could be used as a plenary activity to assess students’ understanding of weight and mass calculations. Class voting or the use of coloured traffic light cards could be used to make this a whole-class exerc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C77A-57CE-475E-8B09-DF8B6E237F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distances involved in space tra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manned and unmanned space f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very large distances are measured in 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7E33-BAF5-4273-9FE7-7A40C57968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B810-D83C-4570-BFD4-978767000A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78D5-8EE3-4D5F-9274-0E824AC420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wants to go into sp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6D45-B48E-4F3C-8C18-BA9BADAB41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do you think about space trave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n’t che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there too many dangers with tonnes of metal floating around above our he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should happen to the International Space Station stuck in budget wrang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do you think about Virgin Galactic which announced the construction of a $200 million spaceport in 2005 to take tourists into low earth orb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F403-737A-4B77-A6E4-45C43675B0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6332-B119-41FB-9630-59F7C08EC6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20AE-AD58-421A-AB7C-4310613FF9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AC4D-E04B-4915-83E4-B685F8FA9F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f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th is 150 000 000Km away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 travels 300 000km each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light takes about 8minutes to reach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y large distances in space are measured in light years- the distance that light travels in 1 year (9 500 000 000 000 000 K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ext star nearest to Earth (after the sun) is called Proxima Centauri  and is 4.22 light years a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69C-76A2-4C58-A6F0-C25C7D6A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5F0F-56B7-4701-A56C-DA080D74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5F2-9CF9-438E-AFE2-EBE6DC62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6F1-1F6A-4E99-A204-3D854E38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EC9-8ABA-40F5-B22F-8DFADA35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492-2DA3-4295-BC5F-9F058006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AD1-E8BF-449E-A2B7-1ECC9D65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7A1-B88F-46C0-BAB7-0E28D38B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2AE-CF81-44F9-97BB-D9757117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55F4-F8D5-4ADD-A348-90F26D22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61E-A910-4F00-B5E4-1611DCF8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8817-0473-43FF-9408-1DFCFF24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F85F-4D2B-46A5-8DF4-150E17E942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ploring 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2f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Ag00140_"/>
          <p:cNvPicPr/>
          <p:nvPr/>
        </p:nvPicPr>
        <p:blipFill>
          <a:blip r:embed="rId1"/>
          <a:stretch/>
        </p:blipFill>
        <p:spPr>
          <a:xfrm>
            <a:off x="395280" y="333360"/>
            <a:ext cx="2612880" cy="316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scaleplanets"/>
          <p:cNvPicPr/>
          <p:nvPr/>
        </p:nvPicPr>
        <p:blipFill>
          <a:blip r:embed="rId2"/>
          <a:stretch/>
        </p:blipFill>
        <p:spPr>
          <a:xfrm>
            <a:off x="4572000" y="189000"/>
            <a:ext cx="43815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lculating how long light tak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travels at a speed of 300 000 000 m/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does light from the Sun take to reach Earth? (distance of Earth from the Sun is 150 million 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from earth to the sun = 150 000 000 000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00 000 000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500 seconds (/60 =8.3 minu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fused about weight and m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63400" y="1468440"/>
            <a:ext cx="450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ave you ever heard anyone saying that “the scales don’t tell the truth about their weight”? You may be surprised to hear that they are r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63400" y="3551400"/>
            <a:ext cx="49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cales give a reading in kilograms, which are the units of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mas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, not the units of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98600" y="78408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WARNING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This lesson may alter your we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63400" y="4905360"/>
            <a:ext cx="53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confusion arises because most people use the word ‘weight’ when scientists would use the word ‘mass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cales_man"/>
          <p:cNvPicPr/>
          <p:nvPr/>
        </p:nvPicPr>
        <p:blipFill>
          <a:blip r:embed="rId1"/>
          <a:stretch/>
        </p:blipFill>
        <p:spPr>
          <a:xfrm>
            <a:off x="5624640" y="1600200"/>
            <a:ext cx="2990880" cy="47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mass and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63400" y="1795320"/>
            <a:ext cx="787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Mass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s the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mount of matter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in an object and is measured i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kilogram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63400" y="3887640"/>
            <a:ext cx="787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is a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and is caused by the pull of gravity acting on a mass. Like other forces, weight is measured i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newton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and has both magnitude and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63400" y="5299200"/>
            <a:ext cx="78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eight has different values depending on where the object is in the Uni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"/>
          <p:cNvGrpSpPr/>
          <p:nvPr/>
        </p:nvGrpSpPr>
        <p:grpSpPr>
          <a:xfrm>
            <a:off x="1692360" y="1052640"/>
            <a:ext cx="5759280" cy="649080"/>
            <a:chOff x="1692360" y="1052640"/>
            <a:chExt cx="5759280" cy="649080"/>
          </a:xfrm>
        </p:grpSpPr>
        <p:sp>
          <p:nvSpPr>
            <p:cNvPr id="78" name="AutoShape 7"/>
            <p:cNvSpPr/>
            <p:nvPr/>
          </p:nvSpPr>
          <p:spPr>
            <a:xfrm>
              <a:off x="1692360" y="1052640"/>
              <a:ext cx="5759280" cy="649080"/>
            </a:xfrm>
            <a:prstGeom prst="roundRect">
              <a:avLst>
                <a:gd name="adj" fmla="val 8995"/>
              </a:avLst>
            </a:prstGeom>
            <a:solidFill>
              <a:srgbClr val="ffffcc"/>
            </a:solidFill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1901880" y="1149120"/>
              <a:ext cx="53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Mass and weight are not the sam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9"/>
          <p:cNvSpPr/>
          <p:nvPr/>
        </p:nvSpPr>
        <p:spPr>
          <a:xfrm>
            <a:off x="563400" y="2841480"/>
            <a:ext cx="776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ass is not a force and has the same value anywhere in the Universe, including outer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forward_arrow_colour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ight and mass on differen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ShockwaveFlash1"/>
          <p:cNvGraphicFramePr/>
          <p:nvPr/>
        </p:nvGraphicFramePr>
        <p:xfrm>
          <a:off x="179280" y="1052640"/>
          <a:ext cx="869976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869976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es weight v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63400" y="7840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Gravity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s the force that attracts objects with mass towards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63400" y="4836960"/>
            <a:ext cx="414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Earth has a bigger mass than the Moon and so exerts a stronger gravitational pull on the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63400" y="3192480"/>
            <a:ext cx="395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or example, an apple will have the same mass on Earth as on the Moon, but its weight will be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newton"/>
          <p:cNvPicPr/>
          <p:nvPr/>
        </p:nvPicPr>
        <p:blipFill>
          <a:blip r:embed="rId1"/>
          <a:stretch/>
        </p:blipFill>
        <p:spPr>
          <a:xfrm>
            <a:off x="4703760" y="976320"/>
            <a:ext cx="4243320" cy="5145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558720" y="19908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bigger the mass of the object, the stronger the force of gr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ight and mass 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ShockwaveFlash1"/>
          <p:cNvGraphicFramePr/>
          <p:nvPr/>
        </p:nvGraphicFramePr>
        <p:xfrm>
          <a:off x="250920" y="1341360"/>
          <a:ext cx="869940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do we calculate an objects we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9640" y="836640"/>
            <a:ext cx="837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weight of an object depends on its mass and the gravitational field str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1116000" y="1844640"/>
            <a:ext cx="6862680" cy="649440"/>
            <a:chOff x="1116000" y="1844640"/>
            <a:chExt cx="6862680" cy="649440"/>
          </a:xfrm>
        </p:grpSpPr>
        <p:sp>
          <p:nvSpPr>
            <p:cNvPr id="97" name="AutoShape 5"/>
            <p:cNvSpPr/>
            <p:nvPr/>
          </p:nvSpPr>
          <p:spPr>
            <a:xfrm>
              <a:off x="1116000" y="1844640"/>
              <a:ext cx="6862680" cy="649440"/>
            </a:xfrm>
            <a:prstGeom prst="roundRect">
              <a:avLst>
                <a:gd name="adj" fmla="val 8995"/>
              </a:avLst>
            </a:prstGeom>
            <a:solidFill>
              <a:srgbClr val="ffff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6"/>
            <p:cNvSpPr/>
            <p:nvPr/>
          </p:nvSpPr>
          <p:spPr>
            <a:xfrm>
              <a:off x="1289160" y="1918080"/>
              <a:ext cx="6511680" cy="5094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weight = mass x gravitational field streng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7"/>
          <p:cNvSpPr/>
          <p:nvPr/>
        </p:nvSpPr>
        <p:spPr>
          <a:xfrm>
            <a:off x="716040" y="3341520"/>
            <a:ext cx="56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5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eight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ewtons (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716040" y="38037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ss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kilograms (k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16040" y="4253040"/>
            <a:ext cx="724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ravitational field strength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ewtons per kilogram (N/k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60240" y="5283360"/>
            <a:ext cx="84567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gravitational field strength depends on the force of gravity. On Earth it is 10</a:t>
            </a:r>
            <a:r>
              <a:rPr b="0" lang="en-GB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/kg, but it varies depending on planet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67720" y="2668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units for these quantities ar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lculating the weight of a 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63400" y="78408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car has a mass of 10,000</a:t>
            </a: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k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63400" y="3516480"/>
            <a:ext cx="45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 mass x  gravit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                            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fiel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63400" y="4432320"/>
            <a:ext cx="43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eight = 10,000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kg x 10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63400" y="5078520"/>
            <a:ext cx="29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100,000</a:t>
            </a:r>
            <a:r>
              <a:rPr b="1" lang="en-GB" sz="1000" spc="-1" strike="noStrike" u="sng">
                <a:solidFill>
                  <a:srgbClr val="cc00cc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63400" y="1430280"/>
            <a:ext cx="44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at is the weight of the c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63400" y="2076480"/>
            <a:ext cx="43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Use 10</a:t>
            </a: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/kg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s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value of the gravitational field strength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24234678"/>
          <p:cNvPicPr/>
          <p:nvPr/>
        </p:nvPicPr>
        <p:blipFill>
          <a:blip r:embed="rId1"/>
          <a:stretch/>
        </p:blipFill>
        <p:spPr>
          <a:xfrm>
            <a:off x="5141880" y="912960"/>
            <a:ext cx="376416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lculating the weight of an astrona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563400" y="784080"/>
            <a:ext cx="46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An astronaut and his equipment have a mass of 150</a:t>
            </a:r>
            <a:r>
              <a:rPr b="0" lang="en-GB" sz="1000" spc="-1" strike="noStrike">
                <a:solidFill>
                  <a:srgbClr val="00006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7673958"/>
          <p:cNvPicPr/>
          <p:nvPr/>
        </p:nvPicPr>
        <p:blipFill>
          <a:blip r:embed="rId1"/>
          <a:stretch/>
        </p:blipFill>
        <p:spPr>
          <a:xfrm>
            <a:off x="5405400" y="903240"/>
            <a:ext cx="3265560" cy="5133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563400" y="2852640"/>
            <a:ext cx="444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(Use 1.6 N/kg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s the value of </a:t>
            </a: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the gravitational field strength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63400" y="1817640"/>
            <a:ext cx="43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What is the weight when he is standing on the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3400" y="3859200"/>
            <a:ext cx="45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 mass x  gravit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                            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fiel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63400" y="4775040"/>
            <a:ext cx="43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eight = 150 kg x 1.6 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63400" y="5421240"/>
            <a:ext cx="29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240</a:t>
            </a:r>
            <a:r>
              <a:rPr b="1" lang="en-GB" sz="1000" spc="-1" strike="noStrike" u="sng">
                <a:solidFill>
                  <a:srgbClr val="cc00cc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lculating weight and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ShockwaveFlash1"/>
          <p:cNvGraphicFramePr/>
          <p:nvPr/>
        </p:nvGraphicFramePr>
        <p:xfrm>
          <a:off x="444600" y="1125360"/>
          <a:ext cx="8699400" cy="530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1125360"/>
                    <a:ext cx="8699400" cy="53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distances involved in space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manned and unmanned space 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very large distances are measured in sp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324000" y="256536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4"/>
          <a:stretch/>
        </p:blipFill>
        <p:spPr>
          <a:xfrm>
            <a:off x="324000" y="328464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5"/>
          <a:stretch/>
        </p:blipFill>
        <p:spPr>
          <a:xfrm>
            <a:off x="324000" y="530064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6"/>
          <a:stretch/>
        </p:blipFill>
        <p:spPr>
          <a:xfrm>
            <a:off x="324000" y="4724280"/>
            <a:ext cx="58896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4" dur="2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wants to go into sp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think about space tra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n’t chea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there too many dangers with tonnes of metal floating around above our head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happen to the International Space Station stuck in budget wrang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think about Virgin Galactic which announced the construction of a $200 million spaceport in 2005 to take tourists into low earth orb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80880" y="609480"/>
            <a:ext cx="83059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speed of light is the fastest speed that could EVER be achie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speed of light is 300 000 km per SECOND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(That’s 186 000 miles per seco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ight takes  2 seconds to reach the Earth from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it takes it 8 minutes to reach the Earth from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5800" y="0"/>
            <a:ext cx="8458200" cy="66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you were in a spaceship that travelled at the speed of light and you started a journey from the Sun it would ta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bou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3 minutes to reach Mercu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minutes to reach Ven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8 minutes to reach the Ear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hours to reach Plu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4 years to reach the next st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00 years to reach the edge of the galax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 000 years to reach the next galax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0 000 years to reach the next Cluste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09480" y="609480"/>
            <a:ext cx="8001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eal rockets don’t travel at the speed of light, they travel MUCH s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Apollo missions took 4 days to reach the moon - at the speed of light it would have taken 2 second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se rockets were travelling roughly 200 000 times slower than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t this speed it would take 125 YEARS to get to Plut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 is 150 000 000Km away from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 travels 300 000km each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 light takes about 8minutes to reach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large distances in space are measured in light years- the distance that light travels in 1 year (9 500 000 000 000 000 K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xt star nearest to Earth (after the sun) is called Proxima Centauri  and is 4.22 light years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6:16:07Z</dcterms:created>
  <dc:creator>Heather Murphy</dc:creator>
  <dc:description/>
  <dc:language>en-US</dc:language>
  <cp:lastModifiedBy>RomaK</cp:lastModifiedBy>
  <dcterms:modified xsi:type="dcterms:W3CDTF">2015-07-31T22:40:50Z</dcterms:modified>
  <cp:revision>6</cp:revision>
  <dc:subject/>
  <dc:title>Exploring our Solar System</dc:title>
</cp:coreProperties>
</file>