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  <p:custShowLst>
    <p:custShow name="A" id="0">
      <p:sldLst>
        <p:sld r:id="rId5"/>
      </p:sldLst>
    </p:custShow>
    <p:custShow name="C" id="1">
      <p:sldLst>
        <p:sld r:id="rId6"/>
      </p:sldLst>
    </p:custShow>
    <p:custShow name="OVER" id="2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121B-AEAE-417D-93E2-049BD2A908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on labels and ?s for further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l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on labels and ?s for further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NICKEL (CATALY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H2 (g) +4OH- (aq)  4H2O (l) + 4e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ICKEL (CATALY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(g) +4OH- (aq)  4H2O (l) + 4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NICKEL &amp; NICKEL OXIDE (CATALYS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 (g) + 2H2O (l) + 4e-  4OH- 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ICKEL &amp; NICKEL OXIDE (CATALY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2 (g) + 2H2O (l) + 4e-  4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H2 (g) + O2 (g)  2H2O (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70% efficienc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H2 (g) + O2 (g)  2H2O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0% effici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FDB1-8CD0-4A4D-963F-8EF9C5C3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37E6-4269-4658-9884-F6F0F6C0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16F-AD72-4B35-AD22-46887E42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091-3D5F-440E-A9D0-757351FD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1328-9648-468E-B707-1730BD62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81C-03DB-4D7E-8F3E-D3374DF0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8B8D-1C8B-4E76-AB1D-AD273DAB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A94-2BDE-4273-8B51-E533687D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2FF-ABCE-4AB4-9E15-332B1B20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8F6A-FE1E-4187-A91E-E2C2FD19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2D6A-5FCE-4547-9F39-24D41FA3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DFF-210C-4B4F-918D-96663833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66C8-73E7-4DEC-9767-15C83B9A69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Fue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24720" cy="4692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926160" y="4005360"/>
            <a:ext cx="133596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97164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36240" y="278136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8255880" y="2708280"/>
            <a:ext cx="570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 flipH="1">
            <a:off x="7524360" y="2997360"/>
            <a:ext cx="647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38320" y="134136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5470200" y="134136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ath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590640" y="61657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OVERALL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708360" y="3716280"/>
            <a:ext cx="1800360" cy="15130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6490440" y="6613560"/>
            <a:ext cx="26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08080"/>
                </a:solidFill>
                <a:latin typeface="Arial"/>
              </a:rPr>
              <a:t>Click on labels and ?s for further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8244000" y="2492280"/>
            <a:ext cx="576000" cy="100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324000" y="2492280"/>
            <a:ext cx="576000" cy="100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NICKEL (CATAL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4OH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4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5640" y="3789360"/>
            <a:ext cx="8137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ROU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NICKEL &amp; NICKEL OXIDE (CATALY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4e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4OH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684360" y="4365720"/>
            <a:ext cx="8137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alf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VERALL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70% effici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3:57:38Z</dcterms:created>
  <dc:creator>Scott Massara</dc:creator>
  <dc:description/>
  <dc:language>en-US</dc:language>
  <cp:lastModifiedBy>RomaK</cp:lastModifiedBy>
  <dcterms:modified xsi:type="dcterms:W3CDTF">2015-09-01T16:24:44Z</dcterms:modified>
  <cp:revision>7</cp:revision>
  <dc:subject/>
  <dc:title>Fuel Cell</dc:title>
</cp:coreProperties>
</file>