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CD67-2656-45DA-8A73-5DE83B3FE9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 to Pl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ch cone containing s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ch cone containing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h Tre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d cases known as ‘keys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h T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cases known as ‘key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t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reproduces asexually vegetative propa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reproduces asexually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reproduces through vegetative propa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rsh Butterc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roduces sexually and asexual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reproduces through vegetative propa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sh Butterc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s sexually and asexu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s of a Fl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ct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wer 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 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71F9-3DF1-4B57-A9C7-DD9DDDDD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2F91-BA72-44C6-A5F2-CE336E2E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7365-251C-4956-8D1F-FF0B777A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AD4-8EF8-4288-990D-19A5BCD07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8BDE-E4D7-4800-8872-4564EAE8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8B9E-3A0D-4153-8A75-FC5DC91A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A30BC-33E8-4AF0-87C2-57AB1E81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D86B-7D8A-42AC-8BF8-9A46F2D13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A9549-28ED-477B-9902-C0F68E450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0A8A-051F-4BED-94B2-2C781A53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702E-5FE4-4655-8737-31B459AF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F59E-458B-496D-9961-AEC2B006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D7DA2-1A83-4215-9AA4-8849E28F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8CE1-0B93-4A1B-99E8-C46825FB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3624-1F1C-49EA-8198-EE95D472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E397-F88D-43A9-93CC-AE88F7ACF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383B-9EDD-4A0A-A378-FD83C01F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1270-EBEA-4E92-89A9-0063C032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8745-E6CC-44AE-A293-ADB9B2FC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F99F-CF78-43BD-8E03-3BC52A337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AB44-74E2-47A5-89D9-7B8B5C68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9CDE-8372-42B9-A423-91B41C5E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A519-9A96-4DD2-AA92-0F5AAD6F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E28-A738-4589-A8F0-7EC0FE6D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2F46-90CD-4665-A58A-1039E42C7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81D5-24FA-427A-8ACA-6075DED795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ec94"/>
                </a:solidFill>
                <a:latin typeface="Times New Roman"/>
              </a:rPr>
              <a:t>Introduction to Plant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andard Grade B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40000" y="404640"/>
            <a:ext cx="48243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Reproduces sexually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1" name="Picture 6" descr="European larch trees"/>
          <p:cNvPicPr/>
          <p:nvPr/>
        </p:nvPicPr>
        <p:blipFill>
          <a:blip r:embed="rId1"/>
          <a:stretch/>
        </p:blipFill>
        <p:spPr>
          <a:xfrm>
            <a:off x="611280" y="1700280"/>
            <a:ext cx="3170160" cy="4824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one of European larch tree"/>
          <p:cNvPicPr/>
          <p:nvPr/>
        </p:nvPicPr>
        <p:blipFill>
          <a:blip r:embed="rId2"/>
          <a:stretch/>
        </p:blipFill>
        <p:spPr>
          <a:xfrm>
            <a:off x="5508720" y="1557360"/>
            <a:ext cx="3125520" cy="4176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"/>
          <p:cNvSpPr/>
          <p:nvPr/>
        </p:nvSpPr>
        <p:spPr>
          <a:xfrm>
            <a:off x="4356000" y="554688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arch cone containing see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673200" y="490680"/>
            <a:ext cx="274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Larch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25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Ash Tre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Picture 5" descr="Ash tree seed cases (Fraxinus excelsior)"/>
          <p:cNvPicPr/>
          <p:nvPr/>
        </p:nvPicPr>
        <p:blipFill>
          <a:blip r:embed="rId1"/>
          <a:stretch/>
        </p:blipFill>
        <p:spPr>
          <a:xfrm>
            <a:off x="0" y="1916280"/>
            <a:ext cx="4859280" cy="3262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Manna Ash (Fraxinus ornus)"/>
          <p:cNvPicPr/>
          <p:nvPr/>
        </p:nvPicPr>
        <p:blipFill>
          <a:blip r:embed="rId2"/>
          <a:stretch/>
        </p:blipFill>
        <p:spPr>
          <a:xfrm>
            <a:off x="5276880" y="1700280"/>
            <a:ext cx="3506760" cy="5157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5003640" y="404640"/>
            <a:ext cx="325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Reproduces sexu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0" y="530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Seed cases known as ‘keys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Nettl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6" descr="Common nettle"/>
          <p:cNvPicPr/>
          <p:nvPr/>
        </p:nvPicPr>
        <p:blipFill>
          <a:blip r:embed="rId1"/>
          <a:stretch/>
        </p:blipFill>
        <p:spPr>
          <a:xfrm>
            <a:off x="0" y="907920"/>
            <a:ext cx="5076720" cy="38293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9"/>
          <p:cNvSpPr/>
          <p:nvPr/>
        </p:nvSpPr>
        <p:spPr>
          <a:xfrm>
            <a:off x="5219640" y="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4094280" y="5013360"/>
            <a:ext cx="504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11"/>
          <p:cNvSpPr/>
          <p:nvPr/>
        </p:nvSpPr>
        <p:spPr>
          <a:xfrm>
            <a:off x="5219640" y="4365720"/>
            <a:ext cx="3924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Also reproduces asexually vegetative propag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2"/>
          <p:cNvSpPr/>
          <p:nvPr/>
        </p:nvSpPr>
        <p:spPr>
          <a:xfrm>
            <a:off x="5724360" y="333360"/>
            <a:ext cx="2602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Has flo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651280" y="2204640"/>
            <a:ext cx="3168360" cy="220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ec94"/>
                </a:solidFill>
                <a:latin typeface="Times New Roman"/>
              </a:rPr>
              <a:t>Also reproduces through vegetative propagation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6" descr="Greater celandine (Chelidonium majus)"/>
          <p:cNvPicPr/>
          <p:nvPr/>
        </p:nvPicPr>
        <p:blipFill>
          <a:blip r:embed="rId1"/>
          <a:stretch/>
        </p:blipFill>
        <p:spPr>
          <a:xfrm>
            <a:off x="0" y="1052640"/>
            <a:ext cx="5364000" cy="3587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0" y="0"/>
            <a:ext cx="500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Marsh Buttercu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0" y="5013360"/>
            <a:ext cx="48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Reproduces sexually and asexu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5724360" y="189000"/>
            <a:ext cx="303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ec94"/>
                </a:solidFill>
                <a:latin typeface="Times New Roman"/>
              </a:rPr>
              <a:t>Has flo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eec94"/>
                </a:solidFill>
                <a:uFillTx/>
                <a:latin typeface="Comic Sans MS"/>
              </a:rPr>
              <a:t>Parts of a Flower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pSp>
        <p:nvGrpSpPr>
          <p:cNvPr id="156" name="Group 5"/>
          <p:cNvGrpSpPr/>
          <p:nvPr/>
        </p:nvGrpSpPr>
        <p:grpSpPr>
          <a:xfrm>
            <a:off x="2340000" y="1700280"/>
            <a:ext cx="4800240" cy="4871520"/>
            <a:chOff x="2340000" y="1700280"/>
            <a:chExt cx="4800240" cy="4871520"/>
          </a:xfrm>
        </p:grpSpPr>
        <p:grpSp>
          <p:nvGrpSpPr>
            <p:cNvPr id="157" name="Group 6"/>
            <p:cNvGrpSpPr/>
            <p:nvPr/>
          </p:nvGrpSpPr>
          <p:grpSpPr>
            <a:xfrm>
              <a:off x="2340000" y="1700280"/>
              <a:ext cx="4800240" cy="3904920"/>
              <a:chOff x="2340000" y="1700280"/>
              <a:chExt cx="4800240" cy="3904920"/>
            </a:xfrm>
          </p:grpSpPr>
          <p:sp>
            <p:nvSpPr>
              <p:cNvPr id="158" name="Freeform 7"/>
              <p:cNvSpPr/>
              <p:nvPr/>
            </p:nvSpPr>
            <p:spPr>
              <a:xfrm>
                <a:off x="2340000" y="1773720"/>
                <a:ext cx="2468160" cy="3737520"/>
              </a:xfrm>
              <a:custGeom>
                <a:avLst/>
                <a:gdLst/>
                <a:ahLst/>
                <a:rect l="l" t="t" r="r" b="b"/>
                <a:pathLst>
                  <a:path w="2754" h="4066">
                    <a:moveTo>
                      <a:pt x="1767" y="172"/>
                    </a:moveTo>
                    <a:cubicBezTo>
                      <a:pt x="1723" y="80"/>
                      <a:pt x="1670" y="59"/>
                      <a:pt x="1594" y="30"/>
                    </a:cubicBezTo>
                    <a:cubicBezTo>
                      <a:pt x="1518" y="1"/>
                      <a:pt x="1419" y="0"/>
                      <a:pt x="1309" y="0"/>
                    </a:cubicBezTo>
                    <a:cubicBezTo>
                      <a:pt x="1199" y="0"/>
                      <a:pt x="1065" y="9"/>
                      <a:pt x="934" y="30"/>
                    </a:cubicBezTo>
                    <a:cubicBezTo>
                      <a:pt x="803" y="51"/>
                      <a:pt x="644" y="81"/>
                      <a:pt x="522" y="127"/>
                    </a:cubicBezTo>
                    <a:cubicBezTo>
                      <a:pt x="400" y="173"/>
                      <a:pt x="279" y="243"/>
                      <a:pt x="199" y="307"/>
                    </a:cubicBezTo>
                    <a:cubicBezTo>
                      <a:pt x="119" y="371"/>
                      <a:pt x="73" y="434"/>
                      <a:pt x="42" y="510"/>
                    </a:cubicBezTo>
                    <a:cubicBezTo>
                      <a:pt x="11" y="586"/>
                      <a:pt x="0" y="658"/>
                      <a:pt x="12" y="765"/>
                    </a:cubicBezTo>
                    <a:cubicBezTo>
                      <a:pt x="24" y="872"/>
                      <a:pt x="51" y="994"/>
                      <a:pt x="117" y="1155"/>
                    </a:cubicBezTo>
                    <a:cubicBezTo>
                      <a:pt x="183" y="1316"/>
                      <a:pt x="301" y="1536"/>
                      <a:pt x="409" y="1732"/>
                    </a:cubicBezTo>
                    <a:cubicBezTo>
                      <a:pt x="517" y="1928"/>
                      <a:pt x="623" y="2119"/>
                      <a:pt x="767" y="2333"/>
                    </a:cubicBezTo>
                    <a:cubicBezTo>
                      <a:pt x="911" y="2547"/>
                      <a:pt x="1124" y="2831"/>
                      <a:pt x="1276" y="3014"/>
                    </a:cubicBezTo>
                    <a:cubicBezTo>
                      <a:pt x="1429" y="3196"/>
                      <a:pt x="1556" y="3309"/>
                      <a:pt x="1684" y="3429"/>
                    </a:cubicBezTo>
                    <a:cubicBezTo>
                      <a:pt x="1812" y="3550"/>
                      <a:pt x="1951" y="3662"/>
                      <a:pt x="2043" y="3737"/>
                    </a:cubicBezTo>
                    <a:cubicBezTo>
                      <a:pt x="2134" y="3813"/>
                      <a:pt x="2190" y="3846"/>
                      <a:pt x="2237" y="3880"/>
                    </a:cubicBezTo>
                    <a:cubicBezTo>
                      <a:pt x="2284" y="3914"/>
                      <a:pt x="2296" y="3923"/>
                      <a:pt x="2324" y="3944"/>
                    </a:cubicBezTo>
                    <a:cubicBezTo>
                      <a:pt x="2352" y="3965"/>
                      <a:pt x="2373" y="3986"/>
                      <a:pt x="2402" y="4004"/>
                    </a:cubicBezTo>
                    <a:cubicBezTo>
                      <a:pt x="2431" y="4022"/>
                      <a:pt x="2462" y="4048"/>
                      <a:pt x="2501" y="4055"/>
                    </a:cubicBezTo>
                    <a:cubicBezTo>
                      <a:pt x="2540" y="4062"/>
                      <a:pt x="2594" y="4066"/>
                      <a:pt x="2633" y="4046"/>
                    </a:cubicBezTo>
                    <a:cubicBezTo>
                      <a:pt x="2672" y="4026"/>
                      <a:pt x="2715" y="3976"/>
                      <a:pt x="2734" y="3937"/>
                    </a:cubicBezTo>
                    <a:cubicBezTo>
                      <a:pt x="2753" y="3898"/>
                      <a:pt x="2754" y="3855"/>
                      <a:pt x="2749" y="3809"/>
                    </a:cubicBezTo>
                    <a:cubicBezTo>
                      <a:pt x="2744" y="3763"/>
                      <a:pt x="2721" y="3710"/>
                      <a:pt x="2704" y="3659"/>
                    </a:cubicBezTo>
                    <a:cubicBezTo>
                      <a:pt x="2687" y="3608"/>
                      <a:pt x="2669" y="3561"/>
                      <a:pt x="2644" y="3502"/>
                    </a:cubicBezTo>
                    <a:cubicBezTo>
                      <a:pt x="2619" y="3443"/>
                      <a:pt x="2588" y="3384"/>
                      <a:pt x="2554" y="3307"/>
                    </a:cubicBezTo>
                    <a:cubicBezTo>
                      <a:pt x="2520" y="3230"/>
                      <a:pt x="2502" y="3189"/>
                      <a:pt x="2441" y="3037"/>
                    </a:cubicBezTo>
                    <a:cubicBezTo>
                      <a:pt x="2380" y="2885"/>
                      <a:pt x="2241" y="2584"/>
                      <a:pt x="2186" y="2392"/>
                    </a:cubicBezTo>
                    <a:cubicBezTo>
                      <a:pt x="2131" y="2200"/>
                      <a:pt x="2138" y="2078"/>
                      <a:pt x="2111" y="1882"/>
                    </a:cubicBezTo>
                    <a:cubicBezTo>
                      <a:pt x="2084" y="1686"/>
                      <a:pt x="2064" y="1431"/>
                      <a:pt x="2022" y="1215"/>
                    </a:cubicBezTo>
                    <a:cubicBezTo>
                      <a:pt x="1980" y="999"/>
                      <a:pt x="1899" y="759"/>
                      <a:pt x="1857" y="585"/>
                    </a:cubicBezTo>
                    <a:cubicBezTo>
                      <a:pt x="1815" y="411"/>
                      <a:pt x="1874" y="264"/>
                      <a:pt x="1767" y="172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8"/>
              <p:cNvSpPr/>
              <p:nvPr/>
            </p:nvSpPr>
            <p:spPr>
              <a:xfrm>
                <a:off x="5065560" y="1810440"/>
                <a:ext cx="2074680" cy="3794760"/>
              </a:xfrm>
              <a:custGeom>
                <a:avLst/>
                <a:gdLst/>
                <a:ahLst/>
                <a:rect l="l" t="t" r="r" b="b"/>
                <a:pathLst>
                  <a:path w="2315" h="4128">
                    <a:moveTo>
                      <a:pt x="316" y="1505"/>
                    </a:moveTo>
                    <a:cubicBezTo>
                      <a:pt x="335" y="1308"/>
                      <a:pt x="359" y="1094"/>
                      <a:pt x="383" y="905"/>
                    </a:cubicBezTo>
                    <a:cubicBezTo>
                      <a:pt x="407" y="716"/>
                      <a:pt x="431" y="496"/>
                      <a:pt x="458" y="372"/>
                    </a:cubicBezTo>
                    <a:cubicBezTo>
                      <a:pt x="485" y="248"/>
                      <a:pt x="509" y="216"/>
                      <a:pt x="548" y="162"/>
                    </a:cubicBezTo>
                    <a:cubicBezTo>
                      <a:pt x="587" y="108"/>
                      <a:pt x="636" y="76"/>
                      <a:pt x="691" y="50"/>
                    </a:cubicBezTo>
                    <a:cubicBezTo>
                      <a:pt x="746" y="24"/>
                      <a:pt x="792" y="10"/>
                      <a:pt x="878" y="5"/>
                    </a:cubicBezTo>
                    <a:cubicBezTo>
                      <a:pt x="964" y="0"/>
                      <a:pt x="1084" y="3"/>
                      <a:pt x="1208" y="20"/>
                    </a:cubicBezTo>
                    <a:cubicBezTo>
                      <a:pt x="1332" y="37"/>
                      <a:pt x="1485" y="64"/>
                      <a:pt x="1621" y="110"/>
                    </a:cubicBezTo>
                    <a:cubicBezTo>
                      <a:pt x="1757" y="156"/>
                      <a:pt x="1918" y="225"/>
                      <a:pt x="2026" y="297"/>
                    </a:cubicBezTo>
                    <a:cubicBezTo>
                      <a:pt x="2134" y="369"/>
                      <a:pt x="2231" y="454"/>
                      <a:pt x="2273" y="545"/>
                    </a:cubicBezTo>
                    <a:cubicBezTo>
                      <a:pt x="2315" y="636"/>
                      <a:pt x="2300" y="719"/>
                      <a:pt x="2281" y="845"/>
                    </a:cubicBezTo>
                    <a:cubicBezTo>
                      <a:pt x="2262" y="971"/>
                      <a:pt x="2219" y="1141"/>
                      <a:pt x="2161" y="1302"/>
                    </a:cubicBezTo>
                    <a:cubicBezTo>
                      <a:pt x="2103" y="1463"/>
                      <a:pt x="2017" y="1634"/>
                      <a:pt x="1936" y="1812"/>
                    </a:cubicBezTo>
                    <a:cubicBezTo>
                      <a:pt x="1855" y="1990"/>
                      <a:pt x="1757" y="2202"/>
                      <a:pt x="1674" y="2372"/>
                    </a:cubicBezTo>
                    <a:cubicBezTo>
                      <a:pt x="1591" y="2542"/>
                      <a:pt x="1515" y="2692"/>
                      <a:pt x="1438" y="2830"/>
                    </a:cubicBezTo>
                    <a:cubicBezTo>
                      <a:pt x="1360" y="2969"/>
                      <a:pt x="1281" y="3092"/>
                      <a:pt x="1208" y="3203"/>
                    </a:cubicBezTo>
                    <a:cubicBezTo>
                      <a:pt x="1136" y="3314"/>
                      <a:pt x="1064" y="3412"/>
                      <a:pt x="1001" y="3496"/>
                    </a:cubicBezTo>
                    <a:cubicBezTo>
                      <a:pt x="938" y="3580"/>
                      <a:pt x="883" y="3642"/>
                      <a:pt x="829" y="3704"/>
                    </a:cubicBezTo>
                    <a:cubicBezTo>
                      <a:pt x="775" y="3766"/>
                      <a:pt x="715" y="3829"/>
                      <a:pt x="675" y="3870"/>
                    </a:cubicBezTo>
                    <a:cubicBezTo>
                      <a:pt x="635" y="3910"/>
                      <a:pt x="615" y="3922"/>
                      <a:pt x="589" y="3944"/>
                    </a:cubicBezTo>
                    <a:cubicBezTo>
                      <a:pt x="563" y="3966"/>
                      <a:pt x="541" y="3986"/>
                      <a:pt x="519" y="4003"/>
                    </a:cubicBezTo>
                    <a:cubicBezTo>
                      <a:pt x="497" y="4020"/>
                      <a:pt x="478" y="4033"/>
                      <a:pt x="456" y="4048"/>
                    </a:cubicBezTo>
                    <a:cubicBezTo>
                      <a:pt x="434" y="4063"/>
                      <a:pt x="418" y="4082"/>
                      <a:pt x="384" y="4093"/>
                    </a:cubicBezTo>
                    <a:cubicBezTo>
                      <a:pt x="350" y="4104"/>
                      <a:pt x="302" y="4128"/>
                      <a:pt x="252" y="4117"/>
                    </a:cubicBezTo>
                    <a:cubicBezTo>
                      <a:pt x="202" y="4106"/>
                      <a:pt x="125" y="4073"/>
                      <a:pt x="84" y="4030"/>
                    </a:cubicBezTo>
                    <a:cubicBezTo>
                      <a:pt x="43" y="3987"/>
                      <a:pt x="18" y="3919"/>
                      <a:pt x="9" y="3862"/>
                    </a:cubicBezTo>
                    <a:cubicBezTo>
                      <a:pt x="0" y="3805"/>
                      <a:pt x="11" y="3736"/>
                      <a:pt x="27" y="3685"/>
                    </a:cubicBezTo>
                    <a:cubicBezTo>
                      <a:pt x="43" y="3634"/>
                      <a:pt x="85" y="3610"/>
                      <a:pt x="108" y="3556"/>
                    </a:cubicBezTo>
                    <a:cubicBezTo>
                      <a:pt x="131" y="3502"/>
                      <a:pt x="154" y="3438"/>
                      <a:pt x="165" y="3361"/>
                    </a:cubicBezTo>
                    <a:cubicBezTo>
                      <a:pt x="176" y="3284"/>
                      <a:pt x="159" y="3306"/>
                      <a:pt x="177" y="3094"/>
                    </a:cubicBezTo>
                    <a:cubicBezTo>
                      <a:pt x="195" y="2882"/>
                      <a:pt x="247" y="2354"/>
                      <a:pt x="270" y="2089"/>
                    </a:cubicBezTo>
                    <a:cubicBezTo>
                      <a:pt x="293" y="1824"/>
                      <a:pt x="297" y="1702"/>
                      <a:pt x="316" y="1505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9"/>
              <p:cNvSpPr/>
              <p:nvPr/>
            </p:nvSpPr>
            <p:spPr>
              <a:xfrm>
                <a:off x="3738240" y="1700280"/>
                <a:ext cx="1918800" cy="3649320"/>
              </a:xfrm>
              <a:custGeom>
                <a:avLst/>
                <a:gdLst/>
                <a:ahLst/>
                <a:rect l="l" t="t" r="r" b="b"/>
                <a:pathLst>
                  <a:path w="2141" h="3970">
                    <a:moveTo>
                      <a:pt x="1316" y="3970"/>
                    </a:moveTo>
                    <a:cubicBezTo>
                      <a:pt x="1293" y="3966"/>
                      <a:pt x="1215" y="3956"/>
                      <a:pt x="1181" y="3946"/>
                    </a:cubicBezTo>
                    <a:cubicBezTo>
                      <a:pt x="1147" y="3936"/>
                      <a:pt x="1139" y="3926"/>
                      <a:pt x="1112" y="3910"/>
                    </a:cubicBezTo>
                    <a:cubicBezTo>
                      <a:pt x="1085" y="3894"/>
                      <a:pt x="1051" y="3873"/>
                      <a:pt x="1019" y="3847"/>
                    </a:cubicBezTo>
                    <a:cubicBezTo>
                      <a:pt x="987" y="3821"/>
                      <a:pt x="952" y="3785"/>
                      <a:pt x="919" y="3751"/>
                    </a:cubicBezTo>
                    <a:cubicBezTo>
                      <a:pt x="886" y="3717"/>
                      <a:pt x="857" y="3690"/>
                      <a:pt x="821" y="3642"/>
                    </a:cubicBezTo>
                    <a:cubicBezTo>
                      <a:pt x="786" y="3594"/>
                      <a:pt x="747" y="3546"/>
                      <a:pt x="707" y="3462"/>
                    </a:cubicBezTo>
                    <a:cubicBezTo>
                      <a:pt x="667" y="3377"/>
                      <a:pt x="623" y="3275"/>
                      <a:pt x="578" y="3139"/>
                    </a:cubicBezTo>
                    <a:cubicBezTo>
                      <a:pt x="533" y="3002"/>
                      <a:pt x="474" y="2807"/>
                      <a:pt x="435" y="2642"/>
                    </a:cubicBezTo>
                    <a:cubicBezTo>
                      <a:pt x="395" y="2477"/>
                      <a:pt x="371" y="2315"/>
                      <a:pt x="342" y="2148"/>
                    </a:cubicBezTo>
                    <a:cubicBezTo>
                      <a:pt x="313" y="1981"/>
                      <a:pt x="289" y="1795"/>
                      <a:pt x="259" y="1639"/>
                    </a:cubicBezTo>
                    <a:cubicBezTo>
                      <a:pt x="229" y="1483"/>
                      <a:pt x="194" y="1352"/>
                      <a:pt x="161" y="1212"/>
                    </a:cubicBezTo>
                    <a:cubicBezTo>
                      <a:pt x="128" y="1072"/>
                      <a:pt x="85" y="935"/>
                      <a:pt x="64" y="799"/>
                    </a:cubicBezTo>
                    <a:cubicBezTo>
                      <a:pt x="43" y="663"/>
                      <a:pt x="0" y="515"/>
                      <a:pt x="34" y="395"/>
                    </a:cubicBezTo>
                    <a:cubicBezTo>
                      <a:pt x="68" y="275"/>
                      <a:pt x="162" y="144"/>
                      <a:pt x="267" y="80"/>
                    </a:cubicBezTo>
                    <a:cubicBezTo>
                      <a:pt x="372" y="16"/>
                      <a:pt x="533" y="24"/>
                      <a:pt x="664" y="12"/>
                    </a:cubicBezTo>
                    <a:cubicBezTo>
                      <a:pt x="795" y="0"/>
                      <a:pt x="924" y="5"/>
                      <a:pt x="1054" y="5"/>
                    </a:cubicBezTo>
                    <a:cubicBezTo>
                      <a:pt x="1184" y="5"/>
                      <a:pt x="1305" y="5"/>
                      <a:pt x="1444" y="12"/>
                    </a:cubicBezTo>
                    <a:cubicBezTo>
                      <a:pt x="1583" y="19"/>
                      <a:pt x="1777" y="9"/>
                      <a:pt x="1887" y="50"/>
                    </a:cubicBezTo>
                    <a:cubicBezTo>
                      <a:pt x="1997" y="91"/>
                      <a:pt x="2067" y="166"/>
                      <a:pt x="2104" y="260"/>
                    </a:cubicBezTo>
                    <a:cubicBezTo>
                      <a:pt x="2141" y="354"/>
                      <a:pt x="2120" y="490"/>
                      <a:pt x="2111" y="612"/>
                    </a:cubicBezTo>
                    <a:cubicBezTo>
                      <a:pt x="2102" y="734"/>
                      <a:pt x="2072" y="867"/>
                      <a:pt x="2051" y="994"/>
                    </a:cubicBezTo>
                    <a:cubicBezTo>
                      <a:pt x="2030" y="1121"/>
                      <a:pt x="2001" y="1257"/>
                      <a:pt x="1984" y="1377"/>
                    </a:cubicBezTo>
                    <a:cubicBezTo>
                      <a:pt x="1967" y="1497"/>
                      <a:pt x="1960" y="1575"/>
                      <a:pt x="1946" y="1714"/>
                    </a:cubicBezTo>
                    <a:cubicBezTo>
                      <a:pt x="1932" y="1853"/>
                      <a:pt x="1911" y="2059"/>
                      <a:pt x="1901" y="2209"/>
                    </a:cubicBezTo>
                    <a:cubicBezTo>
                      <a:pt x="1891" y="2359"/>
                      <a:pt x="1893" y="2483"/>
                      <a:pt x="1886" y="2614"/>
                    </a:cubicBezTo>
                    <a:cubicBezTo>
                      <a:pt x="1879" y="2745"/>
                      <a:pt x="1871" y="2869"/>
                      <a:pt x="1861" y="2993"/>
                    </a:cubicBezTo>
                    <a:cubicBezTo>
                      <a:pt x="1851" y="3117"/>
                      <a:pt x="1843" y="3256"/>
                      <a:pt x="1824" y="3358"/>
                    </a:cubicBezTo>
                    <a:cubicBezTo>
                      <a:pt x="1805" y="3460"/>
                      <a:pt x="1776" y="3537"/>
                      <a:pt x="1750" y="3605"/>
                    </a:cubicBezTo>
                    <a:cubicBezTo>
                      <a:pt x="1724" y="3673"/>
                      <a:pt x="1696" y="3717"/>
                      <a:pt x="1669" y="3764"/>
                    </a:cubicBezTo>
                    <a:cubicBezTo>
                      <a:pt x="1642" y="3811"/>
                      <a:pt x="1612" y="3860"/>
                      <a:pt x="1589" y="3886"/>
                    </a:cubicBezTo>
                    <a:cubicBezTo>
                      <a:pt x="1566" y="3912"/>
                      <a:pt x="1561" y="3909"/>
                      <a:pt x="1529" y="3922"/>
                    </a:cubicBezTo>
                    <a:cubicBezTo>
                      <a:pt x="1497" y="3935"/>
                      <a:pt x="1422" y="3958"/>
                      <a:pt x="1394" y="3967"/>
                    </a:cubicBezTo>
                    <a:cubicBezTo>
                      <a:pt x="1394" y="3967"/>
                      <a:pt x="1316" y="3970"/>
                      <a:pt x="1316" y="3970"/>
                    </a:cubicBezTo>
                    <a:close/>
                  </a:path>
                </a:pathLst>
              </a:custGeom>
              <a:solidFill>
                <a:srgbClr val="e67dff"/>
              </a:solidFill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10"/>
            <p:cNvGrpSpPr/>
            <p:nvPr/>
          </p:nvGrpSpPr>
          <p:grpSpPr>
            <a:xfrm>
              <a:off x="3299040" y="2783880"/>
              <a:ext cx="3556080" cy="3787920"/>
              <a:chOff x="3299040" y="2783880"/>
              <a:chExt cx="3556080" cy="3787920"/>
            </a:xfrm>
          </p:grpSpPr>
          <p:grpSp>
            <p:nvGrpSpPr>
              <p:cNvPr id="162" name="Group 11"/>
              <p:cNvGrpSpPr/>
              <p:nvPr/>
            </p:nvGrpSpPr>
            <p:grpSpPr>
              <a:xfrm>
                <a:off x="3508560" y="3641040"/>
                <a:ext cx="1298160" cy="1696320"/>
                <a:chOff x="3508560" y="3641040"/>
                <a:chExt cx="1298160" cy="1696320"/>
              </a:xfrm>
            </p:grpSpPr>
            <p:sp>
              <p:nvSpPr>
                <p:cNvPr id="163" name="Freeform 12"/>
                <p:cNvSpPr/>
                <p:nvPr/>
              </p:nvSpPr>
              <p:spPr>
                <a:xfrm>
                  <a:off x="3762720" y="4013640"/>
                  <a:ext cx="1044000" cy="1323720"/>
                </a:xfrm>
                <a:custGeom>
                  <a:avLst/>
                  <a:gdLst/>
                  <a:ahLst/>
                  <a:rect l="l" t="t" r="r" b="b"/>
                  <a:pathLst>
                    <a:path w="1165" h="1440">
                      <a:moveTo>
                        <a:pt x="1152" y="1440"/>
                      </a:moveTo>
                      <a:cubicBezTo>
                        <a:pt x="1146" y="1434"/>
                        <a:pt x="1137" y="1421"/>
                        <a:pt x="1115" y="1406"/>
                      </a:cubicBezTo>
                      <a:cubicBezTo>
                        <a:pt x="1093" y="1391"/>
                        <a:pt x="1049" y="1368"/>
                        <a:pt x="1017" y="1348"/>
                      </a:cubicBezTo>
                      <a:cubicBezTo>
                        <a:pt x="985" y="1328"/>
                        <a:pt x="957" y="1306"/>
                        <a:pt x="922" y="1286"/>
                      </a:cubicBezTo>
                      <a:cubicBezTo>
                        <a:pt x="887" y="1266"/>
                        <a:pt x="846" y="1249"/>
                        <a:pt x="807" y="1226"/>
                      </a:cubicBezTo>
                      <a:cubicBezTo>
                        <a:pt x="769" y="1203"/>
                        <a:pt x="727" y="1180"/>
                        <a:pt x="688" y="1149"/>
                      </a:cubicBezTo>
                      <a:cubicBezTo>
                        <a:pt x="651" y="1118"/>
                        <a:pt x="617" y="1081"/>
                        <a:pt x="579" y="1040"/>
                      </a:cubicBezTo>
                      <a:cubicBezTo>
                        <a:pt x="540" y="997"/>
                        <a:pt x="497" y="946"/>
                        <a:pt x="459" y="895"/>
                      </a:cubicBezTo>
                      <a:cubicBezTo>
                        <a:pt x="421" y="845"/>
                        <a:pt x="386" y="792"/>
                        <a:pt x="346" y="733"/>
                      </a:cubicBezTo>
                      <a:cubicBezTo>
                        <a:pt x="306" y="674"/>
                        <a:pt x="257" y="604"/>
                        <a:pt x="219" y="540"/>
                      </a:cubicBezTo>
                      <a:cubicBezTo>
                        <a:pt x="180" y="474"/>
                        <a:pt x="146" y="402"/>
                        <a:pt x="117" y="341"/>
                      </a:cubicBezTo>
                      <a:cubicBezTo>
                        <a:pt x="89" y="280"/>
                        <a:pt x="68" y="225"/>
                        <a:pt x="49" y="173"/>
                      </a:cubicBezTo>
                      <a:cubicBezTo>
                        <a:pt x="30" y="121"/>
                        <a:pt x="0" y="57"/>
                        <a:pt x="2" y="31"/>
                      </a:cubicBezTo>
                      <a:cubicBezTo>
                        <a:pt x="4" y="5"/>
                        <a:pt x="41" y="0"/>
                        <a:pt x="59" y="18"/>
                      </a:cubicBezTo>
                      <a:cubicBezTo>
                        <a:pt x="77" y="38"/>
                        <a:pt x="90" y="99"/>
                        <a:pt x="110" y="148"/>
                      </a:cubicBezTo>
                      <a:cubicBezTo>
                        <a:pt x="129" y="198"/>
                        <a:pt x="146" y="255"/>
                        <a:pt x="174" y="314"/>
                      </a:cubicBezTo>
                      <a:cubicBezTo>
                        <a:pt x="202" y="374"/>
                        <a:pt x="240" y="440"/>
                        <a:pt x="279" y="505"/>
                      </a:cubicBezTo>
                      <a:cubicBezTo>
                        <a:pt x="319" y="569"/>
                        <a:pt x="369" y="641"/>
                        <a:pt x="411" y="699"/>
                      </a:cubicBezTo>
                      <a:cubicBezTo>
                        <a:pt x="454" y="759"/>
                        <a:pt x="496" y="812"/>
                        <a:pt x="533" y="860"/>
                      </a:cubicBezTo>
                      <a:cubicBezTo>
                        <a:pt x="571" y="907"/>
                        <a:pt x="603" y="947"/>
                        <a:pt x="638" y="985"/>
                      </a:cubicBezTo>
                      <a:cubicBezTo>
                        <a:pt x="675" y="1023"/>
                        <a:pt x="709" y="1056"/>
                        <a:pt x="749" y="1088"/>
                      </a:cubicBezTo>
                      <a:cubicBezTo>
                        <a:pt x="789" y="1120"/>
                        <a:pt x="835" y="1154"/>
                        <a:pt x="878" y="1179"/>
                      </a:cubicBezTo>
                      <a:cubicBezTo>
                        <a:pt x="921" y="1204"/>
                        <a:pt x="973" y="1220"/>
                        <a:pt x="1007" y="1240"/>
                      </a:cubicBezTo>
                      <a:cubicBezTo>
                        <a:pt x="1041" y="1260"/>
                        <a:pt x="1055" y="1279"/>
                        <a:pt x="1081" y="1298"/>
                      </a:cubicBezTo>
                      <a:cubicBezTo>
                        <a:pt x="1107" y="1317"/>
                        <a:pt x="1148" y="1341"/>
                        <a:pt x="1165" y="1352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Freeform 13"/>
                <p:cNvSpPr/>
                <p:nvPr/>
              </p:nvSpPr>
              <p:spPr>
                <a:xfrm rot="19813200">
                  <a:off x="3596040" y="3679200"/>
                  <a:ext cx="266760" cy="424440"/>
                </a:xfrm>
                <a:custGeom>
                  <a:avLst/>
                  <a:gdLst/>
                  <a:ahLst/>
                  <a:rect l="l" t="t" r="r" b="b"/>
                  <a:pathLst>
                    <a:path w="763" h="1182">
                      <a:moveTo>
                        <a:pt x="41" y="330"/>
                      </a:moveTo>
                      <a:cubicBezTo>
                        <a:pt x="57" y="275"/>
                        <a:pt x="79" y="229"/>
                        <a:pt x="104" y="182"/>
                      </a:cubicBezTo>
                      <a:cubicBezTo>
                        <a:pt x="129" y="135"/>
                        <a:pt x="157" y="77"/>
                        <a:pt x="191" y="47"/>
                      </a:cubicBezTo>
                      <a:cubicBezTo>
                        <a:pt x="225" y="17"/>
                        <a:pt x="275" y="0"/>
                        <a:pt x="308" y="2"/>
                      </a:cubicBezTo>
                      <a:cubicBezTo>
                        <a:pt x="341" y="4"/>
                        <a:pt x="369" y="34"/>
                        <a:pt x="389" y="60"/>
                      </a:cubicBezTo>
                      <a:cubicBezTo>
                        <a:pt x="409" y="86"/>
                        <a:pt x="423" y="126"/>
                        <a:pt x="429" y="159"/>
                      </a:cubicBezTo>
                      <a:cubicBezTo>
                        <a:pt x="435" y="192"/>
                        <a:pt x="424" y="230"/>
                        <a:pt x="425" y="258"/>
                      </a:cubicBezTo>
                      <a:cubicBezTo>
                        <a:pt x="426" y="286"/>
                        <a:pt x="433" y="322"/>
                        <a:pt x="437" y="326"/>
                      </a:cubicBezTo>
                      <a:cubicBezTo>
                        <a:pt x="441" y="330"/>
                        <a:pt x="445" y="301"/>
                        <a:pt x="447" y="281"/>
                      </a:cubicBezTo>
                      <a:cubicBezTo>
                        <a:pt x="449" y="261"/>
                        <a:pt x="439" y="227"/>
                        <a:pt x="447" y="204"/>
                      </a:cubicBezTo>
                      <a:cubicBezTo>
                        <a:pt x="455" y="181"/>
                        <a:pt x="475" y="156"/>
                        <a:pt x="497" y="141"/>
                      </a:cubicBezTo>
                      <a:cubicBezTo>
                        <a:pt x="519" y="126"/>
                        <a:pt x="549" y="116"/>
                        <a:pt x="582" y="114"/>
                      </a:cubicBezTo>
                      <a:cubicBezTo>
                        <a:pt x="615" y="112"/>
                        <a:pt x="667" y="111"/>
                        <a:pt x="695" y="128"/>
                      </a:cubicBezTo>
                      <a:cubicBezTo>
                        <a:pt x="723" y="145"/>
                        <a:pt x="738" y="181"/>
                        <a:pt x="749" y="218"/>
                      </a:cubicBezTo>
                      <a:cubicBezTo>
                        <a:pt x="760" y="255"/>
                        <a:pt x="763" y="294"/>
                        <a:pt x="762" y="348"/>
                      </a:cubicBezTo>
                      <a:cubicBezTo>
                        <a:pt x="761" y="402"/>
                        <a:pt x="754" y="477"/>
                        <a:pt x="744" y="542"/>
                      </a:cubicBezTo>
                      <a:cubicBezTo>
                        <a:pt x="734" y="607"/>
                        <a:pt x="716" y="678"/>
                        <a:pt x="699" y="740"/>
                      </a:cubicBezTo>
                      <a:cubicBezTo>
                        <a:pt x="682" y="802"/>
                        <a:pt x="669" y="857"/>
                        <a:pt x="644" y="915"/>
                      </a:cubicBezTo>
                      <a:cubicBezTo>
                        <a:pt x="619" y="973"/>
                        <a:pt x="581" y="1048"/>
                        <a:pt x="549" y="1091"/>
                      </a:cubicBezTo>
                      <a:cubicBezTo>
                        <a:pt x="517" y="1134"/>
                        <a:pt x="484" y="1170"/>
                        <a:pt x="450" y="1176"/>
                      </a:cubicBezTo>
                      <a:cubicBezTo>
                        <a:pt x="416" y="1182"/>
                        <a:pt x="365" y="1146"/>
                        <a:pt x="347" y="1127"/>
                      </a:cubicBezTo>
                      <a:cubicBezTo>
                        <a:pt x="329" y="1108"/>
                        <a:pt x="336" y="1090"/>
                        <a:pt x="339" y="1064"/>
                      </a:cubicBezTo>
                      <a:cubicBezTo>
                        <a:pt x="342" y="1038"/>
                        <a:pt x="366" y="977"/>
                        <a:pt x="365" y="969"/>
                      </a:cubicBezTo>
                      <a:cubicBezTo>
                        <a:pt x="364" y="961"/>
                        <a:pt x="338" y="993"/>
                        <a:pt x="330" y="1014"/>
                      </a:cubicBezTo>
                      <a:cubicBezTo>
                        <a:pt x="322" y="1035"/>
                        <a:pt x="324" y="1073"/>
                        <a:pt x="315" y="1095"/>
                      </a:cubicBezTo>
                      <a:cubicBezTo>
                        <a:pt x="306" y="1117"/>
                        <a:pt x="295" y="1140"/>
                        <a:pt x="276" y="1149"/>
                      </a:cubicBezTo>
                      <a:cubicBezTo>
                        <a:pt x="257" y="1158"/>
                        <a:pt x="229" y="1157"/>
                        <a:pt x="203" y="1149"/>
                      </a:cubicBezTo>
                      <a:cubicBezTo>
                        <a:pt x="177" y="1141"/>
                        <a:pt x="147" y="1131"/>
                        <a:pt x="122" y="1100"/>
                      </a:cubicBezTo>
                      <a:cubicBezTo>
                        <a:pt x="97" y="1069"/>
                        <a:pt x="73" y="1020"/>
                        <a:pt x="54" y="960"/>
                      </a:cubicBezTo>
                      <a:cubicBezTo>
                        <a:pt x="35" y="900"/>
                        <a:pt x="17" y="814"/>
                        <a:pt x="9" y="740"/>
                      </a:cubicBezTo>
                      <a:cubicBezTo>
                        <a:pt x="1" y="666"/>
                        <a:pt x="0" y="583"/>
                        <a:pt x="5" y="515"/>
                      </a:cubicBezTo>
                      <a:cubicBezTo>
                        <a:pt x="10" y="447"/>
                        <a:pt x="25" y="385"/>
                        <a:pt x="41" y="33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Group 14"/>
              <p:cNvGrpSpPr/>
              <p:nvPr/>
            </p:nvGrpSpPr>
            <p:grpSpPr>
              <a:xfrm>
                <a:off x="5167440" y="3593160"/>
                <a:ext cx="1248840" cy="1798200"/>
                <a:chOff x="5167440" y="3593160"/>
                <a:chExt cx="1248840" cy="1798200"/>
              </a:xfrm>
            </p:grpSpPr>
            <p:sp>
              <p:nvSpPr>
                <p:cNvPr id="166" name="Freeform 15"/>
                <p:cNvSpPr/>
                <p:nvPr/>
              </p:nvSpPr>
              <p:spPr>
                <a:xfrm rot="1031400">
                  <a:off x="6085800" y="3622680"/>
                  <a:ext cx="269640" cy="451080"/>
                </a:xfrm>
                <a:custGeom>
                  <a:avLst/>
                  <a:gdLst/>
                  <a:ahLst/>
                  <a:rect l="l" t="t" r="r" b="b"/>
                  <a:pathLst>
                    <a:path w="769" h="1255">
                      <a:moveTo>
                        <a:pt x="3" y="656"/>
                      </a:moveTo>
                      <a:cubicBezTo>
                        <a:pt x="0" y="568"/>
                        <a:pt x="6" y="466"/>
                        <a:pt x="24" y="386"/>
                      </a:cubicBezTo>
                      <a:cubicBezTo>
                        <a:pt x="42" y="306"/>
                        <a:pt x="80" y="234"/>
                        <a:pt x="114" y="176"/>
                      </a:cubicBezTo>
                      <a:cubicBezTo>
                        <a:pt x="148" y="118"/>
                        <a:pt x="190" y="62"/>
                        <a:pt x="228" y="35"/>
                      </a:cubicBezTo>
                      <a:cubicBezTo>
                        <a:pt x="266" y="8"/>
                        <a:pt x="313" y="0"/>
                        <a:pt x="345" y="11"/>
                      </a:cubicBezTo>
                      <a:cubicBezTo>
                        <a:pt x="377" y="22"/>
                        <a:pt x="404" y="71"/>
                        <a:pt x="417" y="101"/>
                      </a:cubicBezTo>
                      <a:cubicBezTo>
                        <a:pt x="430" y="131"/>
                        <a:pt x="428" y="167"/>
                        <a:pt x="426" y="194"/>
                      </a:cubicBezTo>
                      <a:cubicBezTo>
                        <a:pt x="424" y="221"/>
                        <a:pt x="408" y="242"/>
                        <a:pt x="402" y="263"/>
                      </a:cubicBezTo>
                      <a:cubicBezTo>
                        <a:pt x="396" y="284"/>
                        <a:pt x="386" y="316"/>
                        <a:pt x="387" y="323"/>
                      </a:cubicBezTo>
                      <a:cubicBezTo>
                        <a:pt x="388" y="330"/>
                        <a:pt x="403" y="320"/>
                        <a:pt x="411" y="305"/>
                      </a:cubicBezTo>
                      <a:cubicBezTo>
                        <a:pt x="419" y="290"/>
                        <a:pt x="426" y="255"/>
                        <a:pt x="435" y="233"/>
                      </a:cubicBezTo>
                      <a:cubicBezTo>
                        <a:pt x="444" y="211"/>
                        <a:pt x="454" y="188"/>
                        <a:pt x="468" y="173"/>
                      </a:cubicBezTo>
                      <a:cubicBezTo>
                        <a:pt x="482" y="158"/>
                        <a:pt x="495" y="148"/>
                        <a:pt x="522" y="140"/>
                      </a:cubicBezTo>
                      <a:cubicBezTo>
                        <a:pt x="549" y="132"/>
                        <a:pt x="597" y="117"/>
                        <a:pt x="633" y="125"/>
                      </a:cubicBezTo>
                      <a:cubicBezTo>
                        <a:pt x="669" y="133"/>
                        <a:pt x="719" y="150"/>
                        <a:pt x="741" y="191"/>
                      </a:cubicBezTo>
                      <a:cubicBezTo>
                        <a:pt x="763" y="232"/>
                        <a:pt x="767" y="299"/>
                        <a:pt x="768" y="371"/>
                      </a:cubicBezTo>
                      <a:cubicBezTo>
                        <a:pt x="769" y="443"/>
                        <a:pt x="760" y="543"/>
                        <a:pt x="747" y="626"/>
                      </a:cubicBezTo>
                      <a:cubicBezTo>
                        <a:pt x="734" y="709"/>
                        <a:pt x="706" y="792"/>
                        <a:pt x="687" y="869"/>
                      </a:cubicBezTo>
                      <a:cubicBezTo>
                        <a:pt x="668" y="946"/>
                        <a:pt x="651" y="1032"/>
                        <a:pt x="630" y="1091"/>
                      </a:cubicBezTo>
                      <a:cubicBezTo>
                        <a:pt x="609" y="1150"/>
                        <a:pt x="585" y="1196"/>
                        <a:pt x="561" y="1223"/>
                      </a:cubicBezTo>
                      <a:cubicBezTo>
                        <a:pt x="537" y="1250"/>
                        <a:pt x="511" y="1255"/>
                        <a:pt x="486" y="1253"/>
                      </a:cubicBezTo>
                      <a:cubicBezTo>
                        <a:pt x="461" y="1251"/>
                        <a:pt x="427" y="1226"/>
                        <a:pt x="408" y="1208"/>
                      </a:cubicBezTo>
                      <a:cubicBezTo>
                        <a:pt x="389" y="1190"/>
                        <a:pt x="378" y="1167"/>
                        <a:pt x="372" y="1148"/>
                      </a:cubicBezTo>
                      <a:cubicBezTo>
                        <a:pt x="366" y="1129"/>
                        <a:pt x="371" y="1111"/>
                        <a:pt x="372" y="1094"/>
                      </a:cubicBezTo>
                      <a:cubicBezTo>
                        <a:pt x="373" y="1077"/>
                        <a:pt x="376" y="1064"/>
                        <a:pt x="378" y="1046"/>
                      </a:cubicBezTo>
                      <a:cubicBezTo>
                        <a:pt x="380" y="1028"/>
                        <a:pt x="384" y="986"/>
                        <a:pt x="381" y="986"/>
                      </a:cubicBezTo>
                      <a:cubicBezTo>
                        <a:pt x="378" y="986"/>
                        <a:pt x="365" y="1027"/>
                        <a:pt x="360" y="1046"/>
                      </a:cubicBezTo>
                      <a:cubicBezTo>
                        <a:pt x="355" y="1065"/>
                        <a:pt x="355" y="1084"/>
                        <a:pt x="351" y="1100"/>
                      </a:cubicBezTo>
                      <a:cubicBezTo>
                        <a:pt x="347" y="1116"/>
                        <a:pt x="348" y="1132"/>
                        <a:pt x="333" y="1145"/>
                      </a:cubicBezTo>
                      <a:cubicBezTo>
                        <a:pt x="318" y="1158"/>
                        <a:pt x="288" y="1169"/>
                        <a:pt x="264" y="1175"/>
                      </a:cubicBezTo>
                      <a:cubicBezTo>
                        <a:pt x="240" y="1181"/>
                        <a:pt x="212" y="1191"/>
                        <a:pt x="186" y="1181"/>
                      </a:cubicBezTo>
                      <a:cubicBezTo>
                        <a:pt x="160" y="1171"/>
                        <a:pt x="132" y="1160"/>
                        <a:pt x="108" y="1115"/>
                      </a:cubicBezTo>
                      <a:cubicBezTo>
                        <a:pt x="84" y="1070"/>
                        <a:pt x="59" y="990"/>
                        <a:pt x="42" y="914"/>
                      </a:cubicBezTo>
                      <a:cubicBezTo>
                        <a:pt x="25" y="838"/>
                        <a:pt x="6" y="744"/>
                        <a:pt x="3" y="65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Freeform 16"/>
                <p:cNvSpPr/>
                <p:nvPr/>
              </p:nvSpPr>
              <p:spPr>
                <a:xfrm>
                  <a:off x="5167440" y="3975840"/>
                  <a:ext cx="1025280" cy="1415520"/>
                </a:xfrm>
                <a:custGeom>
                  <a:avLst/>
                  <a:gdLst/>
                  <a:ahLst/>
                  <a:rect l="l" t="t" r="r" b="b"/>
                  <a:pathLst>
                    <a:path w="1144" h="1540">
                      <a:moveTo>
                        <a:pt x="0" y="1506"/>
                      </a:moveTo>
                      <a:cubicBezTo>
                        <a:pt x="18" y="1490"/>
                        <a:pt x="64" y="1450"/>
                        <a:pt x="108" y="1408"/>
                      </a:cubicBezTo>
                      <a:cubicBezTo>
                        <a:pt x="152" y="1366"/>
                        <a:pt x="217" y="1299"/>
                        <a:pt x="267" y="1252"/>
                      </a:cubicBezTo>
                      <a:cubicBezTo>
                        <a:pt x="317" y="1205"/>
                        <a:pt x="364" y="1167"/>
                        <a:pt x="407" y="1126"/>
                      </a:cubicBezTo>
                      <a:cubicBezTo>
                        <a:pt x="450" y="1085"/>
                        <a:pt x="488" y="1050"/>
                        <a:pt x="530" y="1004"/>
                      </a:cubicBezTo>
                      <a:cubicBezTo>
                        <a:pt x="571" y="958"/>
                        <a:pt x="616" y="904"/>
                        <a:pt x="656" y="848"/>
                      </a:cubicBezTo>
                      <a:cubicBezTo>
                        <a:pt x="696" y="793"/>
                        <a:pt x="739" y="724"/>
                        <a:pt x="772" y="667"/>
                      </a:cubicBezTo>
                      <a:cubicBezTo>
                        <a:pt x="805" y="611"/>
                        <a:pt x="830" y="562"/>
                        <a:pt x="859" y="506"/>
                      </a:cubicBezTo>
                      <a:cubicBezTo>
                        <a:pt x="889" y="450"/>
                        <a:pt x="927" y="384"/>
                        <a:pt x="951" y="331"/>
                      </a:cubicBezTo>
                      <a:cubicBezTo>
                        <a:pt x="976" y="277"/>
                        <a:pt x="994" y="232"/>
                        <a:pt x="1010" y="192"/>
                      </a:cubicBezTo>
                      <a:cubicBezTo>
                        <a:pt x="1027" y="152"/>
                        <a:pt x="1039" y="118"/>
                        <a:pt x="1052" y="88"/>
                      </a:cubicBezTo>
                      <a:cubicBezTo>
                        <a:pt x="1064" y="59"/>
                        <a:pt x="1071" y="27"/>
                        <a:pt x="1084" y="14"/>
                      </a:cubicBezTo>
                      <a:cubicBezTo>
                        <a:pt x="1097" y="0"/>
                        <a:pt x="1121" y="2"/>
                        <a:pt x="1130" y="6"/>
                      </a:cubicBezTo>
                      <a:cubicBezTo>
                        <a:pt x="1140" y="10"/>
                        <a:pt x="1144" y="17"/>
                        <a:pt x="1139" y="40"/>
                      </a:cubicBezTo>
                      <a:cubicBezTo>
                        <a:pt x="1134" y="62"/>
                        <a:pt x="1117" y="111"/>
                        <a:pt x="1103" y="145"/>
                      </a:cubicBezTo>
                      <a:cubicBezTo>
                        <a:pt x="1089" y="180"/>
                        <a:pt x="1072" y="212"/>
                        <a:pt x="1056" y="247"/>
                      </a:cubicBezTo>
                      <a:cubicBezTo>
                        <a:pt x="1040" y="281"/>
                        <a:pt x="1027" y="311"/>
                        <a:pt x="1006" y="357"/>
                      </a:cubicBezTo>
                      <a:cubicBezTo>
                        <a:pt x="986" y="403"/>
                        <a:pt x="957" y="468"/>
                        <a:pt x="929" y="525"/>
                      </a:cubicBezTo>
                      <a:cubicBezTo>
                        <a:pt x="901" y="581"/>
                        <a:pt x="869" y="638"/>
                        <a:pt x="836" y="694"/>
                      </a:cubicBezTo>
                      <a:cubicBezTo>
                        <a:pt x="803" y="749"/>
                        <a:pt x="772" y="802"/>
                        <a:pt x="730" y="862"/>
                      </a:cubicBezTo>
                      <a:cubicBezTo>
                        <a:pt x="689" y="922"/>
                        <a:pt x="629" y="999"/>
                        <a:pt x="583" y="1055"/>
                      </a:cubicBezTo>
                      <a:cubicBezTo>
                        <a:pt x="536" y="1111"/>
                        <a:pt x="495" y="1154"/>
                        <a:pt x="447" y="1198"/>
                      </a:cubicBezTo>
                      <a:cubicBezTo>
                        <a:pt x="400" y="1242"/>
                        <a:pt x="346" y="1282"/>
                        <a:pt x="299" y="1322"/>
                      </a:cubicBezTo>
                      <a:cubicBezTo>
                        <a:pt x="252" y="1362"/>
                        <a:pt x="206" y="1402"/>
                        <a:pt x="165" y="1438"/>
                      </a:cubicBezTo>
                      <a:cubicBezTo>
                        <a:pt x="124" y="1474"/>
                        <a:pt x="74" y="1519"/>
                        <a:pt x="50" y="1540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Group 17"/>
              <p:cNvGrpSpPr/>
              <p:nvPr/>
            </p:nvGrpSpPr>
            <p:grpSpPr>
              <a:xfrm>
                <a:off x="3299040" y="2783880"/>
                <a:ext cx="3556080" cy="3787920"/>
                <a:chOff x="3299040" y="2783880"/>
                <a:chExt cx="3556080" cy="3787920"/>
              </a:xfrm>
            </p:grpSpPr>
            <p:sp>
              <p:nvSpPr>
                <p:cNvPr id="169" name="Freeform 18"/>
                <p:cNvSpPr/>
                <p:nvPr/>
              </p:nvSpPr>
              <p:spPr>
                <a:xfrm>
                  <a:off x="3299040" y="2783880"/>
                  <a:ext cx="3556080" cy="3787920"/>
                </a:xfrm>
                <a:custGeom>
                  <a:avLst/>
                  <a:gdLst/>
                  <a:ahLst/>
                  <a:rect l="l" t="t" r="r" b="b"/>
                  <a:pathLst>
                    <a:path w="3968" h="4121">
                      <a:moveTo>
                        <a:pt x="1804" y="4121"/>
                      </a:moveTo>
                      <a:cubicBezTo>
                        <a:pt x="1805" y="4108"/>
                        <a:pt x="1807" y="4083"/>
                        <a:pt x="1807" y="4040"/>
                      </a:cubicBezTo>
                      <a:cubicBezTo>
                        <a:pt x="1807" y="3997"/>
                        <a:pt x="1811" y="3932"/>
                        <a:pt x="1805" y="3865"/>
                      </a:cubicBezTo>
                      <a:cubicBezTo>
                        <a:pt x="1799" y="3798"/>
                        <a:pt x="1787" y="3707"/>
                        <a:pt x="1769" y="3636"/>
                      </a:cubicBezTo>
                      <a:cubicBezTo>
                        <a:pt x="1752" y="3566"/>
                        <a:pt x="1733" y="3508"/>
                        <a:pt x="1702" y="3440"/>
                      </a:cubicBezTo>
                      <a:cubicBezTo>
                        <a:pt x="1670" y="3371"/>
                        <a:pt x="1636" y="3289"/>
                        <a:pt x="1579" y="3226"/>
                      </a:cubicBezTo>
                      <a:cubicBezTo>
                        <a:pt x="1521" y="3162"/>
                        <a:pt x="1446" y="3098"/>
                        <a:pt x="1356" y="3058"/>
                      </a:cubicBezTo>
                      <a:cubicBezTo>
                        <a:pt x="1265" y="3019"/>
                        <a:pt x="1139" y="2995"/>
                        <a:pt x="1036" y="2988"/>
                      </a:cubicBezTo>
                      <a:cubicBezTo>
                        <a:pt x="934" y="2981"/>
                        <a:pt x="839" y="2998"/>
                        <a:pt x="742" y="3019"/>
                      </a:cubicBezTo>
                      <a:cubicBezTo>
                        <a:pt x="644" y="3040"/>
                        <a:pt x="525" y="3077"/>
                        <a:pt x="449" y="3114"/>
                      </a:cubicBezTo>
                      <a:cubicBezTo>
                        <a:pt x="374" y="3151"/>
                        <a:pt x="332" y="3200"/>
                        <a:pt x="288" y="3240"/>
                      </a:cubicBezTo>
                      <a:cubicBezTo>
                        <a:pt x="243" y="3280"/>
                        <a:pt x="214" y="3318"/>
                        <a:pt x="182" y="3355"/>
                      </a:cubicBezTo>
                      <a:cubicBezTo>
                        <a:pt x="151" y="3392"/>
                        <a:pt x="124" y="3433"/>
                        <a:pt x="100" y="3460"/>
                      </a:cubicBezTo>
                      <a:cubicBezTo>
                        <a:pt x="77" y="3487"/>
                        <a:pt x="58" y="3511"/>
                        <a:pt x="41" y="3516"/>
                      </a:cubicBezTo>
                      <a:cubicBezTo>
                        <a:pt x="25" y="3521"/>
                        <a:pt x="1" y="3512"/>
                        <a:pt x="0" y="3490"/>
                      </a:cubicBezTo>
                      <a:cubicBezTo>
                        <a:pt x="0" y="3468"/>
                        <a:pt x="18" y="3426"/>
                        <a:pt x="39" y="3384"/>
                      </a:cubicBezTo>
                      <a:cubicBezTo>
                        <a:pt x="59" y="3343"/>
                        <a:pt x="91" y="3290"/>
                        <a:pt x="124" y="3240"/>
                      </a:cubicBezTo>
                      <a:cubicBezTo>
                        <a:pt x="156" y="3190"/>
                        <a:pt x="185" y="3138"/>
                        <a:pt x="235" y="3085"/>
                      </a:cubicBezTo>
                      <a:cubicBezTo>
                        <a:pt x="285" y="3032"/>
                        <a:pt x="360" y="2960"/>
                        <a:pt x="423" y="2921"/>
                      </a:cubicBezTo>
                      <a:cubicBezTo>
                        <a:pt x="485" y="2881"/>
                        <a:pt x="528" y="2866"/>
                        <a:pt x="611" y="2844"/>
                      </a:cubicBezTo>
                      <a:cubicBezTo>
                        <a:pt x="693" y="2822"/>
                        <a:pt x="817" y="2790"/>
                        <a:pt x="916" y="2788"/>
                      </a:cubicBezTo>
                      <a:cubicBezTo>
                        <a:pt x="1014" y="2786"/>
                        <a:pt x="1123" y="2817"/>
                        <a:pt x="1200" y="2833"/>
                      </a:cubicBezTo>
                      <a:cubicBezTo>
                        <a:pt x="1277" y="2848"/>
                        <a:pt x="1338" y="2868"/>
                        <a:pt x="1379" y="2879"/>
                      </a:cubicBezTo>
                      <a:cubicBezTo>
                        <a:pt x="1420" y="2891"/>
                        <a:pt x="1428" y="2899"/>
                        <a:pt x="1447" y="2903"/>
                      </a:cubicBezTo>
                      <a:cubicBezTo>
                        <a:pt x="1466" y="2907"/>
                        <a:pt x="1482" y="2909"/>
                        <a:pt x="1492" y="2905"/>
                      </a:cubicBezTo>
                      <a:cubicBezTo>
                        <a:pt x="1501" y="2902"/>
                        <a:pt x="1507" y="2889"/>
                        <a:pt x="1503" y="2882"/>
                      </a:cubicBezTo>
                      <a:cubicBezTo>
                        <a:pt x="1500" y="2874"/>
                        <a:pt x="1484" y="2866"/>
                        <a:pt x="1471" y="2861"/>
                      </a:cubicBezTo>
                      <a:cubicBezTo>
                        <a:pt x="1459" y="2856"/>
                        <a:pt x="1447" y="2860"/>
                        <a:pt x="1427" y="2853"/>
                      </a:cubicBezTo>
                      <a:cubicBezTo>
                        <a:pt x="1408" y="2845"/>
                        <a:pt x="1368" y="2832"/>
                        <a:pt x="1354" y="2814"/>
                      </a:cubicBezTo>
                      <a:cubicBezTo>
                        <a:pt x="1339" y="2796"/>
                        <a:pt x="1335" y="2765"/>
                        <a:pt x="1339" y="2744"/>
                      </a:cubicBezTo>
                      <a:cubicBezTo>
                        <a:pt x="1344" y="2723"/>
                        <a:pt x="1357" y="2696"/>
                        <a:pt x="1380" y="2688"/>
                      </a:cubicBezTo>
                      <a:cubicBezTo>
                        <a:pt x="1403" y="2680"/>
                        <a:pt x="1453" y="2686"/>
                        <a:pt x="1477" y="2694"/>
                      </a:cubicBezTo>
                      <a:cubicBezTo>
                        <a:pt x="1501" y="2702"/>
                        <a:pt x="1511" y="2726"/>
                        <a:pt x="1527" y="2735"/>
                      </a:cubicBezTo>
                      <a:cubicBezTo>
                        <a:pt x="1543" y="2745"/>
                        <a:pt x="1559" y="2749"/>
                        <a:pt x="1571" y="2750"/>
                      </a:cubicBezTo>
                      <a:cubicBezTo>
                        <a:pt x="1582" y="2750"/>
                        <a:pt x="1592" y="2745"/>
                        <a:pt x="1594" y="2738"/>
                      </a:cubicBezTo>
                      <a:cubicBezTo>
                        <a:pt x="1597" y="2730"/>
                        <a:pt x="1595" y="2720"/>
                        <a:pt x="1586" y="2706"/>
                      </a:cubicBezTo>
                      <a:cubicBezTo>
                        <a:pt x="1576" y="2692"/>
                        <a:pt x="1556" y="2678"/>
                        <a:pt x="1536" y="2653"/>
                      </a:cubicBezTo>
                      <a:cubicBezTo>
                        <a:pt x="1515" y="2628"/>
                        <a:pt x="1486" y="2593"/>
                        <a:pt x="1462" y="2559"/>
                      </a:cubicBezTo>
                      <a:cubicBezTo>
                        <a:pt x="1439" y="2525"/>
                        <a:pt x="1414" y="2489"/>
                        <a:pt x="1392" y="2450"/>
                      </a:cubicBezTo>
                      <a:cubicBezTo>
                        <a:pt x="1370" y="2411"/>
                        <a:pt x="1345" y="2370"/>
                        <a:pt x="1327" y="2324"/>
                      </a:cubicBezTo>
                      <a:cubicBezTo>
                        <a:pt x="1310" y="2279"/>
                        <a:pt x="1299" y="2230"/>
                        <a:pt x="1286" y="2175"/>
                      </a:cubicBezTo>
                      <a:cubicBezTo>
                        <a:pt x="1274" y="2119"/>
                        <a:pt x="1262" y="2053"/>
                        <a:pt x="1254" y="1990"/>
                      </a:cubicBezTo>
                      <a:cubicBezTo>
                        <a:pt x="1246" y="1927"/>
                        <a:pt x="1242" y="1864"/>
                        <a:pt x="1236" y="1793"/>
                      </a:cubicBezTo>
                      <a:cubicBezTo>
                        <a:pt x="1231" y="1722"/>
                        <a:pt x="1223" y="1637"/>
                        <a:pt x="1222" y="1562"/>
                      </a:cubicBezTo>
                      <a:cubicBezTo>
                        <a:pt x="1221" y="1486"/>
                        <a:pt x="1227" y="1406"/>
                        <a:pt x="1232" y="1339"/>
                      </a:cubicBezTo>
                      <a:cubicBezTo>
                        <a:pt x="1238" y="1272"/>
                        <a:pt x="1248" y="1214"/>
                        <a:pt x="1257" y="1159"/>
                      </a:cubicBezTo>
                      <a:cubicBezTo>
                        <a:pt x="1266" y="1105"/>
                        <a:pt x="1272" y="1034"/>
                        <a:pt x="1286" y="1013"/>
                      </a:cubicBezTo>
                      <a:cubicBezTo>
                        <a:pt x="1301" y="991"/>
                        <a:pt x="1336" y="1005"/>
                        <a:pt x="1342" y="1030"/>
                      </a:cubicBezTo>
                      <a:cubicBezTo>
                        <a:pt x="1348" y="1056"/>
                        <a:pt x="1329" y="1116"/>
                        <a:pt x="1322" y="1168"/>
                      </a:cubicBezTo>
                      <a:cubicBezTo>
                        <a:pt x="1314" y="1221"/>
                        <a:pt x="1300" y="1279"/>
                        <a:pt x="1295" y="1344"/>
                      </a:cubicBezTo>
                      <a:cubicBezTo>
                        <a:pt x="1290" y="1410"/>
                        <a:pt x="1290" y="1486"/>
                        <a:pt x="1292" y="1562"/>
                      </a:cubicBezTo>
                      <a:cubicBezTo>
                        <a:pt x="1295" y="1637"/>
                        <a:pt x="1302" y="1724"/>
                        <a:pt x="1310" y="1796"/>
                      </a:cubicBezTo>
                      <a:cubicBezTo>
                        <a:pt x="1317" y="1869"/>
                        <a:pt x="1327" y="1936"/>
                        <a:pt x="1336" y="1996"/>
                      </a:cubicBezTo>
                      <a:cubicBezTo>
                        <a:pt x="1345" y="2056"/>
                        <a:pt x="1353" y="2106"/>
                        <a:pt x="1365" y="2157"/>
                      </a:cubicBezTo>
                      <a:cubicBezTo>
                        <a:pt x="1378" y="2208"/>
                        <a:pt x="1392" y="2258"/>
                        <a:pt x="1410" y="2301"/>
                      </a:cubicBezTo>
                      <a:cubicBezTo>
                        <a:pt x="1427" y="2344"/>
                        <a:pt x="1451" y="2380"/>
                        <a:pt x="1471" y="2415"/>
                      </a:cubicBezTo>
                      <a:cubicBezTo>
                        <a:pt x="1491" y="2450"/>
                        <a:pt x="1509" y="2479"/>
                        <a:pt x="1530" y="2509"/>
                      </a:cubicBezTo>
                      <a:cubicBezTo>
                        <a:pt x="1550" y="2539"/>
                        <a:pt x="1575" y="2575"/>
                        <a:pt x="1594" y="2594"/>
                      </a:cubicBezTo>
                      <a:cubicBezTo>
                        <a:pt x="1613" y="2614"/>
                        <a:pt x="1630" y="2620"/>
                        <a:pt x="1644" y="2626"/>
                      </a:cubicBezTo>
                      <a:cubicBezTo>
                        <a:pt x="1658" y="2633"/>
                        <a:pt x="1671" y="2639"/>
                        <a:pt x="1680" y="2635"/>
                      </a:cubicBezTo>
                      <a:cubicBezTo>
                        <a:pt x="1689" y="2632"/>
                        <a:pt x="1699" y="2619"/>
                        <a:pt x="1699" y="2606"/>
                      </a:cubicBezTo>
                      <a:cubicBezTo>
                        <a:pt x="1699" y="2594"/>
                        <a:pt x="1687" y="2578"/>
                        <a:pt x="1678" y="2560"/>
                      </a:cubicBezTo>
                      <a:cubicBezTo>
                        <a:pt x="1670" y="2541"/>
                        <a:pt x="1659" y="2522"/>
                        <a:pt x="1649" y="2495"/>
                      </a:cubicBezTo>
                      <a:cubicBezTo>
                        <a:pt x="1639" y="2468"/>
                        <a:pt x="1628" y="2440"/>
                        <a:pt x="1620" y="2401"/>
                      </a:cubicBezTo>
                      <a:cubicBezTo>
                        <a:pt x="1611" y="2362"/>
                        <a:pt x="1599" y="2317"/>
                        <a:pt x="1599" y="2263"/>
                      </a:cubicBezTo>
                      <a:cubicBezTo>
                        <a:pt x="1600" y="2210"/>
                        <a:pt x="1610" y="2138"/>
                        <a:pt x="1626" y="2081"/>
                      </a:cubicBezTo>
                      <a:cubicBezTo>
                        <a:pt x="1641" y="2025"/>
                        <a:pt x="1670" y="1968"/>
                        <a:pt x="1693" y="1926"/>
                      </a:cubicBezTo>
                      <a:cubicBezTo>
                        <a:pt x="1716" y="1884"/>
                        <a:pt x="1742" y="1857"/>
                        <a:pt x="1764" y="1829"/>
                      </a:cubicBezTo>
                      <a:cubicBezTo>
                        <a:pt x="1786" y="1801"/>
                        <a:pt x="1811" y="1784"/>
                        <a:pt x="1825" y="1759"/>
                      </a:cubicBezTo>
                      <a:cubicBezTo>
                        <a:pt x="1839" y="1734"/>
                        <a:pt x="1844" y="1705"/>
                        <a:pt x="1852" y="1679"/>
                      </a:cubicBezTo>
                      <a:cubicBezTo>
                        <a:pt x="1859" y="1654"/>
                        <a:pt x="1862" y="1645"/>
                        <a:pt x="1870" y="1605"/>
                      </a:cubicBezTo>
                      <a:cubicBezTo>
                        <a:pt x="1878" y="1566"/>
                        <a:pt x="1891" y="1510"/>
                        <a:pt x="1899" y="1441"/>
                      </a:cubicBezTo>
                      <a:cubicBezTo>
                        <a:pt x="1908" y="1372"/>
                        <a:pt x="1916" y="1275"/>
                        <a:pt x="1922" y="1190"/>
                      </a:cubicBezTo>
                      <a:cubicBezTo>
                        <a:pt x="1928" y="1104"/>
                        <a:pt x="1931" y="1004"/>
                        <a:pt x="1934" y="928"/>
                      </a:cubicBezTo>
                      <a:cubicBezTo>
                        <a:pt x="1936" y="852"/>
                        <a:pt x="1938" y="807"/>
                        <a:pt x="1938" y="735"/>
                      </a:cubicBezTo>
                      <a:cubicBezTo>
                        <a:pt x="1939" y="662"/>
                        <a:pt x="1943" y="568"/>
                        <a:pt x="1940" y="494"/>
                      </a:cubicBezTo>
                      <a:cubicBezTo>
                        <a:pt x="1936" y="420"/>
                        <a:pt x="1918" y="350"/>
                        <a:pt x="1916" y="292"/>
                      </a:cubicBezTo>
                      <a:cubicBezTo>
                        <a:pt x="1914" y="233"/>
                        <a:pt x="1914" y="187"/>
                        <a:pt x="1925" y="142"/>
                      </a:cubicBezTo>
                      <a:cubicBezTo>
                        <a:pt x="1935" y="97"/>
                        <a:pt x="1953" y="47"/>
                        <a:pt x="1981" y="25"/>
                      </a:cubicBezTo>
                      <a:cubicBezTo>
                        <a:pt x="2008" y="3"/>
                        <a:pt x="2065" y="0"/>
                        <a:pt x="2092" y="10"/>
                      </a:cubicBezTo>
                      <a:cubicBezTo>
                        <a:pt x="2119" y="20"/>
                        <a:pt x="2132" y="51"/>
                        <a:pt x="2142" y="86"/>
                      </a:cubicBezTo>
                      <a:cubicBezTo>
                        <a:pt x="2152" y="122"/>
                        <a:pt x="2159" y="179"/>
                        <a:pt x="2154" y="224"/>
                      </a:cubicBezTo>
                      <a:cubicBezTo>
                        <a:pt x="2148" y="269"/>
                        <a:pt x="2125" y="304"/>
                        <a:pt x="2110" y="356"/>
                      </a:cubicBezTo>
                      <a:cubicBezTo>
                        <a:pt x="2095" y="409"/>
                        <a:pt x="2075" y="475"/>
                        <a:pt x="2066" y="538"/>
                      </a:cubicBezTo>
                      <a:cubicBezTo>
                        <a:pt x="2057" y="601"/>
                        <a:pt x="2058" y="665"/>
                        <a:pt x="2056" y="735"/>
                      </a:cubicBezTo>
                      <a:cubicBezTo>
                        <a:pt x="2053" y="805"/>
                        <a:pt x="2053" y="881"/>
                        <a:pt x="2051" y="958"/>
                      </a:cubicBezTo>
                      <a:cubicBezTo>
                        <a:pt x="2049" y="1035"/>
                        <a:pt x="2047" y="1117"/>
                        <a:pt x="2042" y="1198"/>
                      </a:cubicBezTo>
                      <a:cubicBezTo>
                        <a:pt x="2037" y="1280"/>
                        <a:pt x="2028" y="1381"/>
                        <a:pt x="2023" y="1447"/>
                      </a:cubicBezTo>
                      <a:cubicBezTo>
                        <a:pt x="2017" y="1513"/>
                        <a:pt x="2012" y="1555"/>
                        <a:pt x="2011" y="1594"/>
                      </a:cubicBezTo>
                      <a:cubicBezTo>
                        <a:pt x="2010" y="1633"/>
                        <a:pt x="2014" y="1652"/>
                        <a:pt x="2019" y="1682"/>
                      </a:cubicBezTo>
                      <a:cubicBezTo>
                        <a:pt x="2023" y="1713"/>
                        <a:pt x="2025" y="1750"/>
                        <a:pt x="2036" y="1779"/>
                      </a:cubicBezTo>
                      <a:cubicBezTo>
                        <a:pt x="2047" y="1808"/>
                        <a:pt x="2065" y="1828"/>
                        <a:pt x="2083" y="1855"/>
                      </a:cubicBezTo>
                      <a:cubicBezTo>
                        <a:pt x="2101" y="1883"/>
                        <a:pt x="2127" y="1908"/>
                        <a:pt x="2145" y="1947"/>
                      </a:cubicBezTo>
                      <a:cubicBezTo>
                        <a:pt x="2163" y="1985"/>
                        <a:pt x="2183" y="2040"/>
                        <a:pt x="2192" y="2087"/>
                      </a:cubicBezTo>
                      <a:cubicBezTo>
                        <a:pt x="2200" y="2135"/>
                        <a:pt x="2200" y="2186"/>
                        <a:pt x="2198" y="2231"/>
                      </a:cubicBezTo>
                      <a:cubicBezTo>
                        <a:pt x="2196" y="2276"/>
                        <a:pt x="2189" y="2313"/>
                        <a:pt x="2181" y="2354"/>
                      </a:cubicBezTo>
                      <a:cubicBezTo>
                        <a:pt x="2173" y="2395"/>
                        <a:pt x="2161" y="2441"/>
                        <a:pt x="2149" y="2477"/>
                      </a:cubicBezTo>
                      <a:cubicBezTo>
                        <a:pt x="2136" y="2513"/>
                        <a:pt x="2117" y="2542"/>
                        <a:pt x="2105" y="2568"/>
                      </a:cubicBezTo>
                      <a:cubicBezTo>
                        <a:pt x="2092" y="2594"/>
                        <a:pt x="2079" y="2614"/>
                        <a:pt x="2073" y="2632"/>
                      </a:cubicBezTo>
                      <a:cubicBezTo>
                        <a:pt x="2066" y="2651"/>
                        <a:pt x="2063" y="2667"/>
                        <a:pt x="2064" y="2679"/>
                      </a:cubicBezTo>
                      <a:cubicBezTo>
                        <a:pt x="2064" y="2692"/>
                        <a:pt x="2069" y="2702"/>
                        <a:pt x="2078" y="2709"/>
                      </a:cubicBezTo>
                      <a:cubicBezTo>
                        <a:pt x="2088" y="2715"/>
                        <a:pt x="2107" y="2724"/>
                        <a:pt x="2122" y="2720"/>
                      </a:cubicBezTo>
                      <a:cubicBezTo>
                        <a:pt x="2138" y="2717"/>
                        <a:pt x="2147" y="2717"/>
                        <a:pt x="2172" y="2688"/>
                      </a:cubicBezTo>
                      <a:cubicBezTo>
                        <a:pt x="2198" y="2660"/>
                        <a:pt x="2242" y="2599"/>
                        <a:pt x="2275" y="2550"/>
                      </a:cubicBezTo>
                      <a:cubicBezTo>
                        <a:pt x="2308" y="2501"/>
                        <a:pt x="2339" y="2450"/>
                        <a:pt x="2372" y="2392"/>
                      </a:cubicBezTo>
                      <a:cubicBezTo>
                        <a:pt x="2405" y="2333"/>
                        <a:pt x="2444" y="2261"/>
                        <a:pt x="2472" y="2201"/>
                      </a:cubicBezTo>
                      <a:cubicBezTo>
                        <a:pt x="2499" y="2142"/>
                        <a:pt x="2517" y="2097"/>
                        <a:pt x="2536" y="2034"/>
                      </a:cubicBezTo>
                      <a:cubicBezTo>
                        <a:pt x="2556" y="1970"/>
                        <a:pt x="2573" y="1890"/>
                        <a:pt x="2589" y="1820"/>
                      </a:cubicBezTo>
                      <a:cubicBezTo>
                        <a:pt x="2605" y="1749"/>
                        <a:pt x="2621" y="1674"/>
                        <a:pt x="2633" y="1611"/>
                      </a:cubicBezTo>
                      <a:cubicBezTo>
                        <a:pt x="2645" y="1548"/>
                        <a:pt x="2655" y="1492"/>
                        <a:pt x="2662" y="1441"/>
                      </a:cubicBezTo>
                      <a:cubicBezTo>
                        <a:pt x="2669" y="1390"/>
                        <a:pt x="2670" y="1357"/>
                        <a:pt x="2674" y="1306"/>
                      </a:cubicBezTo>
                      <a:cubicBezTo>
                        <a:pt x="2678" y="1256"/>
                        <a:pt x="2673" y="1164"/>
                        <a:pt x="2685" y="1139"/>
                      </a:cubicBezTo>
                      <a:cubicBezTo>
                        <a:pt x="2698" y="1114"/>
                        <a:pt x="2737" y="1130"/>
                        <a:pt x="2747" y="1157"/>
                      </a:cubicBezTo>
                      <a:cubicBezTo>
                        <a:pt x="2757" y="1184"/>
                        <a:pt x="2749" y="1255"/>
                        <a:pt x="2747" y="1300"/>
                      </a:cubicBezTo>
                      <a:cubicBezTo>
                        <a:pt x="2745" y="1346"/>
                        <a:pt x="2741" y="1385"/>
                        <a:pt x="2736" y="1433"/>
                      </a:cubicBezTo>
                      <a:cubicBezTo>
                        <a:pt x="2730" y="1480"/>
                        <a:pt x="2727" y="1519"/>
                        <a:pt x="2715" y="1585"/>
                      </a:cubicBezTo>
                      <a:cubicBezTo>
                        <a:pt x="2703" y="1651"/>
                        <a:pt x="2683" y="1747"/>
                        <a:pt x="2665" y="1828"/>
                      </a:cubicBezTo>
                      <a:cubicBezTo>
                        <a:pt x="2647" y="1909"/>
                        <a:pt x="2628" y="2001"/>
                        <a:pt x="2606" y="2072"/>
                      </a:cubicBezTo>
                      <a:cubicBezTo>
                        <a:pt x="2585" y="2143"/>
                        <a:pt x="2566" y="2194"/>
                        <a:pt x="2539" y="2254"/>
                      </a:cubicBezTo>
                      <a:cubicBezTo>
                        <a:pt x="2512" y="2314"/>
                        <a:pt x="2479" y="2374"/>
                        <a:pt x="2445" y="2433"/>
                      </a:cubicBezTo>
                      <a:cubicBezTo>
                        <a:pt x="2411" y="2492"/>
                        <a:pt x="2369" y="2560"/>
                        <a:pt x="2337" y="2609"/>
                      </a:cubicBezTo>
                      <a:cubicBezTo>
                        <a:pt x="2304" y="2658"/>
                        <a:pt x="2269" y="2700"/>
                        <a:pt x="2249" y="2729"/>
                      </a:cubicBezTo>
                      <a:cubicBezTo>
                        <a:pt x="2228" y="2758"/>
                        <a:pt x="2217" y="2767"/>
                        <a:pt x="2213" y="2782"/>
                      </a:cubicBezTo>
                      <a:cubicBezTo>
                        <a:pt x="2209" y="2797"/>
                        <a:pt x="2217" y="2817"/>
                        <a:pt x="2224" y="2821"/>
                      </a:cubicBezTo>
                      <a:cubicBezTo>
                        <a:pt x="2231" y="2825"/>
                        <a:pt x="2248" y="2817"/>
                        <a:pt x="2256" y="2809"/>
                      </a:cubicBezTo>
                      <a:cubicBezTo>
                        <a:pt x="2265" y="2801"/>
                        <a:pt x="2263" y="2785"/>
                        <a:pt x="2274" y="2774"/>
                      </a:cubicBezTo>
                      <a:cubicBezTo>
                        <a:pt x="2285" y="2763"/>
                        <a:pt x="2304" y="2746"/>
                        <a:pt x="2324" y="2741"/>
                      </a:cubicBezTo>
                      <a:cubicBezTo>
                        <a:pt x="2343" y="2737"/>
                        <a:pt x="2374" y="2738"/>
                        <a:pt x="2391" y="2747"/>
                      </a:cubicBezTo>
                      <a:cubicBezTo>
                        <a:pt x="2409" y="2756"/>
                        <a:pt x="2420" y="2775"/>
                        <a:pt x="2427" y="2794"/>
                      </a:cubicBezTo>
                      <a:cubicBezTo>
                        <a:pt x="2433" y="2813"/>
                        <a:pt x="2437" y="2842"/>
                        <a:pt x="2429" y="2862"/>
                      </a:cubicBezTo>
                      <a:cubicBezTo>
                        <a:pt x="2421" y="2882"/>
                        <a:pt x="2398" y="2899"/>
                        <a:pt x="2380" y="2915"/>
                      </a:cubicBezTo>
                      <a:cubicBezTo>
                        <a:pt x="2361" y="2930"/>
                        <a:pt x="2325" y="2941"/>
                        <a:pt x="2318" y="2953"/>
                      </a:cubicBezTo>
                      <a:cubicBezTo>
                        <a:pt x="2311" y="2964"/>
                        <a:pt x="2327" y="2980"/>
                        <a:pt x="2339" y="2985"/>
                      </a:cubicBezTo>
                      <a:cubicBezTo>
                        <a:pt x="2350" y="2990"/>
                        <a:pt x="2361" y="2990"/>
                        <a:pt x="2388" y="2982"/>
                      </a:cubicBezTo>
                      <a:cubicBezTo>
                        <a:pt x="2416" y="2974"/>
                        <a:pt x="2456" y="2949"/>
                        <a:pt x="2503" y="2935"/>
                      </a:cubicBezTo>
                      <a:cubicBezTo>
                        <a:pt x="2550" y="2921"/>
                        <a:pt x="2603" y="2908"/>
                        <a:pt x="2673" y="2897"/>
                      </a:cubicBezTo>
                      <a:cubicBezTo>
                        <a:pt x="2743" y="2886"/>
                        <a:pt x="2842" y="2866"/>
                        <a:pt x="2925" y="2868"/>
                      </a:cubicBezTo>
                      <a:cubicBezTo>
                        <a:pt x="3009" y="2870"/>
                        <a:pt x="3090" y="2890"/>
                        <a:pt x="3174" y="2909"/>
                      </a:cubicBezTo>
                      <a:cubicBezTo>
                        <a:pt x="3259" y="2928"/>
                        <a:pt x="3347" y="2951"/>
                        <a:pt x="3433" y="2982"/>
                      </a:cubicBezTo>
                      <a:cubicBezTo>
                        <a:pt x="3518" y="3013"/>
                        <a:pt x="3614" y="3052"/>
                        <a:pt x="3688" y="3093"/>
                      </a:cubicBezTo>
                      <a:cubicBezTo>
                        <a:pt x="3762" y="3135"/>
                        <a:pt x="3831" y="3189"/>
                        <a:pt x="3876" y="3228"/>
                      </a:cubicBezTo>
                      <a:cubicBezTo>
                        <a:pt x="3920" y="3268"/>
                        <a:pt x="3941" y="3307"/>
                        <a:pt x="3955" y="3334"/>
                      </a:cubicBezTo>
                      <a:cubicBezTo>
                        <a:pt x="3968" y="3361"/>
                        <a:pt x="3961" y="3382"/>
                        <a:pt x="3955" y="3390"/>
                      </a:cubicBezTo>
                      <a:cubicBezTo>
                        <a:pt x="3948" y="3398"/>
                        <a:pt x="3933" y="3392"/>
                        <a:pt x="3914" y="3381"/>
                      </a:cubicBezTo>
                      <a:cubicBezTo>
                        <a:pt x="3894" y="3370"/>
                        <a:pt x="3871" y="3347"/>
                        <a:pt x="3837" y="3322"/>
                      </a:cubicBezTo>
                      <a:cubicBezTo>
                        <a:pt x="3803" y="3298"/>
                        <a:pt x="3761" y="3263"/>
                        <a:pt x="3708" y="3234"/>
                      </a:cubicBezTo>
                      <a:cubicBezTo>
                        <a:pt x="3655" y="3205"/>
                        <a:pt x="3598" y="3179"/>
                        <a:pt x="3518" y="3149"/>
                      </a:cubicBezTo>
                      <a:cubicBezTo>
                        <a:pt x="3437" y="3120"/>
                        <a:pt x="3324" y="3078"/>
                        <a:pt x="3224" y="3058"/>
                      </a:cubicBezTo>
                      <a:cubicBezTo>
                        <a:pt x="3125" y="3038"/>
                        <a:pt x="3013" y="3027"/>
                        <a:pt x="2919" y="3029"/>
                      </a:cubicBezTo>
                      <a:cubicBezTo>
                        <a:pt x="2826" y="3031"/>
                        <a:pt x="2751" y="3044"/>
                        <a:pt x="2661" y="3073"/>
                      </a:cubicBezTo>
                      <a:cubicBezTo>
                        <a:pt x="2571" y="3102"/>
                        <a:pt x="2459" y="3145"/>
                        <a:pt x="2380" y="3202"/>
                      </a:cubicBezTo>
                      <a:cubicBezTo>
                        <a:pt x="2300" y="3259"/>
                        <a:pt x="2232" y="3340"/>
                        <a:pt x="2183" y="3413"/>
                      </a:cubicBezTo>
                      <a:cubicBezTo>
                        <a:pt x="2134" y="3487"/>
                        <a:pt x="2106" y="3561"/>
                        <a:pt x="2083" y="3642"/>
                      </a:cubicBezTo>
                      <a:cubicBezTo>
                        <a:pt x="2060" y="3724"/>
                        <a:pt x="2055" y="3837"/>
                        <a:pt x="2048" y="3903"/>
                      </a:cubicBezTo>
                      <a:cubicBezTo>
                        <a:pt x="2041" y="3969"/>
                        <a:pt x="2043" y="4006"/>
                        <a:pt x="2041" y="4040"/>
                      </a:cubicBezTo>
                      <a:cubicBezTo>
                        <a:pt x="2039" y="4074"/>
                        <a:pt x="2036" y="4092"/>
                        <a:pt x="2035" y="4106"/>
                      </a:cubicBezTo>
                    </a:path>
                  </a:pathLst>
                </a:custGeom>
                <a:solidFill>
                  <a:srgbClr val="009a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Freeform 19"/>
                <p:cNvSpPr/>
                <p:nvPr/>
              </p:nvSpPr>
              <p:spPr>
                <a:xfrm>
                  <a:off x="4840200" y="4570560"/>
                  <a:ext cx="320760" cy="575280"/>
                </a:xfrm>
                <a:custGeom>
                  <a:avLst/>
                  <a:gdLst/>
                  <a:ahLst/>
                  <a:rect l="l" t="t" r="r" b="b"/>
                  <a:pathLst>
                    <a:path w="914" h="1601">
                      <a:moveTo>
                        <a:pt x="37" y="535"/>
                      </a:moveTo>
                      <a:cubicBezTo>
                        <a:pt x="58" y="427"/>
                        <a:pt x="94" y="350"/>
                        <a:pt x="140" y="274"/>
                      </a:cubicBezTo>
                      <a:cubicBezTo>
                        <a:pt x="186" y="198"/>
                        <a:pt x="250" y="120"/>
                        <a:pt x="311" y="76"/>
                      </a:cubicBezTo>
                      <a:cubicBezTo>
                        <a:pt x="372" y="32"/>
                        <a:pt x="445" y="16"/>
                        <a:pt x="505" y="9"/>
                      </a:cubicBezTo>
                      <a:cubicBezTo>
                        <a:pt x="565" y="2"/>
                        <a:pt x="610" y="0"/>
                        <a:pt x="671" y="36"/>
                      </a:cubicBezTo>
                      <a:cubicBezTo>
                        <a:pt x="732" y="72"/>
                        <a:pt x="834" y="137"/>
                        <a:pt x="874" y="225"/>
                      </a:cubicBezTo>
                      <a:cubicBezTo>
                        <a:pt x="914" y="313"/>
                        <a:pt x="911" y="443"/>
                        <a:pt x="910" y="562"/>
                      </a:cubicBezTo>
                      <a:cubicBezTo>
                        <a:pt x="909" y="681"/>
                        <a:pt x="888" y="819"/>
                        <a:pt x="869" y="940"/>
                      </a:cubicBezTo>
                      <a:cubicBezTo>
                        <a:pt x="850" y="1061"/>
                        <a:pt x="823" y="1206"/>
                        <a:pt x="793" y="1291"/>
                      </a:cubicBezTo>
                      <a:cubicBezTo>
                        <a:pt x="763" y="1376"/>
                        <a:pt x="729" y="1406"/>
                        <a:pt x="689" y="1449"/>
                      </a:cubicBezTo>
                      <a:cubicBezTo>
                        <a:pt x="649" y="1492"/>
                        <a:pt x="614" y="1535"/>
                        <a:pt x="550" y="1552"/>
                      </a:cubicBezTo>
                      <a:cubicBezTo>
                        <a:pt x="486" y="1569"/>
                        <a:pt x="379" y="1601"/>
                        <a:pt x="307" y="1552"/>
                      </a:cubicBezTo>
                      <a:cubicBezTo>
                        <a:pt x="235" y="1503"/>
                        <a:pt x="167" y="1360"/>
                        <a:pt x="118" y="1255"/>
                      </a:cubicBezTo>
                      <a:cubicBezTo>
                        <a:pt x="69" y="1150"/>
                        <a:pt x="28" y="1042"/>
                        <a:pt x="14" y="922"/>
                      </a:cubicBezTo>
                      <a:cubicBezTo>
                        <a:pt x="0" y="802"/>
                        <a:pt x="9" y="640"/>
                        <a:pt x="37" y="53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Freeform 20"/>
                <p:cNvSpPr/>
                <p:nvPr/>
              </p:nvSpPr>
              <p:spPr>
                <a:xfrm>
                  <a:off x="4360680" y="3353760"/>
                  <a:ext cx="266760" cy="424440"/>
                </a:xfrm>
                <a:custGeom>
                  <a:avLst/>
                  <a:gdLst/>
                  <a:ahLst/>
                  <a:rect l="l" t="t" r="r" b="b"/>
                  <a:pathLst>
                    <a:path w="763" h="1182">
                      <a:moveTo>
                        <a:pt x="41" y="330"/>
                      </a:moveTo>
                      <a:cubicBezTo>
                        <a:pt x="57" y="275"/>
                        <a:pt x="79" y="229"/>
                        <a:pt x="104" y="182"/>
                      </a:cubicBezTo>
                      <a:cubicBezTo>
                        <a:pt x="129" y="135"/>
                        <a:pt x="157" y="77"/>
                        <a:pt x="191" y="47"/>
                      </a:cubicBezTo>
                      <a:cubicBezTo>
                        <a:pt x="225" y="17"/>
                        <a:pt x="275" y="0"/>
                        <a:pt x="308" y="2"/>
                      </a:cubicBezTo>
                      <a:cubicBezTo>
                        <a:pt x="341" y="4"/>
                        <a:pt x="369" y="34"/>
                        <a:pt x="389" y="60"/>
                      </a:cubicBezTo>
                      <a:cubicBezTo>
                        <a:pt x="409" y="86"/>
                        <a:pt x="423" y="126"/>
                        <a:pt x="429" y="159"/>
                      </a:cubicBezTo>
                      <a:cubicBezTo>
                        <a:pt x="435" y="192"/>
                        <a:pt x="424" y="230"/>
                        <a:pt x="425" y="258"/>
                      </a:cubicBezTo>
                      <a:cubicBezTo>
                        <a:pt x="426" y="286"/>
                        <a:pt x="433" y="322"/>
                        <a:pt x="437" y="326"/>
                      </a:cubicBezTo>
                      <a:cubicBezTo>
                        <a:pt x="441" y="330"/>
                        <a:pt x="445" y="301"/>
                        <a:pt x="447" y="281"/>
                      </a:cubicBezTo>
                      <a:cubicBezTo>
                        <a:pt x="449" y="261"/>
                        <a:pt x="439" y="227"/>
                        <a:pt x="447" y="204"/>
                      </a:cubicBezTo>
                      <a:cubicBezTo>
                        <a:pt x="455" y="181"/>
                        <a:pt x="475" y="156"/>
                        <a:pt x="497" y="141"/>
                      </a:cubicBezTo>
                      <a:cubicBezTo>
                        <a:pt x="519" y="126"/>
                        <a:pt x="549" y="116"/>
                        <a:pt x="582" y="114"/>
                      </a:cubicBezTo>
                      <a:cubicBezTo>
                        <a:pt x="615" y="112"/>
                        <a:pt x="667" y="111"/>
                        <a:pt x="695" y="128"/>
                      </a:cubicBezTo>
                      <a:cubicBezTo>
                        <a:pt x="723" y="145"/>
                        <a:pt x="738" y="181"/>
                        <a:pt x="749" y="218"/>
                      </a:cubicBezTo>
                      <a:cubicBezTo>
                        <a:pt x="760" y="255"/>
                        <a:pt x="763" y="294"/>
                        <a:pt x="762" y="348"/>
                      </a:cubicBezTo>
                      <a:cubicBezTo>
                        <a:pt x="761" y="402"/>
                        <a:pt x="754" y="477"/>
                        <a:pt x="744" y="542"/>
                      </a:cubicBezTo>
                      <a:cubicBezTo>
                        <a:pt x="734" y="607"/>
                        <a:pt x="716" y="678"/>
                        <a:pt x="699" y="740"/>
                      </a:cubicBezTo>
                      <a:cubicBezTo>
                        <a:pt x="682" y="802"/>
                        <a:pt x="669" y="857"/>
                        <a:pt x="644" y="915"/>
                      </a:cubicBezTo>
                      <a:cubicBezTo>
                        <a:pt x="619" y="973"/>
                        <a:pt x="581" y="1048"/>
                        <a:pt x="549" y="1091"/>
                      </a:cubicBezTo>
                      <a:cubicBezTo>
                        <a:pt x="517" y="1134"/>
                        <a:pt x="484" y="1170"/>
                        <a:pt x="450" y="1176"/>
                      </a:cubicBezTo>
                      <a:cubicBezTo>
                        <a:pt x="416" y="1182"/>
                        <a:pt x="365" y="1146"/>
                        <a:pt x="347" y="1127"/>
                      </a:cubicBezTo>
                      <a:cubicBezTo>
                        <a:pt x="329" y="1108"/>
                        <a:pt x="336" y="1090"/>
                        <a:pt x="339" y="1064"/>
                      </a:cubicBezTo>
                      <a:cubicBezTo>
                        <a:pt x="342" y="1038"/>
                        <a:pt x="366" y="977"/>
                        <a:pt x="365" y="969"/>
                      </a:cubicBezTo>
                      <a:cubicBezTo>
                        <a:pt x="364" y="961"/>
                        <a:pt x="338" y="993"/>
                        <a:pt x="330" y="1014"/>
                      </a:cubicBezTo>
                      <a:cubicBezTo>
                        <a:pt x="322" y="1035"/>
                        <a:pt x="324" y="1073"/>
                        <a:pt x="315" y="1095"/>
                      </a:cubicBezTo>
                      <a:cubicBezTo>
                        <a:pt x="306" y="1117"/>
                        <a:pt x="295" y="1140"/>
                        <a:pt x="276" y="1149"/>
                      </a:cubicBezTo>
                      <a:cubicBezTo>
                        <a:pt x="257" y="1158"/>
                        <a:pt x="229" y="1157"/>
                        <a:pt x="203" y="1149"/>
                      </a:cubicBezTo>
                      <a:cubicBezTo>
                        <a:pt x="177" y="1141"/>
                        <a:pt x="147" y="1131"/>
                        <a:pt x="122" y="1100"/>
                      </a:cubicBezTo>
                      <a:cubicBezTo>
                        <a:pt x="97" y="1069"/>
                        <a:pt x="73" y="1020"/>
                        <a:pt x="54" y="960"/>
                      </a:cubicBezTo>
                      <a:cubicBezTo>
                        <a:pt x="35" y="900"/>
                        <a:pt x="17" y="814"/>
                        <a:pt x="9" y="740"/>
                      </a:cubicBezTo>
                      <a:cubicBezTo>
                        <a:pt x="1" y="666"/>
                        <a:pt x="0" y="583"/>
                        <a:pt x="5" y="515"/>
                      </a:cubicBezTo>
                      <a:cubicBezTo>
                        <a:pt x="10" y="447"/>
                        <a:pt x="25" y="385"/>
                        <a:pt x="41" y="330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Freeform 21"/>
                <p:cNvSpPr/>
                <p:nvPr/>
              </p:nvSpPr>
              <p:spPr>
                <a:xfrm>
                  <a:off x="5612040" y="3439800"/>
                  <a:ext cx="269640" cy="451080"/>
                </a:xfrm>
                <a:custGeom>
                  <a:avLst/>
                  <a:gdLst/>
                  <a:ahLst/>
                  <a:rect l="l" t="t" r="r" b="b"/>
                  <a:pathLst>
                    <a:path w="769" h="1255">
                      <a:moveTo>
                        <a:pt x="3" y="656"/>
                      </a:moveTo>
                      <a:cubicBezTo>
                        <a:pt x="0" y="568"/>
                        <a:pt x="6" y="466"/>
                        <a:pt x="24" y="386"/>
                      </a:cubicBezTo>
                      <a:cubicBezTo>
                        <a:pt x="42" y="306"/>
                        <a:pt x="80" y="234"/>
                        <a:pt x="114" y="176"/>
                      </a:cubicBezTo>
                      <a:cubicBezTo>
                        <a:pt x="148" y="118"/>
                        <a:pt x="190" y="62"/>
                        <a:pt x="228" y="35"/>
                      </a:cubicBezTo>
                      <a:cubicBezTo>
                        <a:pt x="266" y="8"/>
                        <a:pt x="313" y="0"/>
                        <a:pt x="345" y="11"/>
                      </a:cubicBezTo>
                      <a:cubicBezTo>
                        <a:pt x="377" y="22"/>
                        <a:pt x="404" y="71"/>
                        <a:pt x="417" y="101"/>
                      </a:cubicBezTo>
                      <a:cubicBezTo>
                        <a:pt x="430" y="131"/>
                        <a:pt x="428" y="167"/>
                        <a:pt x="426" y="194"/>
                      </a:cubicBezTo>
                      <a:cubicBezTo>
                        <a:pt x="424" y="221"/>
                        <a:pt x="408" y="242"/>
                        <a:pt x="402" y="263"/>
                      </a:cubicBezTo>
                      <a:cubicBezTo>
                        <a:pt x="396" y="284"/>
                        <a:pt x="386" y="316"/>
                        <a:pt x="387" y="323"/>
                      </a:cubicBezTo>
                      <a:cubicBezTo>
                        <a:pt x="388" y="330"/>
                        <a:pt x="403" y="320"/>
                        <a:pt x="411" y="305"/>
                      </a:cubicBezTo>
                      <a:cubicBezTo>
                        <a:pt x="419" y="290"/>
                        <a:pt x="426" y="255"/>
                        <a:pt x="435" y="233"/>
                      </a:cubicBezTo>
                      <a:cubicBezTo>
                        <a:pt x="444" y="211"/>
                        <a:pt x="454" y="188"/>
                        <a:pt x="468" y="173"/>
                      </a:cubicBezTo>
                      <a:cubicBezTo>
                        <a:pt x="482" y="158"/>
                        <a:pt x="495" y="148"/>
                        <a:pt x="522" y="140"/>
                      </a:cubicBezTo>
                      <a:cubicBezTo>
                        <a:pt x="549" y="132"/>
                        <a:pt x="597" y="117"/>
                        <a:pt x="633" y="125"/>
                      </a:cubicBezTo>
                      <a:cubicBezTo>
                        <a:pt x="669" y="133"/>
                        <a:pt x="719" y="150"/>
                        <a:pt x="741" y="191"/>
                      </a:cubicBezTo>
                      <a:cubicBezTo>
                        <a:pt x="763" y="232"/>
                        <a:pt x="767" y="299"/>
                        <a:pt x="768" y="371"/>
                      </a:cubicBezTo>
                      <a:cubicBezTo>
                        <a:pt x="769" y="443"/>
                        <a:pt x="760" y="543"/>
                        <a:pt x="747" y="626"/>
                      </a:cubicBezTo>
                      <a:cubicBezTo>
                        <a:pt x="734" y="709"/>
                        <a:pt x="706" y="792"/>
                        <a:pt x="687" y="869"/>
                      </a:cubicBezTo>
                      <a:cubicBezTo>
                        <a:pt x="668" y="946"/>
                        <a:pt x="651" y="1032"/>
                        <a:pt x="630" y="1091"/>
                      </a:cubicBezTo>
                      <a:cubicBezTo>
                        <a:pt x="609" y="1150"/>
                        <a:pt x="585" y="1196"/>
                        <a:pt x="561" y="1223"/>
                      </a:cubicBezTo>
                      <a:cubicBezTo>
                        <a:pt x="537" y="1250"/>
                        <a:pt x="511" y="1255"/>
                        <a:pt x="486" y="1253"/>
                      </a:cubicBezTo>
                      <a:cubicBezTo>
                        <a:pt x="461" y="1251"/>
                        <a:pt x="427" y="1226"/>
                        <a:pt x="408" y="1208"/>
                      </a:cubicBezTo>
                      <a:cubicBezTo>
                        <a:pt x="389" y="1190"/>
                        <a:pt x="378" y="1167"/>
                        <a:pt x="372" y="1148"/>
                      </a:cubicBezTo>
                      <a:cubicBezTo>
                        <a:pt x="366" y="1129"/>
                        <a:pt x="371" y="1111"/>
                        <a:pt x="372" y="1094"/>
                      </a:cubicBezTo>
                      <a:cubicBezTo>
                        <a:pt x="373" y="1077"/>
                        <a:pt x="376" y="1064"/>
                        <a:pt x="378" y="1046"/>
                      </a:cubicBezTo>
                      <a:cubicBezTo>
                        <a:pt x="380" y="1028"/>
                        <a:pt x="384" y="986"/>
                        <a:pt x="381" y="986"/>
                      </a:cubicBezTo>
                      <a:cubicBezTo>
                        <a:pt x="378" y="986"/>
                        <a:pt x="365" y="1027"/>
                        <a:pt x="360" y="1046"/>
                      </a:cubicBezTo>
                      <a:cubicBezTo>
                        <a:pt x="355" y="1065"/>
                        <a:pt x="355" y="1084"/>
                        <a:pt x="351" y="1100"/>
                      </a:cubicBezTo>
                      <a:cubicBezTo>
                        <a:pt x="347" y="1116"/>
                        <a:pt x="348" y="1132"/>
                        <a:pt x="333" y="1145"/>
                      </a:cubicBezTo>
                      <a:cubicBezTo>
                        <a:pt x="318" y="1158"/>
                        <a:pt x="288" y="1169"/>
                        <a:pt x="264" y="1175"/>
                      </a:cubicBezTo>
                      <a:cubicBezTo>
                        <a:pt x="240" y="1181"/>
                        <a:pt x="212" y="1191"/>
                        <a:pt x="186" y="1181"/>
                      </a:cubicBezTo>
                      <a:cubicBezTo>
                        <a:pt x="160" y="1171"/>
                        <a:pt x="132" y="1160"/>
                        <a:pt x="108" y="1115"/>
                      </a:cubicBezTo>
                      <a:cubicBezTo>
                        <a:pt x="84" y="1070"/>
                        <a:pt x="59" y="990"/>
                        <a:pt x="42" y="914"/>
                      </a:cubicBezTo>
                      <a:cubicBezTo>
                        <a:pt x="25" y="838"/>
                        <a:pt x="6" y="744"/>
                        <a:pt x="3" y="656"/>
                      </a:cubicBezTo>
                      <a:close/>
                    </a:path>
                  </a:pathLst>
                </a:cu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3" name="Text Box 22"/>
          <p:cNvSpPr/>
          <p:nvPr/>
        </p:nvSpPr>
        <p:spPr>
          <a:xfrm>
            <a:off x="250920" y="177336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Peta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23"/>
          <p:cNvSpPr/>
          <p:nvPr/>
        </p:nvSpPr>
        <p:spPr>
          <a:xfrm>
            <a:off x="0" y="5013360"/>
            <a:ext cx="19447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Nectary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24"/>
          <p:cNvSpPr/>
          <p:nvPr/>
        </p:nvSpPr>
        <p:spPr>
          <a:xfrm>
            <a:off x="6877080" y="436572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Ovary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25"/>
          <p:cNvSpPr/>
          <p:nvPr/>
        </p:nvSpPr>
        <p:spPr>
          <a:xfrm>
            <a:off x="7020000" y="206064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igma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26"/>
          <p:cNvSpPr/>
          <p:nvPr/>
        </p:nvSpPr>
        <p:spPr>
          <a:xfrm>
            <a:off x="0" y="2492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y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7"/>
          <p:cNvSpPr/>
          <p:nvPr/>
        </p:nvSpPr>
        <p:spPr>
          <a:xfrm>
            <a:off x="1042920" y="6021360"/>
            <a:ext cx="187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epal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Oval 28"/>
          <p:cNvSpPr/>
          <p:nvPr/>
        </p:nvSpPr>
        <p:spPr>
          <a:xfrm>
            <a:off x="4932360" y="4724280"/>
            <a:ext cx="144360" cy="289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9"/>
          <p:cNvSpPr/>
          <p:nvPr/>
        </p:nvSpPr>
        <p:spPr>
          <a:xfrm>
            <a:off x="7093080" y="2924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Anther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30"/>
          <p:cNvSpPr/>
          <p:nvPr/>
        </p:nvSpPr>
        <p:spPr>
          <a:xfrm>
            <a:off x="6948360" y="5084640"/>
            <a:ext cx="18734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Ovule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32"/>
          <p:cNvSpPr/>
          <p:nvPr/>
        </p:nvSpPr>
        <p:spPr>
          <a:xfrm>
            <a:off x="6804000" y="3645000"/>
            <a:ext cx="2340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Filament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3"/>
          <p:cNvSpPr/>
          <p:nvPr/>
        </p:nvSpPr>
        <p:spPr>
          <a:xfrm>
            <a:off x="5508720" y="5950080"/>
            <a:ext cx="302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Flower stem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34"/>
          <p:cNvSpPr/>
          <p:nvPr/>
        </p:nvSpPr>
        <p:spPr>
          <a:xfrm>
            <a:off x="468360" y="3500280"/>
            <a:ext cx="187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Comic Sans MS"/>
              </a:rPr>
              <a:t>Stamen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35"/>
          <p:cNvSpPr/>
          <p:nvPr/>
        </p:nvSpPr>
        <p:spPr>
          <a:xfrm>
            <a:off x="1547640" y="2060640"/>
            <a:ext cx="115272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36"/>
          <p:cNvSpPr/>
          <p:nvPr/>
        </p:nvSpPr>
        <p:spPr>
          <a:xfrm>
            <a:off x="1908000" y="2781360"/>
            <a:ext cx="309564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Rectangle 37"/>
          <p:cNvSpPr/>
          <p:nvPr/>
        </p:nvSpPr>
        <p:spPr>
          <a:xfrm>
            <a:off x="3348000" y="3573360"/>
            <a:ext cx="863640" cy="13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38"/>
          <p:cNvSpPr/>
          <p:nvPr/>
        </p:nvSpPr>
        <p:spPr>
          <a:xfrm>
            <a:off x="2195640" y="3716280"/>
            <a:ext cx="108108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40"/>
          <p:cNvSpPr/>
          <p:nvPr/>
        </p:nvSpPr>
        <p:spPr>
          <a:xfrm flipV="1">
            <a:off x="2050920" y="5300280"/>
            <a:ext cx="2376720" cy="144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41"/>
          <p:cNvSpPr/>
          <p:nvPr/>
        </p:nvSpPr>
        <p:spPr>
          <a:xfrm flipV="1">
            <a:off x="2340000" y="5950080"/>
            <a:ext cx="936720" cy="358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42"/>
          <p:cNvSpPr/>
          <p:nvPr/>
        </p:nvSpPr>
        <p:spPr>
          <a:xfrm flipH="1">
            <a:off x="5148000" y="6308640"/>
            <a:ext cx="431640" cy="7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Line 43"/>
          <p:cNvSpPr/>
          <p:nvPr/>
        </p:nvSpPr>
        <p:spPr>
          <a:xfrm flipH="1" flipV="1">
            <a:off x="5076720" y="4941720"/>
            <a:ext cx="1943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Rectangle 44"/>
          <p:cNvSpPr/>
          <p:nvPr/>
        </p:nvSpPr>
        <p:spPr>
          <a:xfrm>
            <a:off x="4643280" y="4365720"/>
            <a:ext cx="720720" cy="863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Line 45"/>
          <p:cNvSpPr/>
          <p:nvPr/>
        </p:nvSpPr>
        <p:spPr>
          <a:xfrm flipH="1">
            <a:off x="5866920" y="4005360"/>
            <a:ext cx="100980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Line 46"/>
          <p:cNvSpPr/>
          <p:nvPr/>
        </p:nvSpPr>
        <p:spPr>
          <a:xfrm flipH="1">
            <a:off x="5292720" y="2492280"/>
            <a:ext cx="1727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Line 47"/>
          <p:cNvSpPr/>
          <p:nvPr/>
        </p:nvSpPr>
        <p:spPr>
          <a:xfrm flipH="1">
            <a:off x="6300720" y="3213000"/>
            <a:ext cx="935280" cy="43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Line 48"/>
          <p:cNvSpPr/>
          <p:nvPr/>
        </p:nvSpPr>
        <p:spPr>
          <a:xfrm flipH="1">
            <a:off x="5363640" y="4653000"/>
            <a:ext cx="1584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5"/>
          <p:cNvSpPr/>
          <p:nvPr/>
        </p:nvSpPr>
        <p:spPr>
          <a:xfrm>
            <a:off x="0" y="43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0" y="0"/>
          <a:ext cx="8820000" cy="6956280"/>
        </p:xfrm>
        <a:graphic>
          <a:graphicData uri="http://schemas.openxmlformats.org/drawingml/2006/table">
            <a:tbl>
              <a:tblPr/>
              <a:tblGrid>
                <a:gridCol w="1816200"/>
                <a:gridCol w="700380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lower Part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art Function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Pe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se are used to attract insects into the flower, they may have guidelines on them and be scente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igm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s covered in a sticky substance that the pollen grains will stick t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y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t raises the stigma away from the ovary to decrease the likelihood of pollen contamination. It varies in length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v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Ovules are produced inside thi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Ovul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will become a seed once fertilisation has taken place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tame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the collective name for the anther and the filament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lower Stal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Gives support to the flower and elevates the flower for the insects.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Necta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where a sugary solution called nectar is produce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Sep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ese protect the flower whilst the flower is developing from a bud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Fila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his is the stalk of the anther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omic Sans MS"/>
                          <a:ea typeface="Times New Roman"/>
                        </a:rPr>
                        <a:t>Anth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Pollen is produced here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3:42:14Z</dcterms:created>
  <dc:creator>Education</dc:creator>
  <dc:description/>
  <dc:language>en-US</dc:language>
  <cp:lastModifiedBy>LEGION2</cp:lastModifiedBy>
  <dcterms:modified xsi:type="dcterms:W3CDTF">2016-01-13T08:34:04Z</dcterms:modified>
  <cp:revision>12</cp:revision>
  <dc:subject/>
  <dc:title>Introduction to Plants</dc:title>
</cp:coreProperties>
</file>