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A256-A2A5-426D-AE42-01CC2F209A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ocess of photosynthesis, several energy transform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ocess of photosynthesis, several energy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bserved in the tube containing Elodea are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production of oxygen by Elodea which will alway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control reading from the Elodea read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bserved in the tube containing Elodea 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production of oxygen by Elodea which will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control reading from the Elodea rea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the gre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pla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th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You have seen that plants contain photosynthetic pig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Such pigments (chlorophyll) absorb only specific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amount of light that the plant is exposed to has 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uence on photosynthetic rat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You have seen that plants contain photosynthetic pig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Such pigments (chlorophyll) absorb only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amount of light that the plant is exposed to has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luence on photosynthetic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by the photosynthetic pigment, chlorophyl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portion of the electromagnetic spectru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gure 6.1 of your lab manual represents the visib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by the photosynthetic pigment, chlorophy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portion of th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gure 6.1 of your lab manual represents th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cedure employed here is identical to that used in the determination of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wavelength is the independent variable 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bsorbance is the dependent variable.  Indicate with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cedure employed here is identical to that used in the determin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wavelength is the independent variabl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bsorbance is the dependent variable.  Indicat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Obtain a piece of Elodea 5 to 6 inches in length and place it in a test tube with the cut end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t glass pipette an a syringe.---AVOID AIR BUBBLES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Elodea to act as a control for temperature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Place both tubes in a beaker filled with room temperature wat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Obtain a piece of Elodea 5 to 6 inches in length and place it in a test tube with the cut end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t glass pipette an a syringe.---AVOID AIR BUBBL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Elodea to act as a control for temperatu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Place both tubes in a beaker filled with room temperatur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cm - Move the lamp so it is 75 cm away from the experimental tubes and place the he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 half way between the lamp and tubes.  Wait 5 minutes for equilibration.  Adju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cm - Move the lamp forward so it is 50 cm away from the experimental tubes and again pla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your data in table 6.4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cm - Repeat the equilibration, adjustments and measurements at the 25 cm mark.  Recor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ata in Table 6.4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cm - Move the lamp so it is 75 cm away from the experimental tubes and place the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 half way between the lamp and tubes.  Wait 5 minutes for equilibration.  Adj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 cm - Move the lamp forward so it is 50 cm away from the experimental tubes and aga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your data in table 6.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cm - Repeat the equilibration, adjustments and measurements at the 25 cm mark.  Reco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ata in Table 6.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9524-887D-4C84-8B21-65D1B0A3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8127-126D-48FF-81F6-AA5B066A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E21-B6C2-44AC-833A-98BA3119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6CC-B12D-4A75-B126-2C2892EA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ED5-30EF-4FCD-A516-BB0FB493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D3EF-1914-4590-BACB-DAEADE67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884-F400-491E-BD22-9D6D6CD6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BF10-A514-4B4C-AD69-CF63D462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96AF-2BEE-47E0-80F4-04941FDA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F3E5-2991-4935-8137-2D525E51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0BBB-1FE6-4F11-A02D-2FD261B4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CDDC-25D1-444F-9456-E0EC3821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C41C-9603-4302-B599-E4E92C5D1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57120" y="2022480"/>
            <a:ext cx="859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process of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hotosynthe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veral energy transform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pla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ight energy is captured by plant cells and is converted in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energy in the form of high energy electr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e kinetic energy of the electron is transformed int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energy in the bonds of AT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e ATP, in turn, transfers the energy to the chemical bon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glucose molecu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57120" y="5146560"/>
            <a:ext cx="79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this process, light energy from the sun is captured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d in the chemical bonds of sugar molecul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88600" y="1793880"/>
            <a:ext cx="819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anges observed in the tube contain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of two simultaneous happening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the production of oxygen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ich will alway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in an increase in volume,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 fluctuations in temperature and pressure, which is w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ipette is set at the 0.2 ml mar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41720" y="4384800"/>
            <a:ext cx="755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obtain a true reading of oxygen production, you mu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 the control reading from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ad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41720" y="17175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ic Analy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26600" y="2251080"/>
            <a:ext cx="82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 all three cumulative movements of fluid as a function of ti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sheet of graph pap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30560" y="3241800"/>
            <a:ext cx="81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suggested that different plotting symbols be used for ea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from the light source (e.g. * for 75 cm; + for 50 cm;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or 25 cm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06520" y="4537080"/>
            <a:ext cx="855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 clear plastic ruler, draw a straight line that best fits al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for each distance.  Your lines should indicate t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rea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ight intensity, the greater the rate of oxygen productio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the pl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22000" y="202248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98560" y="2708280"/>
            <a:ext cx="829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)  You have seen that plants contain photosynthetic pigm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)  Such pigments (chlorophyll) absorb only specific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avelengths 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3)  The amount of light that the plant is exposed to has 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influence on photosynthetic ra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72240" y="194616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30200" y="2479680"/>
            <a:ext cx="77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itial step of photosynthesis involves the capture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by the photosynthetic pigment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chlorophy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33440" y="3394080"/>
            <a:ext cx="752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 plant does not absorb all of the light energy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sible portion of the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electromagnet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ic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spectr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6.1 of your lab manual represents the visi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ion of the electromagnetic spectru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52800" y="5146560"/>
            <a:ext cx="808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exercise, you will use the spectrophotometer to determ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avelengths of light are absorbed and which ones ar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lected by the chlorophyll molecu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17080" y="17938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99080" y="2403360"/>
            <a:ext cx="89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study the absorbance of various wavelengths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chlorophyll, you must first separate the pigment from the leaf tissu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66040" y="3241800"/>
            <a:ext cx="8547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ccomplished by following the procedure below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Place a large spinach leaf into a 50 ml beaker and add 30 ml of ethanol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Place the beaker with ethanol on a hot plate and slowly heat the solution taking care not to crush th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f or boil the ethanol soluti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As the chlorophyll exits the leaf tissue it will enter the ethanol solution and turn the color gree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)  Fill the cuvette approximately 2/3 full will the chlorophyll extract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83680" y="5070600"/>
            <a:ext cx="39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the diagrams on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for a representation of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lorophyll extra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1"/>
          <p:cNvGrpSpPr/>
          <p:nvPr/>
        </p:nvGrpSpPr>
        <p:grpSpPr>
          <a:xfrm>
            <a:off x="4572000" y="4940280"/>
            <a:ext cx="3962520" cy="1498680"/>
            <a:chOff x="4572000" y="4940280"/>
            <a:chExt cx="3962520" cy="1498680"/>
          </a:xfrm>
        </p:grpSpPr>
        <p:pic>
          <p:nvPicPr>
            <p:cNvPr id="64" name="Picture 9" descr="photo2"/>
            <p:cNvPicPr/>
            <p:nvPr/>
          </p:nvPicPr>
          <p:blipFill>
            <a:blip r:embed="rId1"/>
            <a:stretch/>
          </p:blipFill>
          <p:spPr>
            <a:xfrm>
              <a:off x="4572000" y="4940280"/>
              <a:ext cx="1752480" cy="14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" descr="photo3"/>
            <p:cNvPicPr/>
            <p:nvPr/>
          </p:nvPicPr>
          <p:blipFill>
            <a:blip r:embed="rId2"/>
            <a:stretch/>
          </p:blipFill>
          <p:spPr>
            <a:xfrm>
              <a:off x="6553080" y="4952880"/>
              <a:ext cx="1981440" cy="14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04480" y="1793880"/>
            <a:ext cx="804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, we wish to determine which wavelengths of ligh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bsorbed by the chlorophyll extract.  However, we must fir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the concentration of chlorophyll in the solution i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e for the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87920" y="3470400"/>
            <a:ext cx="8693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o this, follow the procedure below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Set the spectrophotometer at 550 nm and depress the %T butt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Place a cuvette filled 2/3 full of ethanol into the sample compartment and calibrate to 100 %T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In order to continue on with the absorption experiment you must obtain a reading between 65% - 85%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If you have a reading below 65%, your experimental solution is too concentrated--what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uld you do to change its concentrati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04480" y="5299200"/>
            <a:ext cx="84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you have reached an appropriate %T reading you are ready 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with the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77920" y="1793880"/>
            <a:ext cx="78998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your chlorophyll extract along with an ethanol blank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absorbance of the chlorophyll solution at vario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rocedure employed here is identical to that used in the determination of th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sorption spectrum for methylene blue (Exercise #3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remember to zero the machine after you change each wavelength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82240" y="3927600"/>
            <a:ext cx="85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rder to clearly visualize the actual absorbance characteristic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your chlorophyll extract, you will plot your data using graphi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hat wavelength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absorbance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ndicate with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ows on the x-axis the wavelengths of light most strong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bed by the chlorophyll extra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19240" y="1793880"/>
            <a:ext cx="65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GHT INTENSITY AND PHOTOSYNTHE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01600" y="2327400"/>
            <a:ext cx="695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as the intensity of light increases, the rate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ynthesis increa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31040" y="3241800"/>
            <a:ext cx="886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one measure the rate of photosynthesi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you should recall, oxygen is a by-product of photosynthes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the photosynthetic rate can be determined b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ing the rate of oxygen production by the pla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00520" y="4917960"/>
            <a:ext cx="883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this portion of the laboratory you will observe the eff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ight intensity on oxygen production and then make a generaliz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plant survival based upon the data you have collec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40760" y="15652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99080" y="2098800"/>
            <a:ext cx="838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termine the effect of light intensity upon photosynthetic rate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conduct the following experimen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54000" y="2982960"/>
            <a:ext cx="78555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Obtain a piece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5 to 6 inches in length and place it in a test tube with the cut end up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 Fill the test tube with NaHCO3 (serves as a source of CO2) and plug with the rubber stopper containin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bent gla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pipet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 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rin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---AVOID AIR BUBBLES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 The position of the fluid in the pipette can be adjusted by raising or lowering the plunger in the syring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)  Prepare a second tube filled with NaHCO3 without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lode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o act as a control for temperature and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sure fluctuations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)  Place both tubes in a beaker filled with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om temperature water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)  Place a lamp 75 cm from the experimental beaker and set up a heat filter (additional beaker) fille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tap water placed half way between the light source and the experimental beaker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79360" y="5222880"/>
            <a:ext cx="70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 to the picture on the following slide for refer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30200" y="1793880"/>
            <a:ext cx="787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movie represents the experimental setup for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intensity experi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hoto4.avi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181480" cy="3754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ercise #6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16360" y="18702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DURE (continued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82680" y="2479680"/>
            <a:ext cx="8299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 the lamp so it is 75 cm away from the experimental tubes and place the he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ter half way between the lamp and tubes.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it 5 minutes for equilibr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Adjus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luids in the pipettes so that they are at the 0.2 ml mark and recalibrate only whe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ing the distance to the light source.  Record the position of the fluid in th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pettes at 2 minute intervals for 10 minute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81600" y="4079880"/>
            <a:ext cx="8366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 the lamp forward so it is 50 cm away from the experimental tubes and again plac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heat filter half way between the lamp and experimental tubes.  Wait 5 minutes for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quilibration and adjust the fluid in the pipettes to 0.2 ml.  Repeat the experiment and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ord your data in table 6.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81240" y="5299200"/>
            <a:ext cx="806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cm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eat the equilibration, adjustments and measurements at the 25 cm mark.  Record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r data in Table 6.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2:59:08Z</dcterms:created>
  <dc:creator>Office of Instruction</dc:creator>
  <dc:description/>
  <dc:language>en-US</dc:language>
  <cp:lastModifiedBy>LEGION2</cp:lastModifiedBy>
  <dcterms:modified xsi:type="dcterms:W3CDTF">2016-01-13T08:38:25Z</dcterms:modified>
  <cp:revision>13</cp:revision>
  <dc:subject/>
  <dc:title>Exercise #6      PHOTOSYNTHESIS</dc:title>
</cp:coreProperties>
</file>