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2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85965-2C41-47A1-A706-CFD038A4E5A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 Structure and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 Structure and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plants (producers) can use light energy to make their own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ocess is called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plants are green because they contain a chemical called chlorophyll.  This chemical is used to trap light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plants (producers) can use light energy to make their own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ocess is called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plants are green because they contain a chemical called chlorophyll.  This chemical is used to trap light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lorophyll is contained in the chloroplasts of plant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ght energy is used to change carbon dioxide and water into starch and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word equation for photosynthesis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rbon    +  water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arch  + 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gh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 is contained in the chloroplasts of plant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energy is used to change carbon dioxide and water into starch and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d equation for photosynthesis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   +  wat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ch  + 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ructure of a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of a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arch Test a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ch Test a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F3A8-E417-47BC-A71F-D0CA71A76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F2EF-F862-4698-A9F3-9165600E9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75EB-D3B0-4C7A-8238-C32062553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EDBB-BA7B-423F-BF1C-69E36D22E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348F-A243-48E8-9814-5B7722FAF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C695-D1C1-4C2C-A900-07DB285DB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D1FE-6480-4E3D-8FF2-AEE3AE2B7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EFD7-0C73-4749-9312-DE3CBF4EE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C5DF-8483-4D55-9643-B891FF696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DFA9-07DB-4440-B225-A7973448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C4DA-07DB-43F5-8AE1-94AC8065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47E0-33B1-4310-AB6F-B3D5DB46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DD860-C56A-4265-9F0E-B99D7FB30FE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eaf Structure and Photosynth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andard Grade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hotosynth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reen plants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(producers)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an use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light energ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o make their own f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is process is called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photosynth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reen plants are green because they contain a chemical called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chlorophyl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  This chemical is used to trap light ener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Chlorophyl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contained in the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chloroplasts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f plant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ight energy is used to change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carbon dioxide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wate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nto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starc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oxy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word equation for photosynthesis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rbon    +  wate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rch  +  oxy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iox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4"/>
          <p:cNvSpPr/>
          <p:nvPr/>
        </p:nvSpPr>
        <p:spPr>
          <a:xfrm>
            <a:off x="3733920" y="441972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3574800" y="3889440"/>
            <a:ext cx="16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ight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tructure of a lea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467480" cy="513396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tarch Test a Lea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295280" y="1020600"/>
            <a:ext cx="6686640" cy="583740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17:40:41Z</dcterms:created>
  <dc:creator>hhashmi</dc:creator>
  <dc:description/>
  <dc:language>en-US</dc:language>
  <cp:lastModifiedBy>LEGION2</cp:lastModifiedBy>
  <dcterms:modified xsi:type="dcterms:W3CDTF">2016-01-13T08:43:48Z</dcterms:modified>
  <cp:revision>7</cp:revision>
  <dc:subject/>
  <dc:title>Leaf Structure and Photosynthesis</dc:title>
</cp:coreProperties>
</file>