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9A35-28EE-421A-9918-82BBCFFCF6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the processes of photoionisation, photophosphorylation &amp; phot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where these processes 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 of the difference between cyclic &amp; non-cyclic phosphory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changes of electrons as they flow through the light reactions are analogous to the carto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omplicated as the scheme is, don’t lose track of its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reactions use solar power to generate ATP and NADPH which provide chemical energy and reducing power to the sugar making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9903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39358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39358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9903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39358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762120"/>
            <a:ext cx="9147240" cy="1063080"/>
            <a:chOff x="-3600" y="762120"/>
            <a:chExt cx="9147240" cy="106308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803160"/>
              <a:ext cx="9147240" cy="1011960"/>
              <a:chOff x="-3600" y="803160"/>
              <a:chExt cx="9147240" cy="101196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3252960"/>
                <a:ext cx="99036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50160" y="972720"/>
                <a:ext cx="99036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52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760" y="110448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107352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1019520"/>
                <a:ext cx="99036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1063440"/>
                <a:ext cx="100296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96480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520" y="96408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5200" y="1096560"/>
                <a:ext cx="99036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1065600"/>
                <a:ext cx="99036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1054800"/>
                <a:ext cx="10029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972720"/>
                <a:ext cx="9903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680" y="972000"/>
                <a:ext cx="99036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1096560"/>
                <a:ext cx="9903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803160"/>
                <a:ext cx="461880" cy="99180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560" y="1012320"/>
                <a:ext cx="99036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1054800"/>
                <a:ext cx="10029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762120"/>
              <a:ext cx="9147240" cy="6537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1525320"/>
              <a:ext cx="91458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490a8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Light Dependent Re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anding the processes of photoionisation, photophosphorylation &amp; photoly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where these processes take pl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ledge of the difference between cyclic &amp; non-cyclic phosphory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4678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Overview of photosynthesi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990720"/>
            <a:ext cx="72392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24816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Photosystems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57913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219320" y="1050840"/>
            <a:ext cx="75438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360520" y="914400"/>
            <a:ext cx="48783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295280" y="1371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Electron Transfe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nergy changes of electrons as they flow through the light reactions are analogous to the carto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complicated as the scheme is, don’t lose track of its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ght reactions use solar power to generate ATP and NADPH which provide chemical energy and reducing power to the sugar making re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7:02:21Z</dcterms:created>
  <dc:creator>Fearghal Kelly</dc:creator>
  <dc:description/>
  <dc:language>en-US</dc:language>
  <cp:lastModifiedBy>LEGION2</cp:lastModifiedBy>
  <dcterms:modified xsi:type="dcterms:W3CDTF">2016-01-13T09:00:03Z</dcterms:modified>
  <cp:revision>14</cp:revision>
  <dc:subject/>
  <dc:title>Light Dependent Reaction</dc:title>
</cp:coreProperties>
</file>