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C66A-4AD5-4E66-98A9-FBCCE0FAD3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Chapter 3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sectivo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ats insect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s the mighty shrew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iv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ts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the mighty 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rnivo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at mostly mea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cats, dogs, bears, raccoo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niv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t mostly m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cats, dogs, bears, racc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inniped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rine carnivor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flippers, insulating layer of blubb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the walr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nip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carniv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flippers, insulating layer of blub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the wal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ima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nkey, huma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advanc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ey, 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tiodactyl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e called ungulates with even # of to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a rumen and chew c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s pigs, giraffes, sheep, cattl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odacty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ungulates with even # of t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rumen and chew c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pigs, giraffes, sheep, c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erissocactyl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Ungulates with an odd # of to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horse, zebras, rhin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ssocacty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gulates with an odd # of t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horse, zebras, rh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etace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ve in wat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olphins, porpoises, whal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a plow hole used to brea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tac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 in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phins, porpoises, wh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low hole used to br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agomorph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abbits and hai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eeth grow all the tim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omorp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bits and h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eth grow all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iren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rrel-shaped bod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natees or called the sea cow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re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el-shaped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tees or called the sea c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oboscide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lephants the largest on lan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osc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phants the largest on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ive key characteristic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ome hai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verse &amp; specialized tee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ndothermi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ry Gland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key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se &amp; specialized te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ry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ls have diverse, specialized tee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la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iso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mola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nin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ls have diverse, specialized te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is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m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ry glands are used for milk produc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eaning is done when baby animal can feed on their ow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ry glands are used for milk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ning is done when baby animal can feed on their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2 Today’s 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notrem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primitiv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Order of Monotremat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ree living speci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typ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wo species of Echidn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 Today’s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tre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m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Monotre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ving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p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pecies of Echi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rsupi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wombats, kangaroos, wallaroos, koalas, and opossum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e born days or weeks after fertilization and fully develop in a pouc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up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wombats, kangaroos, wallaroos, koalas, and oposs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rn days or weeks after fertilization and fully develop in a pou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l 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 - allows diffusion of nutrients and oxygen into the fet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Gestation Period - time when fetus is developin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l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 - allows diffusion of nutrients and oxygen into the fe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Period - time when fetus is develo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oday’s Placen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odent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40% of placen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eeth grow continually and are used for gnawin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ice, rat, squirre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Placen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e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% of placen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eth grow continually and are used for gn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, rat, squi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iropte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ts the only mammal capable of fligh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ropt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s the only mammal capable of f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369A-29CD-4A4C-B0BC-A0118803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292A-9C2E-44DC-809B-FCD68858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F39B-3A61-4B12-BB94-B5E18C88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DAE7-E46C-443B-B907-928141B4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39E2-4F3F-4DBF-86C1-DE5C7529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A31A-26A5-4C22-83E5-2DB4CFE2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95EB-FE35-4483-9891-4294888B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9255-65C9-4DBA-91D3-488C923B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87AE-A279-45B2-A69E-AE8EA679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A3F4-C048-4046-B3DB-96FFD046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E6F1-C7BB-4A98-B083-55623E26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55FF-3E53-48F2-B93B-C930BC32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F42D-949A-4FC9-B176-02F3156D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5238-F76E-4ABC-AD30-8639C723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9434-59E9-43F6-B2D4-6D9192AA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D271-8012-4A8B-A94F-C0E1CD95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02FB-7F0F-40FF-8148-F5344F97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DF1C-EA36-4684-8D59-804011E1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A067-DCA7-46CD-BBFC-8269F463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635D-5F37-4B4A-A80B-73F9A8F2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6D60-E953-438F-954D-87F87134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A735-7019-4CD9-9E21-D7672F1C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7065-8CF8-4BA9-ADD9-618BBD80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530-A33F-45BA-AC78-2DE701CC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D4CA-B763-455D-B903-EAA8704DD0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95A4-D4E7-4D08-95AC-18F7DE3A3799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Mammals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pter 3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sectivor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ts ins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s the mighty shre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rnivo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t mostly me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 cats, dogs, bears, racco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inniped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rine carnivo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ve flippers, insulating layer of blubb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 the walr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ima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nkey, hum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st advanc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tiodactyl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e called ungulates with even # of to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a rumen and chew cu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s pigs, giraffes, sheep, cat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6" descr=""/>
          <p:cNvPicPr/>
          <p:nvPr/>
        </p:nvPicPr>
        <p:blipFill>
          <a:blip r:embed="rId1"/>
          <a:stretch/>
        </p:blipFill>
        <p:spPr>
          <a:xfrm>
            <a:off x="5083200" y="1598760"/>
            <a:ext cx="3164040" cy="449712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issocactyl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gulates with an odd # of to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 horse, zebras, rhin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1" name="Picture 10" descr=""/>
          <p:cNvPicPr/>
          <p:nvPr/>
        </p:nvPicPr>
        <p:blipFill>
          <a:blip r:embed="rId1"/>
          <a:stretch/>
        </p:blipFill>
        <p:spPr>
          <a:xfrm>
            <a:off x="4649760" y="2422440"/>
            <a:ext cx="4032360" cy="28479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etace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ve in wa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lphins, porpoises, wha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a plow hole used to brea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4649760" y="1785960"/>
            <a:ext cx="4032360" cy="412128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gomorph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abbits and hai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eth grow all the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1"/>
          <a:stretch/>
        </p:blipFill>
        <p:spPr>
          <a:xfrm>
            <a:off x="4649760" y="1857240"/>
            <a:ext cx="4032360" cy="39783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ren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rrel-shaped bod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natees or called the sea c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boscide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lephants the largest on 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1"/>
          <a:stretch/>
        </p:blipFill>
        <p:spPr>
          <a:xfrm>
            <a:off x="4649760" y="2138400"/>
            <a:ext cx="4032360" cy="341784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ive key characteristic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me hai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verse &amp; specialized tee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ndotherm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ry Gland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lacen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13" descr=""/>
          <p:cNvPicPr/>
          <p:nvPr/>
        </p:nvPicPr>
        <p:blipFill>
          <a:blip r:embed="rId1"/>
          <a:stretch/>
        </p:blipFill>
        <p:spPr>
          <a:xfrm>
            <a:off x="5083200" y="1598760"/>
            <a:ext cx="3164040" cy="449712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ls have diverse, specialized tee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la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is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mola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n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6058080" y="1598760"/>
            <a:ext cx="1215720" cy="44971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ry glands are used for milk produ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eaning is done when baby animal can feed on their ow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4649760" y="2422440"/>
            <a:ext cx="4032360" cy="284796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2 Today’s Mamm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notrem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st primiti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rder of Monotrema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ree living spec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latyp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wo species of Echid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Marsupi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 wombats, kangaroos, wallaroos, koalas, and opossu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re born days or weeks after fertilization and fully develop in a pou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lacental Mamm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lacenta - allows diffusion of nutrients and oxygen into the fet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station Period - time when fetus is develop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oday’s Placent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odent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0% of placent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eth grow continually and are used for gnaw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ce, rat, squirr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iropte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ts the only mammal capable of fligh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2T14:19:04Z</dcterms:created>
  <dc:creator>bps bps</dc:creator>
  <dc:description/>
  <dc:language>en-US</dc:language>
  <cp:lastModifiedBy>LEGION2</cp:lastModifiedBy>
  <dcterms:modified xsi:type="dcterms:W3CDTF">2016-01-13T09:17:27Z</dcterms:modified>
  <cp:revision>8</cp:revision>
  <dc:subject/>
  <dc:title>Mammals</dc:title>
</cp:coreProperties>
</file>