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4CD2-F739-478E-942F-E4F5EA125B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Chapter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3B7-EB24-41C8-9728-79E6DD19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3EF-9324-4377-ACE0-2273927B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65F-C72B-443A-B1E5-FBC9CDAF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1FE-DADC-483C-A8CD-4429AC06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1E1F-F8ED-4D59-95AB-015F1EFE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11A0-2E1E-4F1F-BBEA-AA1D60DC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3E3E-F422-418D-90A8-6298C8FD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EB68-03D3-4603-81B4-E5558FC7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2D93-E3F3-4B14-B945-7FBF3B2F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9879-38CC-436A-9B3E-EE6B6FFA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FD6A-CD7C-4859-80E4-01094FA1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244-2470-405E-A09E-1131EB01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9827-1729-4155-BE57-7550938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30C9-04E3-4431-BEE3-E3337B46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336A-A3CC-4AA8-99DF-5A596B5F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7FC2-F2FC-4B7F-B29A-2C4A41B8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02BD-7238-446C-A5E9-9E93FE48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D0C-2D62-4C3A-8DAC-6036481D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2B4-5E54-4666-8BE2-C886EE2E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E48-B188-4E1D-A714-4A4587F8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37B-2D37-435F-8FAF-E79E3736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B84-4FAA-4245-A3E5-7F2067D4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051-5909-49EA-98EC-81B74FA7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290-5452-42A7-B7BB-336BFD69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6631-3C40-4B35-ADE9-E8D51FB925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6E1F-DEAD-4B8F-957B-EDD18524792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ectivo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ts ins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the mighty shr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rnivo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t mostly 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cats, dogs, bears, racco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innip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ine carniv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flippers, insulating layer of blub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the wal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ey, hu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advan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od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called ungulates with even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rumen and chew c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s pigs, giraffes, sheep, ca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issoc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gulates with an odd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horse, zebras, rh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tac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in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phins, porpoises, wha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plow hole used to bre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4649760" y="1785960"/>
            <a:ext cx="4032360" cy="41212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gomorph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bbits and h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all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4649760" y="1857240"/>
            <a:ext cx="4032360" cy="3978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r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rel-shaped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tees or called the sea c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boscid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ephants the largest on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4649760" y="2138400"/>
            <a:ext cx="4032360" cy="34178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ve key characteris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h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verse &amp;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dother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ls have diverse,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i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058080" y="1598760"/>
            <a:ext cx="1215720" cy="44971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 are used for milk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aning is done when baby animal can feed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2 Today’s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otre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i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der of Monotrem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ee living spe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y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species of Echid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arsupi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wombats, kangaroos, wallaroos, koalas, and opossu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born days or weeks after fertilization and fully develop in a pou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lacental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centa - allows diffusion of nutrients and oxygen into the fet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station Period - time when fetus is develop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oday’s Placent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dent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% of placent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continually and are used for gn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ce, rat, squirr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ropt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ts the only mammal capable of fl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4:19:04Z</dcterms:created>
  <dc:creator>bps bps</dc:creator>
  <dc:description/>
  <dc:language>en-US</dc:language>
  <cp:lastModifiedBy>LEGION2</cp:lastModifiedBy>
  <dcterms:modified xsi:type="dcterms:W3CDTF">2016-01-13T09:17:27Z</dcterms:modified>
  <cp:revision>8</cp:revision>
  <dc:subject/>
  <dc:title>Mammals</dc:title>
</cp:coreProperties>
</file>