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888B-2A60-479F-B395-4FC407D6F1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Chapter 3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s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the mighty 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niv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t mostly m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cats, dogs, bears, racc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nip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carniv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flippers, insulating layer of bl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the wal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ey, 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od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ungulates with even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rumen and chew c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pigs, giraffes, sheep, c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ssocacty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gulates with an odd # of t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horse, zebras, r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ac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phins, porpoises, wh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low hole used to br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omor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 and h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all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r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el-shap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tees or called the sea c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osc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s the largest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key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e &amp;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ls have diverse, specialized te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mmary glands are used for milk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ning is done when baby animal can feed on their 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2 Today’s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r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Monotre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vi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y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pecies of Echi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up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wombats, kangaroos, wallaroos, koalas, and opossu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rn days or weeks after fertilization and fully develop in a po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l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nta - allows diffusion of nutrients and oxygen into the fe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Period - time when fetus is devel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ent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% of placen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th grow continually and are used for gna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, rat, squi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opt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s the only mammal capable of f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37A-91D7-4998-B4CE-A6129A37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F87-0FA9-4F8F-A7F7-A964805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BFC-FD97-43D5-8B8C-8C314ADC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395-0E8A-4BEA-9087-47360737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6E48-5F56-49D4-9385-94C924E4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EBBF-8FD7-4035-9E20-6F399DF3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8F14-EDEA-41BA-B21C-C9CB9BA2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72A0-A657-445B-AFAD-82BC4730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E8B7-DAC1-45BC-B872-BD1AE699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68F9-8396-424B-BA61-4C4376DA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9DCD-AACC-426F-A5E5-3604ADDB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2AB-F537-456B-9B17-7217B72E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247B-EB3A-403D-8A0B-A0755BAA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A5F9-DF68-4756-83EC-6BC77C2B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6432-FB8D-4CDD-9720-00D3C3B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FE04-3BE8-40D2-9105-933603BA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CE49-C1B7-4BE9-9626-DC11FCDA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568-9341-4857-8CD8-B67A9CE8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A42-D644-45AF-9BFE-BAE5119A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0D9-BD23-43FB-BD10-8F433C22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949-FFB6-4FC7-9B40-D1000A79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5FC-FEC7-4AEB-A62F-9ACFCAE2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70D-6A0B-4425-BFF3-5B62296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19B-B7E3-41A7-ABD4-8051CCEA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8EB5-1F62-46A5-B169-CAC23D8D73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4547a"/>
                    </a:gs>
                    <a:gs pos="100000">
                      <a:srgbClr val="4c4c6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c4c6f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b"/>
                  </a:gs>
                  <a:gs pos="100000">
                    <a:srgbClr val="54547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05E6-BEF9-426A-9F22-FD306432C12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Mammals</a:t>
            </a:r>
            <a:endParaRPr b="1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pter 3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ectivor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ats ins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the mighty shr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rnivo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t mostly mea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cats, dogs, bears, racco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innip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ine carniv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ve flippers, insulating layer of blubb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the walr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nkey, hum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advanc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tiod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e called ungulates with even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rumen and chew c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s pigs, giraffes, sheep, ca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erissocactyl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ngulates with an odd # of to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lude horse, zebras, rh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10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etac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ve in wa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lphins, porpoises, wha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ve a plow hole used to brea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4649760" y="1785960"/>
            <a:ext cx="4032360" cy="412128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gomorph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bbits and h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all the t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4649760" y="1857240"/>
            <a:ext cx="4032360" cy="3978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ren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rrel-shaped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tees or called the sea co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boscid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lephants the largest on 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6" name="Picture 6" descr=""/>
          <p:cNvPicPr/>
          <p:nvPr/>
        </p:nvPicPr>
        <p:blipFill>
          <a:blip r:embed="rId1"/>
          <a:stretch/>
        </p:blipFill>
        <p:spPr>
          <a:xfrm>
            <a:off x="4649760" y="2138400"/>
            <a:ext cx="4032360" cy="341784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ve key characteristic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hai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se &amp;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dotherm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cen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5083200" y="1598760"/>
            <a:ext cx="3164040" cy="449712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ls have diverse, specialized tee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is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mo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6058080" y="1598760"/>
            <a:ext cx="1215720" cy="44971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1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mmary glands are used for milk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aning is done when baby animal can feed on their 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4649760" y="24224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ection 2 Today’s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otrem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primi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rder of Monotrema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ree living spec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latyp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species of Echid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Marsupi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 wombats, kangaroos, wallaroos, koalas, and opossu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born days or weeks after fertilization and fully develop in a pou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lacental Mamm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centa - allows diffusion of nutrients and oxygen into the fet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station Period - time when fetus is develop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oday’s Placentals</a:t>
            </a:r>
            <a:endParaRPr b="1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dent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0% of placent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eth grow continually and are used for gn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ce, rat, squirr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iropter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ts the only mammal capable of fl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4649760" y="1765440"/>
            <a:ext cx="4032360" cy="41637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4:19:04Z</dcterms:created>
  <dc:creator>bps bps</dc:creator>
  <dc:description/>
  <dc:language>en-US</dc:language>
  <cp:lastModifiedBy>LEGION2</cp:lastModifiedBy>
  <dcterms:modified xsi:type="dcterms:W3CDTF">2016-01-13T09:17:27Z</dcterms:modified>
  <cp:revision>8</cp:revision>
  <dc:subject/>
  <dc:title>Mammals</dc:title>
</cp:coreProperties>
</file>