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500FC-172D-48A6-B3D0-EB7D29D23E6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Mamma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Chapter 36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sectivor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Eats insect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cludes the mighty shrew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ctiv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ts ins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s the mighty shr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arnivor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Eat mostly mea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clude cats, dogs, bears, raccoon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niv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t mostly m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 cats, dogs, bears, racco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innipedi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arine carnivor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ave flippers, insulating layer of blubber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clude the walru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nnip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ine carniv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flippers, insulating layer of blub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 the wal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rima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onkey, huma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ost advance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ey, hu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dv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rtiodactyl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re called ungulates with even # of to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ave a rumen and chew cu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cludes pigs, giraffes, sheep, cattl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odacty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called ungulates with even # of t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rumen and chew c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s pigs, giraffes, sheep, cat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erissocactyl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Ungulates with an odd # of to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clude horse, zebras, rhino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ssocacty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gulates with an odd # of t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 horse, zebras, rh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etace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Live in water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Dolphins, porpoises, whal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ave a plow hole used to breath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tac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 in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lphins, porpoises, wh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plow hole used to bre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Lagomorph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Rabbits and hair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eeth grow all the tim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gomorp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bbits and h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eth grow all the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ireni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arrel-shaped body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anatees or called the sea cow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re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rel-shaped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tees or called the sea c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roboscide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Elephants the largest on lan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oscid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phants the largest on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ection 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Five key characteristic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ome hair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Diverse &amp; specialized teeth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Endothermic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ammary Gland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lacent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key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h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erse &amp; specialized tee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therm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mmary G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ce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ection 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ammals have diverse, specialized teeth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olar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cisor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remolar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anin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mmals have diverse, specialized tee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is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mol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ection 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ammary glands are used for milk productio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eaning is done when baby animal can feed on their ow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mmary glands are used for milk 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ning is done when baby animal can feed on their 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ection 2 Today’s Mamma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onotrem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ost primitiv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Order of Monotremat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ree living speci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latypu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wo species of Echidn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tion 2 Today’s Mam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tre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rim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 of Monotre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living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yp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species of Echi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arsupia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clude wombats, kangaroos, wallaroos, koalas, and opossum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re born days or weeks after fertilization and fully develop in a pouch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up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 wombats, kangaroos, wallaroos, koalas, and opossu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born days or weeks after fertilization and fully develop in a pou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lacental Mamma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lacenta - allows diffusion of nutrients and oxygen into the fetu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Gestation Period - time when fetus is developing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cental Mam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centa - allows diffusion of nutrients and oxygen into the fe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ation Period - time when fetus is develo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oday’s Placenta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Rodenti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40% of placenta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eeth grow continually and are used for gnawing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ice, rat, squirre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Placen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dent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% of placen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eth grow continually and are used for gnaw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e, rat, squirr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iropter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ats the only mammal capable of fligh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ropt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ts the only mammal capable of f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971D-B455-48C1-8503-AD84ABDB9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100A-4D82-4625-AE99-CA54C1306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F909-3003-40FD-A94C-3878C95FA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6675-2F41-43E2-8A8D-B5E9AF589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7CD6A-7A01-4EDA-AB7A-5AE76DB56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8734E-C517-4043-A461-B34B3041A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47EA9-4449-49EA-8861-F7D03421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6192D-D6BA-4EF1-B38F-2CC51FAE4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67DAB-2056-42E0-83A2-077404DA8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96159-C04C-4094-A5C7-AFF3F1663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F5A00-189A-4E1D-843F-25FF0D46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2A96-337B-433D-8930-9DF5B0B24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10389-DB26-4783-AB71-661AC4E1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9F13E-AF11-4C47-8FDA-39CD269E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6168B-4EE4-4866-85B5-0909BFC73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48FB8-42C2-4774-BD6D-A745E7222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5CAA1-1BBE-4772-BBC4-4EC4042C6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9D43-AF47-493D-B325-FB1FD5E34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B8BA-F5B7-4631-8BDB-4F7FA7A38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CC22-A482-43F6-A406-6FC7DE40F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78FB-BEAC-49C2-ADD1-C00C9FE3C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6C02-DC85-4045-B523-5153D682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9DB3-FFCE-4101-BDAD-F87264F7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1192-65CB-44F1-9298-D9216320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47a"/>
                    </a:gs>
                    <a:gs pos="100000">
                      <a:srgbClr val="4c4c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47a"/>
                    </a:gs>
                    <a:gs pos="100000">
                      <a:srgbClr val="4c4c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6f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6f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6C303-D928-4C18-A87D-3797ED3EA3C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47a"/>
                    </a:gs>
                    <a:gs pos="100000">
                      <a:srgbClr val="4c4c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47a"/>
                    </a:gs>
                    <a:gs pos="100000">
                      <a:srgbClr val="4c4c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6f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6f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1CAFA-0D92-4354-B5E2-6E9C7D13F6E1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Mammals</a:t>
            </a:r>
            <a:endParaRPr b="1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hapter 36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sectivor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ats ins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cludes the mighty shrew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arnivor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at mostly mea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clude cats, dogs, bears, racco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7" name="Picture 6" descr=""/>
          <p:cNvPicPr/>
          <p:nvPr/>
        </p:nvPicPr>
        <p:blipFill>
          <a:blip r:embed="rId1"/>
          <a:stretch/>
        </p:blipFill>
        <p:spPr>
          <a:xfrm>
            <a:off x="4649760" y="1765440"/>
            <a:ext cx="4032360" cy="416376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innipedi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rine carnivor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ave flippers, insulating layer of blubb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clude the walr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imat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nkey, huma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st advanc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rtiodactyl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re called ungulates with even # of to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ve a rumen and chew cu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cludes pigs, giraffes, sheep, cat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7" name="Picture 6" descr=""/>
          <p:cNvPicPr/>
          <p:nvPr/>
        </p:nvPicPr>
        <p:blipFill>
          <a:blip r:embed="rId1"/>
          <a:stretch/>
        </p:blipFill>
        <p:spPr>
          <a:xfrm>
            <a:off x="5083200" y="1598760"/>
            <a:ext cx="3164040" cy="4497120"/>
          </a:xfrm>
          <a:prstGeom prst="rect">
            <a:avLst/>
          </a:prstGeom>
          <a:ln w="0">
            <a:noFill/>
          </a:ln>
        </p:spPr>
      </p:pic>
      <p:sp>
        <p:nvSpPr>
          <p:cNvPr id="268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erissocactyl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ngulates with an odd # of to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clude horse, zebras, rhin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1" name="Picture 10" descr=""/>
          <p:cNvPicPr/>
          <p:nvPr/>
        </p:nvPicPr>
        <p:blipFill>
          <a:blip r:embed="rId1"/>
          <a:stretch/>
        </p:blipFill>
        <p:spPr>
          <a:xfrm>
            <a:off x="4649760" y="2422440"/>
            <a:ext cx="4032360" cy="2847960"/>
          </a:xfrm>
          <a:prstGeom prst="rect">
            <a:avLst/>
          </a:prstGeom>
          <a:ln w="0">
            <a:noFill/>
          </a:ln>
        </p:spPr>
      </p:pic>
      <p:sp>
        <p:nvSpPr>
          <p:cNvPr id="272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etace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ive in wa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olphins, porpoises, wha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ve a plow hole used to breat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5" name="Picture 6" descr=""/>
          <p:cNvPicPr/>
          <p:nvPr/>
        </p:nvPicPr>
        <p:blipFill>
          <a:blip r:embed="rId1"/>
          <a:stretch/>
        </p:blipFill>
        <p:spPr>
          <a:xfrm>
            <a:off x="4649760" y="1785960"/>
            <a:ext cx="4032360" cy="4121280"/>
          </a:xfrm>
          <a:prstGeom prst="rect">
            <a:avLst/>
          </a:prstGeom>
          <a:ln w="0">
            <a:noFill/>
          </a:ln>
        </p:spPr>
      </p:pic>
      <p:sp>
        <p:nvSpPr>
          <p:cNvPr id="276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agomorph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abbits and hai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eth grow all the ti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9" name="Picture 6" descr=""/>
          <p:cNvPicPr/>
          <p:nvPr/>
        </p:nvPicPr>
        <p:blipFill>
          <a:blip r:embed="rId1"/>
          <a:stretch/>
        </p:blipFill>
        <p:spPr>
          <a:xfrm>
            <a:off x="4649760" y="1857240"/>
            <a:ext cx="4032360" cy="3978360"/>
          </a:xfrm>
          <a:prstGeom prst="rect">
            <a:avLst/>
          </a:prstGeom>
          <a:ln w="0">
            <a:noFill/>
          </a:ln>
        </p:spPr>
      </p:pic>
      <p:sp>
        <p:nvSpPr>
          <p:cNvPr id="280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reni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arrel-shaped bod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natees or called the sea cow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boscide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lephants the largest on 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6" name="Picture 6" descr=""/>
          <p:cNvPicPr/>
          <p:nvPr/>
        </p:nvPicPr>
        <p:blipFill>
          <a:blip r:embed="rId1"/>
          <a:stretch/>
        </p:blipFill>
        <p:spPr>
          <a:xfrm>
            <a:off x="4649760" y="2138400"/>
            <a:ext cx="4032360" cy="3417840"/>
          </a:xfrm>
          <a:prstGeom prst="rect">
            <a:avLst/>
          </a:prstGeom>
          <a:ln w="0">
            <a:noFill/>
          </a:ln>
        </p:spPr>
      </p:pic>
      <p:sp>
        <p:nvSpPr>
          <p:cNvPr id="28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ection 1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ive key characteristic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ome hai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verse &amp; specialized teet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ndothermic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mmary Gland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lacent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4" name="Picture 13" descr=""/>
          <p:cNvPicPr/>
          <p:nvPr/>
        </p:nvPicPr>
        <p:blipFill>
          <a:blip r:embed="rId1"/>
          <a:stretch/>
        </p:blipFill>
        <p:spPr>
          <a:xfrm>
            <a:off x="5083200" y="1598760"/>
            <a:ext cx="3164040" cy="449712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ection 1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mmals have diverse, specialized teet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la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cis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emola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an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8" name="Picture 6" descr=""/>
          <p:cNvPicPr/>
          <p:nvPr/>
        </p:nvPicPr>
        <p:blipFill>
          <a:blip r:embed="rId1"/>
          <a:stretch/>
        </p:blipFill>
        <p:spPr>
          <a:xfrm>
            <a:off x="6058080" y="1598760"/>
            <a:ext cx="1215720" cy="449712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ection 1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mmary glands are used for milk produc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eaning is done when baby animal can feed on their ow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2" name="Picture 6" descr=""/>
          <p:cNvPicPr/>
          <p:nvPr/>
        </p:nvPicPr>
        <p:blipFill>
          <a:blip r:embed="rId1"/>
          <a:stretch/>
        </p:blipFill>
        <p:spPr>
          <a:xfrm>
            <a:off x="4649760" y="2422440"/>
            <a:ext cx="4032360" cy="284796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ection 2 Today’s Mammals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notrem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st primitiv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rder of Monotremat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ree living speci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latyp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wo species of Echidn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6" name="Picture 6" descr=""/>
          <p:cNvPicPr/>
          <p:nvPr/>
        </p:nvPicPr>
        <p:blipFill>
          <a:blip r:embed="rId1"/>
          <a:stretch/>
        </p:blipFill>
        <p:spPr>
          <a:xfrm>
            <a:off x="4649760" y="1765440"/>
            <a:ext cx="4032360" cy="4163760"/>
          </a:xfrm>
          <a:prstGeom prst="rect">
            <a:avLst/>
          </a:prstGeom>
          <a:ln w="0">
            <a:noFill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Marsupials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clude wombats, kangaroos, wallaroos, koalas, and opossu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re born days or weeks after fertilization and fully develop in a pouc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Placental Mammals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lacenta - allows diffusion of nutrients and oxygen into the fet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station Period - time when fetus is develop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Today’s Placentals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odent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0% of placental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eth grow continually and are used for gnaw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ice, rat, squirr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6" name="Picture 6" descr=""/>
          <p:cNvPicPr/>
          <p:nvPr/>
        </p:nvPicPr>
        <p:blipFill>
          <a:blip r:embed="rId1"/>
          <a:stretch/>
        </p:blipFill>
        <p:spPr>
          <a:xfrm>
            <a:off x="4649760" y="1765440"/>
            <a:ext cx="4032360" cy="4163760"/>
          </a:xfrm>
          <a:prstGeom prst="rect">
            <a:avLst/>
          </a:prstGeom>
          <a:ln w="0">
            <a:noFill/>
          </a:ln>
        </p:spPr>
      </p:pic>
      <p:sp>
        <p:nvSpPr>
          <p:cNvPr id="24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iropter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ts the only mammal capable of fligh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0" name="Picture 6" descr=""/>
          <p:cNvPicPr/>
          <p:nvPr/>
        </p:nvPicPr>
        <p:blipFill>
          <a:blip r:embed="rId1"/>
          <a:stretch/>
        </p:blipFill>
        <p:spPr>
          <a:xfrm>
            <a:off x="4649760" y="1765440"/>
            <a:ext cx="4032360" cy="4163760"/>
          </a:xfrm>
          <a:prstGeom prst="rect">
            <a:avLst/>
          </a:prstGeom>
          <a:ln w="0">
            <a:noFill/>
          </a:ln>
        </p:spPr>
      </p:pic>
      <p:sp>
        <p:nvSpPr>
          <p:cNvPr id="25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2T14:19:04Z</dcterms:created>
  <dc:creator>bps bps</dc:creator>
  <dc:description/>
  <dc:language>en-US</dc:language>
  <cp:lastModifiedBy>LEGION2</cp:lastModifiedBy>
  <dcterms:modified xsi:type="dcterms:W3CDTF">2016-01-13T09:17:27Z</dcterms:modified>
  <cp:revision>8</cp:revision>
  <dc:subject/>
  <dc:title>Mammals</dc:title>
</cp:coreProperties>
</file>