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B030-C33F-45C6-998E-25F6390F3A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Chapter 3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3AF-9087-48A9-8C0A-5FB2488D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718-0C9F-4569-A4AC-2935052D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AF5-D0AE-4859-977D-75CA7097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B70-5E58-4EBB-8F01-BF1CC31D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CF95-5A76-43C5-89DF-6BEF68E6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24AF-14CB-48D7-B7FE-D97F1524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B617-7A56-4863-8B8B-1FEB8519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06CD-9A2E-4776-974B-8AAF83A4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C3CC-070A-4D8E-9899-C1F3951B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303B-B1A6-4637-AF29-698EC037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A034-743D-48FC-AD86-A164B357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A23-E55B-40D3-8BBB-0CC0118A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7276-19AD-447A-A03C-E1BA7602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7960-9787-49E2-8856-5A4F5538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547A-236D-4F29-9281-D8D3A9A6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7579-3455-421F-BFD7-5778F8FD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330D-E0DF-4378-95EE-07376FCD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421-E93F-45F6-96D3-944CFBBA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75B-D41D-4A59-A77B-D58065CE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AF7-90AF-4FA9-9084-392974E4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ACD-1983-4855-BA27-609AD194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FCE-4348-46BB-B5C7-A125397B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DE0-B70C-4E41-87EA-59C0C26F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39A-71F2-42FB-8E6A-721EE1F9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196A-C4CB-48BE-BB7E-9F0C5C509B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2796-4269-4A94-ADEB-81CC2936A93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 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sectivo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ts ins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the mighty shr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rnivo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t mostly me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cats, dogs, bears, racco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innip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ine carniv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flippers, insulating layer of blub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the walr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key, hu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advan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od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e called ungulates with even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rumen and chew c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s pigs, giraffes, sheep, ca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issoc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gulates with an odd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horse, zebras, rh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10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tac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 in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phins, porpoises, wha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plow hole used to brea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4649760" y="1785960"/>
            <a:ext cx="4032360" cy="41212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gomorph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bbits and h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all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4649760" y="1857240"/>
            <a:ext cx="4032360" cy="3978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r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rel-shaped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tees or called the sea c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boscid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ephants the largest on 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4649760" y="2138400"/>
            <a:ext cx="4032360" cy="34178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ve key characteristic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 hai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verse &amp;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dother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ls have diverse,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is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6058080" y="1598760"/>
            <a:ext cx="1215720" cy="44971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 are used for milk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aning is done when baby animal can feed on their 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2 Today’s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otre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rimi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der of Monotrem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ree living spe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y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species of Echid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arsupi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wombats, kangaroos, wallaroos, koalas, and opossu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e born days or weeks after fertilization and fully develop in a pou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lacental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centa - allows diffusion of nutrients and oxygen into the fet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station Period - time when fetus is develop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oday’s Placent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dent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0% of placent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continually and are used for gn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ce, rat, squirr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ropte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ts the only mammal capable of fl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4:19:04Z</dcterms:created>
  <dc:creator>bps bps</dc:creator>
  <dc:description/>
  <dc:language>en-US</dc:language>
  <cp:lastModifiedBy>LEGION2</cp:lastModifiedBy>
  <dcterms:modified xsi:type="dcterms:W3CDTF">2016-01-13T09:17:27Z</dcterms:modified>
  <cp:revision>8</cp:revision>
  <dc:subject/>
  <dc:title>Mammals</dc:title>
</cp:coreProperties>
</file>