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B879-BED4-414C-8A17-3C3C939C1D00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BI 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membrane is called the thylak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granum (grana singul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oma is the space surrounding the gra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 http://www.daviddarling.info/encyclopedia/C/chloroplas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membrane is called the thylak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granum (grana singul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oma is the space surrounding the gra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 http://www.daviddarling.info/encyclopedia/C/chloroplas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 Biology 11:  College Preparation.  Pg 73. 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from Biology 11:  College Preparation.  Pg 73. 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generated by sunlight drives the Calvin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generated by sunlight drives the Calvin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arbon dioxide + water  glucose + oxygen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6CO2  +  6H2O    C6H12O6  +  6O2  + 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+ water  glucose + oxygen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CO2  +  6H2O    C6H12O6  +  6O2  + 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4FE-C7CB-4543-87AC-8EC4350D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DAC2-6B2A-47CA-8860-E4850EB3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689-FEB4-4478-8D60-54B4028C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16E-57D7-4DE4-9EF6-5087EBD9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9192-0DE1-4743-B1EE-F5D42AA6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0BB3-9E8C-4676-A0B4-CE820E52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E309-0DFA-4C18-94D9-27C03F1A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1D93-02C0-4082-8A2F-AA9F9A8F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C36E-5C14-4AE8-B007-AC4111B8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667A-3281-4E7B-9340-AFC07133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3394-27F1-48DE-9622-BFF1F840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880-DEA6-4615-B0BA-8253C814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DEF3-7B8C-4683-ADAB-5A9F60FC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C75B-DA89-4925-835D-36DF9FBC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FD5A-4F8E-492A-97B8-16978878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98B2-7326-43EF-9309-0EEA79EC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C37B-ADA8-4086-8B4B-A5DEDABE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F24-1F08-470B-BC3A-B5010DB4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093-787C-44F6-A1ED-90941D03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C2F-BE20-4163-81BA-71965EBD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168-619E-4BE8-8EDE-18FF086E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EE5-FFE7-4478-9AC5-28089FCF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0F20-664F-4582-B060-4A323513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3ED-954A-480A-945D-FFC021EC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1669-840A-4799-9CF9-B9129799E8FB}" type="datetime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07CA-50AE-4E21-9709-FAB1A59D991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4" descr="leaf_title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4F7C-B3B0-4B26-8999-D7A335835E15}" type="datetime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26-07-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BEC2-2238-4ECD-920D-4808AF72A75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I 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light-indy-dep-all"/>
          <p:cNvPicPr/>
          <p:nvPr/>
        </p:nvPicPr>
        <p:blipFill>
          <a:blip r:embed="rId1"/>
          <a:stretch/>
        </p:blipFill>
        <p:spPr>
          <a:xfrm>
            <a:off x="2133720" y="0"/>
            <a:ext cx="54910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61356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27" descr="photo-overview"/>
          <p:cNvPicPr/>
          <p:nvPr/>
        </p:nvPicPr>
        <p:blipFill>
          <a:blip r:embed="rId1"/>
          <a:stretch/>
        </p:blipFill>
        <p:spPr>
          <a:xfrm>
            <a:off x="838080" y="1143000"/>
            <a:ext cx="7162920" cy="56149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ner membran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ylak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num (gra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ula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o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surrounding the gra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hloroplast 2"/>
          <p:cNvPicPr/>
          <p:nvPr/>
        </p:nvPicPr>
        <p:blipFill>
          <a:blip r:embed="rId1"/>
          <a:stretch/>
        </p:blipFill>
        <p:spPr>
          <a:xfrm>
            <a:off x="4648320" y="1752480"/>
            <a:ext cx="4051080" cy="4648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2120" y="63244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source: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ttp://www.daviddarling.info/encyclopedia/C/chloroplast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thylakoid"/>
          <p:cNvPicPr/>
          <p:nvPr/>
        </p:nvPicPr>
        <p:blipFill>
          <a:blip r:embed="rId1"/>
          <a:stretch/>
        </p:blipFill>
        <p:spPr>
          <a:xfrm>
            <a:off x="4495680" y="220968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4648320" y="5715000"/>
            <a:ext cx="396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Pg 73. 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light rxn"/>
          <p:cNvPicPr/>
          <p:nvPr/>
        </p:nvPicPr>
        <p:blipFill>
          <a:blip r:embed="rId1"/>
          <a:stretch/>
        </p:blipFill>
        <p:spPr>
          <a:xfrm>
            <a:off x="152280" y="1828800"/>
            <a:ext cx="5181840" cy="4205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30492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860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 generated by sunlight drive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vin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alvin"/>
          <p:cNvPicPr/>
          <p:nvPr/>
        </p:nvPicPr>
        <p:blipFill>
          <a:blip r:embed="rId1"/>
          <a:stretch/>
        </p:blipFill>
        <p:spPr>
          <a:xfrm>
            <a:off x="-457200" y="1981080"/>
            <a:ext cx="5943600" cy="4111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0492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523880" y="2209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41972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762120" y="3657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dioxide + wa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lucose + oxygen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4197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371600" y="5029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447920" y="5105520"/>
            <a:ext cx="716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6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6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17:25:57Z</dcterms:created>
  <dc:creator>Sonia Coleman</dc:creator>
  <dc:description/>
  <cp:keywords>photosynthesis</cp:keywords>
  <dc:language>en-US</dc:language>
  <cp:lastModifiedBy>LEGION2</cp:lastModifiedBy>
  <dcterms:modified xsi:type="dcterms:W3CDTF">2016-01-13T09:25:25Z</dcterms:modified>
  <cp:revision>10</cp:revision>
  <dc:subject/>
  <dc:title>Photosynthesis</dc:title>
</cp:coreProperties>
</file>