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A59C-21EE-4E00-9BB0-51CCF9D9E6F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BI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membrane is called the thylak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granum (grana singul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oma is the space surrounding the gra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 http://www.daviddarling.info/encyclopedia/C/chloropla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membrane is called the thylak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granum (grana singul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oma is the space surrounding the gra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 http://www.daviddarling.info/encyclopedia/C/chloropla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 Biology 11:  College Preparation.  Pg 73. 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from Biology 11:  College Preparation.  Pg 73. 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generated by sunlight drives the Calvin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generated by sunlight drives the Calvin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arbon dioxide + water  glucose + oxygen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6CO2  +  6H2O    C6H12O6  +  6O2  + 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+ water  glucose + oxygen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CO2  +  6H2O    C6H12O6  +  6O2  + 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23E-4C01-44D4-9B46-522184FB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458-EBB7-4DE3-A895-48C7BCDE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4AA-471B-42EB-BA50-1F83727A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77B-F20D-472E-8D22-CEBEA67E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55BC-8DB3-4C90-9E3E-EFB89A3B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EC57-C2E2-48A5-A1EB-6C23E28B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AA22-FCD3-4E27-9BAA-7F8B0672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1650-4445-42C5-8444-7AE4DDFC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730C-1C06-46DC-AC81-6AB31F11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1F7E-AE4B-4938-ABA3-D7174946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A2ED-08F8-42D3-B234-8DE91E78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629-DC13-41B6-BF54-BB93B803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2980-6ED6-42D0-9D3F-4C6819BC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EB7E-F918-4BF9-9E84-CA6612DD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1FA7-37A4-42C1-A667-829CFA36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E630-3771-486B-99E8-E95135C5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CEE8-1988-40C5-8D12-3E0F613D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A5C-8E56-471A-956A-AF458496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E11-3970-4815-A125-C06B691F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682-1028-4858-AF76-ABE13483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F08-6661-4E36-A886-DCF8C6F0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5BE-6B97-4E2F-90B6-FADBCF74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453-6796-44A8-B1E9-3AEA4C4E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A3A-D717-4FF9-A9B0-6404E593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70CA-F507-414F-8889-FF5B15241932}" type="datetime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6-07-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D75C-8457-4728-B53C-4F4B1DF3435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4" descr="leaf_title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D8D3-421D-4EDC-8DC8-C82DB1E0C8F5}" type="datetime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6-07-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F386-1805-49F8-A76C-E329D8B9883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I 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light-indy-dep-all"/>
          <p:cNvPicPr/>
          <p:nvPr/>
        </p:nvPicPr>
        <p:blipFill>
          <a:blip r:embed="rId1"/>
          <a:stretch/>
        </p:blipFill>
        <p:spPr>
          <a:xfrm>
            <a:off x="2133720" y="0"/>
            <a:ext cx="54910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61356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27" descr="photo-overview"/>
          <p:cNvPicPr/>
          <p:nvPr/>
        </p:nvPicPr>
        <p:blipFill>
          <a:blip r:embed="rId1"/>
          <a:stretch/>
        </p:blipFill>
        <p:spPr>
          <a:xfrm>
            <a:off x="838080" y="1143000"/>
            <a:ext cx="7162920" cy="56149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membran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ylak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num (gra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ul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o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surrounding the gra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hloroplast 2"/>
          <p:cNvPicPr/>
          <p:nvPr/>
        </p:nvPicPr>
        <p:blipFill>
          <a:blip r:embed="rId1"/>
          <a:stretch/>
        </p:blipFill>
        <p:spPr>
          <a:xfrm>
            <a:off x="4648320" y="1752480"/>
            <a:ext cx="4051080" cy="4648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2120" y="63244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source: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//www.daviddarling.info/encyclopedia/C/chloroplast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thylakoid"/>
          <p:cNvPicPr/>
          <p:nvPr/>
        </p:nvPicPr>
        <p:blipFill>
          <a:blip r:embed="rId1"/>
          <a:stretch/>
        </p:blipFill>
        <p:spPr>
          <a:xfrm>
            <a:off x="4495680" y="220968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4648320" y="5715000"/>
            <a:ext cx="396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Pg 73. 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light rxn"/>
          <p:cNvPicPr/>
          <p:nvPr/>
        </p:nvPicPr>
        <p:blipFill>
          <a:blip r:embed="rId1"/>
          <a:stretch/>
        </p:blipFill>
        <p:spPr>
          <a:xfrm>
            <a:off x="152280" y="1828800"/>
            <a:ext cx="5181840" cy="4205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30492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860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 generated by sunlight drive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vin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alvin"/>
          <p:cNvPicPr/>
          <p:nvPr/>
        </p:nvPicPr>
        <p:blipFill>
          <a:blip r:embed="rId1"/>
          <a:stretch/>
        </p:blipFill>
        <p:spPr>
          <a:xfrm>
            <a:off x="-457200" y="1981080"/>
            <a:ext cx="5943600" cy="4111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0492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523880" y="2209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197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762120" y="3657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dioxide + wa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lucose + oxygen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4197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371600" y="5029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447920" y="5105520"/>
            <a:ext cx="716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6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17:25:57Z</dcterms:created>
  <dc:creator>Sonia Coleman</dc:creator>
  <dc:description/>
  <cp:keywords>photosynthesis</cp:keywords>
  <dc:language>en-US</dc:language>
  <cp:lastModifiedBy>LEGION2</cp:lastModifiedBy>
  <dcterms:modified xsi:type="dcterms:W3CDTF">2016-01-13T09:25:25Z</dcterms:modified>
  <cp:revision>10</cp:revision>
  <dc:subject/>
  <dc:title>Photosynthesis</dc:title>
</cp:coreProperties>
</file>