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640F-CF38-4B21-9CBA-8BE34E9772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159-4FAD-4DEC-BA10-87AD065B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5CC-B385-44D5-953F-54EC6598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AE9-1E05-4A50-B7E4-C6A084F2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464-1A9B-4B91-9522-B1150170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DD6-0D0F-4F71-886D-79983A33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D77-7132-488D-B47C-9E409817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6B0-1936-4BC4-BE0C-88390AF3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8BA-A7D0-4D3C-AC9D-EB1F3631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627-3E7F-4869-BCD0-E02BA37D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1CA-943D-4E07-B888-89F909B0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E78-E17C-468B-9C8D-F6AB67A5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1C3-22BE-4EBB-8FD9-C20A625F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FF69-63B1-4339-BACC-CEE902424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Arial Black"/>
              </a:rPr>
              <a:t>Plant Divers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ag00142_"/>
          <p:cNvPicPr/>
          <p:nvPr/>
        </p:nvPicPr>
        <p:blipFill>
          <a:blip r:embed="rId1"/>
          <a:stretch/>
        </p:blipFill>
        <p:spPr>
          <a:xfrm>
            <a:off x="5715000" y="2209680"/>
            <a:ext cx="310680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8600" y="2743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he Evolution and Classification of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Tracheophytes</a:t>
            </a:r>
            <a:br>
              <a:rPr sz="3600"/>
            </a:b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-Vascular Plants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na01441_"/>
          <p:cNvPicPr/>
          <p:nvPr/>
        </p:nvPicPr>
        <p:blipFill>
          <a:blip r:embed="rId1"/>
          <a:stretch/>
        </p:blipFill>
        <p:spPr>
          <a:xfrm>
            <a:off x="2286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ains two types of specialize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tissu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transport within the pl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Xyl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H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0 up from ro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lo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food made during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otosynthesi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nutrients to where they are needed 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esence of a vascular system allowed plants to become 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s specialized organs: roots, stems, and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76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Tracheophytes are divided into two groups by whether or not they reproduce with </a:t>
            </a:r>
            <a:r>
              <a:rPr b="1" lang="en-US" sz="3000" spc="-1" strike="noStrike" u="sng">
                <a:solidFill>
                  <a:srgbClr val="336600"/>
                </a:solidFill>
                <a:uFillTx/>
                <a:latin typeface="Arial"/>
              </a:rPr>
              <a:t>seeds</a:t>
            </a: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90920" y="21337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2209680" y="26668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876920" y="266688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34290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486400" y="3352680"/>
            <a:ext cx="2438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82880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85800" y="50292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563832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662940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33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449568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tain a vascular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hey grow in moist, shady habita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Has underground stems, roots, &amp; large leaves called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frond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Reproduce using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see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he Fern - a seedless vascular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772400" y="12952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 ar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11,00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pecies of f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~AUT0007"/>
          <p:cNvPicPr/>
          <p:nvPr/>
        </p:nvPicPr>
        <p:blipFill>
          <a:blip r:embed="rId1"/>
          <a:stretch/>
        </p:blipFill>
        <p:spPr>
          <a:xfrm>
            <a:off x="4572000" y="990720"/>
            <a:ext cx="2979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~AUT0008"/>
          <p:cNvPicPr/>
          <p:nvPr/>
        </p:nvPicPr>
        <p:blipFill>
          <a:blip r:embed="rId2"/>
          <a:srcRect l="0" t="0" r="9148" b="0"/>
          <a:stretch/>
        </p:blipFill>
        <p:spPr>
          <a:xfrm>
            <a:off x="6478560" y="3581280"/>
            <a:ext cx="266544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6172200" y="3962520"/>
            <a:ext cx="304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781680" y="2209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0492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DVANTAG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Developed reproductive strategies that do not ne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 cont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fully developed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ood suppl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 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water-proof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eed coa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to keep from 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perm transferred in water-proof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hrough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inatio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by wind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veloped seed-bearing structures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one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Seed-Bearing 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609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 two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eed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racheophyte groups are divided by whether or not they hav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nclosed seed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-protected inside a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frui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if seeds ar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xpos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828800" y="22096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1752120" y="25909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2590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33520" y="3124080"/>
            <a:ext cx="2590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5680" y="3048120"/>
            <a:ext cx="243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09480" y="46483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4114440" y="37339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5867280" y="3733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895480" y="4648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ymn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6172200" y="4648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819520" y="54100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aked” or exp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562720" y="54864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lowers produce fruit w/ encl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62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086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yca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Sago palm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inkg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nif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pine, spruce, firs, cedars, sequoias, redwoods, junipers, yews, &amp; cypress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Lucida Handwriting"/>
              </a:rPr>
              <a:t>Gymnosperms- “naked seed</a:t>
            </a:r>
            <a:r>
              <a:rPr b="0" lang="en-US" sz="4800" spc="-1" strike="noStrike">
                <a:solidFill>
                  <a:srgbClr val="3366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~AUT0012"/>
          <p:cNvPicPr/>
          <p:nvPr/>
        </p:nvPicPr>
        <p:blipFill>
          <a:blip r:embed="rId1"/>
          <a:srcRect l="0" t="0" r="5884" b="4374"/>
          <a:stretch/>
        </p:blipFill>
        <p:spPr>
          <a:xfrm>
            <a:off x="3505320" y="2971800"/>
            <a:ext cx="239868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~AUT0013"/>
          <p:cNvPicPr/>
          <p:nvPr/>
        </p:nvPicPr>
        <p:blipFill>
          <a:blip r:embed="rId2"/>
          <a:srcRect l="0" t="0" r="0" b="4959"/>
          <a:stretch/>
        </p:blipFill>
        <p:spPr>
          <a:xfrm>
            <a:off x="6172200" y="2971800"/>
            <a:ext cx="2427120" cy="33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~AUT0011"/>
          <p:cNvPicPr/>
          <p:nvPr/>
        </p:nvPicPr>
        <p:blipFill>
          <a:blip r:embed="rId3"/>
          <a:srcRect l="0" t="0" r="6819" b="0"/>
          <a:stretch/>
        </p:blipFill>
        <p:spPr>
          <a:xfrm>
            <a:off x="457200" y="2971800"/>
            <a:ext cx="277956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83808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go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0384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85800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Most common gymnosperms are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Conif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Conifers have leaves called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need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have a reduced surface area and thick waxy coat on the needle to reduce water loss and prevents freez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Gymnosperms-Con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~AUT0014"/>
          <p:cNvPicPr/>
          <p:nvPr/>
        </p:nvPicPr>
        <p:blipFill>
          <a:blip r:embed="rId1"/>
          <a:stretch/>
        </p:blipFill>
        <p:spPr>
          <a:xfrm>
            <a:off x="5869080" y="0"/>
            <a:ext cx="327492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~AUT0015"/>
          <p:cNvPicPr/>
          <p:nvPr/>
        </p:nvPicPr>
        <p:blipFill>
          <a:blip r:embed="rId2"/>
          <a:stretch/>
        </p:blipFill>
        <p:spPr>
          <a:xfrm>
            <a:off x="3276720" y="3809880"/>
            <a:ext cx="2458800" cy="230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~AUT0016"/>
          <p:cNvPicPr/>
          <p:nvPr/>
        </p:nvPicPr>
        <p:blipFill>
          <a:blip r:embed="rId3"/>
          <a:srcRect l="0" t="6002" r="0" b="12004"/>
          <a:stretch/>
        </p:blipFill>
        <p:spPr>
          <a:xfrm>
            <a:off x="0" y="3809880"/>
            <a:ext cx="3200400" cy="25765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5947920" y="-144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o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888360" y="61196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uni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1145160" y="6338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5228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Conifer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00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le cones produc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the female cone produce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eggs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s inefficiently transferred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ce mature,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on the female cone dry out and open scattering the seeds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~AUT0017"/>
          <p:cNvPicPr/>
          <p:nvPr/>
        </p:nvPicPr>
        <p:blipFill>
          <a:blip r:embed="rId1"/>
          <a:stretch/>
        </p:blipFill>
        <p:spPr>
          <a:xfrm>
            <a:off x="5181480" y="0"/>
            <a:ext cx="2538360" cy="3505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~AUT0018"/>
          <p:cNvPicPr/>
          <p:nvPr/>
        </p:nvPicPr>
        <p:blipFill>
          <a:blip r:embed="rId2"/>
          <a:srcRect l="0" t="11540" r="0" b="0"/>
          <a:stretch/>
        </p:blipFill>
        <p:spPr>
          <a:xfrm>
            <a:off x="5181480" y="3657600"/>
            <a:ext cx="2845080" cy="297180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 flipH="1" flipV="1">
            <a:off x="7772040" y="10666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792468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4572000" y="533376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09880" y="603576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8077320" y="4495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7391520" y="4876920"/>
            <a:ext cx="76176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Angiosperms- “enclosed see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se ar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i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plants the encourage direct and efficien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ransfer (smell, color and offering nec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linato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flying insects, birds, and bats that transfer pollen from flower to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lowe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 ovaries, which is whe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eggs/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rui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is the pollinat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vary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ing matu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860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Fruit can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aid in dispersal of se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reduce competition with parent pl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1814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inged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glides to new location (maple fru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oating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can float to new locations (cocon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eshy fruit -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weet bright colored fruit have seeds that survive the digestive system of animals that eat the fruit (ap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iny fruit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elcro like projections attach to the fur of animals (cockleb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22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maple seeds"/>
          <p:cNvPicPr/>
          <p:nvPr/>
        </p:nvPicPr>
        <p:blipFill>
          <a:blip r:embed="rId1"/>
          <a:stretch/>
        </p:blipFill>
        <p:spPr>
          <a:xfrm>
            <a:off x="5410080" y="1600200"/>
            <a:ext cx="3443400" cy="2295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181480" y="388620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le seeds:  Winged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9" descr="wfshl-burdock-06_small"/>
          <p:cNvPicPr/>
          <p:nvPr/>
        </p:nvPicPr>
        <p:blipFill>
          <a:blip r:embed="rId2"/>
          <a:stretch/>
        </p:blipFill>
        <p:spPr>
          <a:xfrm>
            <a:off x="5334120" y="4572000"/>
            <a:ext cx="177156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5638680" y="64310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rdock:  Spiny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2" descr="Cocklebur%20(3)_small"/>
          <p:cNvPicPr/>
          <p:nvPr/>
        </p:nvPicPr>
        <p:blipFill>
          <a:blip r:embed="rId3"/>
          <a:stretch/>
        </p:blipFill>
        <p:spPr>
          <a:xfrm>
            <a:off x="7238880" y="4495680"/>
            <a:ext cx="1570320" cy="1965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2120" y="114300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What do I know about pl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2120" y="24382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perform photo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need water and nutr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s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 Write each Question and Answer for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plants have to overcome to live on 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primitive division of plants because they have no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common example in this division and how do they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y are mosses so sm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division of plants that contain a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a vascular system do for plants size-w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a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3" dur="1" fill="hold"/>
                                  <p:tgtEl>
                                    <p:spTgt spid="19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fferent from bry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vi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advantages of seeds over sp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other advantages did seed-bearing plants have over spore-bearing pla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two divisions of the seed-bearing trache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2" dur="1" fill="hold"/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oes the term Gymnosperm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most common of the Gymnosper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evolutionary importance of need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structures do conifers use to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ere are seeds located in the c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 though wind-dispersal of pollen is inefficient, what did it allow plants to over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LANT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hotosynthetic autotrophs containing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hloroplast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on-mobil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fixed to one sp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ell walls mad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ponds to environment and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grow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rough the us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57200" y="16002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066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The ancestors of plants were </a:t>
            </a:r>
            <a:r>
              <a:rPr b="0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multicellular green algae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.  They were completely immersed in water &amp; dissolved miner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819520"/>
            <a:ext cx="8915400" cy="33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get chemical resources (water, minerals, oxygen, and carbon dioxide) separated into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transport resources with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prevent from dry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reproduce without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ts Make the The Move to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7440" y="2082960"/>
            <a:ext cx="70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move onto land, plants had to solve these problem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762120"/>
            <a:ext cx="812484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ome Adaptations (solutions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body parts extending into both 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velop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syst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to transport resources in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a protective layer –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waxy outer layer) to keep from drying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ecialized structures for reproduction includ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 &amp; 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hat do not dry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04920" y="762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s are classified based on whether or not the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scular System (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wers (enclosed see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oncept Map:  Plants are divided 1</a:t>
            </a:r>
            <a:r>
              <a:rPr b="1" lang="en-US" sz="3200" spc="-1" strike="noStrike" baseline="30000">
                <a:solidFill>
                  <a:srgbClr val="3366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by whether or not they have a vascu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53337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y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105520" y="533412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9880" y="16765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2590560" y="228600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029200" y="22860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19051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9343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334120" y="3581280"/>
            <a:ext cx="3276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28600" y="35812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28600" y="152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828800" y="304920"/>
            <a:ext cx="6019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Lucida Handwriting"/>
              </a:rPr>
              <a:t>Bryophytes  </a:t>
            </a:r>
            <a:r>
              <a:rPr b="0" lang="en-US" sz="2400" spc="-1" strike="noStrike">
                <a:solidFill>
                  <a:srgbClr val="336600"/>
                </a:solidFill>
                <a:latin typeface="Lucida Handwriting"/>
              </a:rPr>
              <a:t>-NON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1143000"/>
            <a:ext cx="8077320" cy="548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rimitiv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nd in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ist, shady area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ascular (transport)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mall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size due to no vascular tiss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ue roots, stems, or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ed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re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produces us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-a water-proof single cell that can grow into a new org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common example: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Lucida Handwriting"/>
              </a:rPr>
              <a:t>Typical Moss Plant </a:t>
            </a:r>
            <a:br>
              <a:rPr sz="4400"/>
            </a:br>
            <a:r>
              <a:rPr b="0" lang="en-US" sz="2000" spc="-1" strike="noStrike">
                <a:solidFill>
                  <a:srgbClr val="336600"/>
                </a:solidFill>
                <a:latin typeface="Lucida Handwriting"/>
              </a:rPr>
              <a:t>(most common bryoph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181480" y="15238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ores form inside the caps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952880" y="4575240"/>
            <a:ext cx="419112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otice the problem of nutrient separation into air and soil is solved with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under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bove 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parts. (Although NO TRUE roots, stems or leaves are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~AUT0005"/>
          <p:cNvPicPr/>
          <p:nvPr/>
        </p:nvPicPr>
        <p:blipFill>
          <a:blip r:embed="rId1"/>
          <a:srcRect l="0" t="0" r="40959" b="0"/>
          <a:stretch/>
        </p:blipFill>
        <p:spPr>
          <a:xfrm>
            <a:off x="2514600" y="1371600"/>
            <a:ext cx="241308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>
            <a:off x="4495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4" descr="~AUT0006"/>
          <p:cNvPicPr/>
          <p:nvPr/>
        </p:nvPicPr>
        <p:blipFill>
          <a:blip r:embed="rId2"/>
          <a:srcRect l="0" t="0" r="73121" b="17989"/>
          <a:stretch/>
        </p:blipFill>
        <p:spPr>
          <a:xfrm>
            <a:off x="0" y="1981080"/>
            <a:ext cx="2449440" cy="3810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19:05Z</dcterms:created>
  <dc:creator>Allen Berard</dc:creator>
  <dc:description>Plant Divisions</dc:description>
  <cp:keywords>Plant Divisions</cp:keywords>
  <dc:language>en-US</dc:language>
  <cp:lastModifiedBy>LEGION2</cp:lastModifiedBy>
  <dcterms:modified xsi:type="dcterms:W3CDTF">2016-01-13T09:32:31Z</dcterms:modified>
  <cp:revision>43</cp:revision>
  <dc:subject>Plant Divisions</dc:subject>
  <dc:title>Plant Divisions</dc:title>
</cp:coreProperties>
</file>