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68EB-76D7-45C1-A559-7C75EBE1FC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C54-FC04-4749-A078-30B766F2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A30-BEFA-4BBC-A448-B3B4607B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DD0-B683-4F16-B630-D13AF945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B37-A69D-4B5C-B78F-4A6787D0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95D-A0B1-4303-A084-4E103831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BD8-9CAC-44AA-AB53-B0637C46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087-5CCE-4017-880A-E579CFB2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CAC-6DF1-46F9-A1A4-1D856F25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DB5-CB3A-492F-91CA-D08A5CD3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627-ACD1-472E-AEE6-E4541713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2F4-099B-40E6-9FFC-9604C7EC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253-9804-4C0D-AD06-EC68FFB1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AE8B-B5DC-4025-8A81-9312BF9B0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600200" y="1219320"/>
            <a:ext cx="6343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XTERNAL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752480" y="30481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AN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mage007"/>
          <p:cNvPicPr/>
          <p:nvPr/>
        </p:nvPicPr>
        <p:blipFill>
          <a:blip r:embed="rId1"/>
          <a:stretch/>
        </p:blipFill>
        <p:spPr>
          <a:xfrm>
            <a:off x="1219320" y="228600"/>
            <a:ext cx="6858000" cy="4619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58520" y="4952880"/>
            <a:ext cx="67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09480" y="11430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2286000" y="228600"/>
            <a:ext cx="468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unctions of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2720" y="175248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277640" y="2378160"/>
            <a:ext cx="56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361960" y="3429000"/>
            <a:ext cx="38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656520" y="4495680"/>
            <a:ext cx="422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opy of ex structure3"/>
          <p:cNvPicPr/>
          <p:nvPr/>
        </p:nvPicPr>
        <p:blipFill>
          <a:blip r:embed="rId1"/>
          <a:stretch/>
        </p:blipFill>
        <p:spPr>
          <a:xfrm>
            <a:off x="0" y="87480"/>
            <a:ext cx="8763120" cy="677052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9907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74320" y="5911920"/>
            <a:ext cx="1533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AIN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206960" y="5181480"/>
            <a:ext cx="1168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OR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484400" y="54864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864960" y="4267080"/>
            <a:ext cx="72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894240" y="4343400"/>
            <a:ext cx="782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801240" y="838080"/>
            <a:ext cx="11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59280" y="1523880"/>
            <a:ext cx="84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64840" y="2971800"/>
            <a:ext cx="84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936440" y="38862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860120" y="198108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434880" y="3505320"/>
            <a:ext cx="93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IN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003480" y="152280"/>
            <a:ext cx="1924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TERMINAL 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16080" y="152280"/>
            <a:ext cx="1291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X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7560360" y="22860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H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767520" y="0"/>
            <a:ext cx="725364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61600" y="184932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AB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676520" y="4876920"/>
            <a:ext cx="55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BELOW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 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828800" y="228600"/>
            <a:ext cx="5448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ypes of Root Syst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5" name="Picture 5" descr="fibrous root"/>
          <p:cNvPicPr/>
          <p:nvPr/>
        </p:nvPicPr>
        <p:blipFill>
          <a:blip r:embed="rId1"/>
          <a:srcRect l="33363" t="15452" r="35633" b="11208"/>
          <a:stretch/>
        </p:blipFill>
        <p:spPr>
          <a:xfrm>
            <a:off x="917640" y="998640"/>
            <a:ext cx="3730680" cy="5695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5261400" y="990720"/>
            <a:ext cx="24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338080" y="2438280"/>
            <a:ext cx="342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7924680" y="4648320"/>
            <a:ext cx="381240" cy="1218960"/>
          </a:xfrm>
          <a:custGeom>
            <a:avLst/>
            <a:gdLst>
              <a:gd name="textAreaLeft" fmla="*/ 0 w 381240"/>
              <a:gd name="textAreaRight" fmla="*/ 137520 w 3812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 rot="10800000">
            <a:off x="8305560" y="4111920"/>
            <a:ext cx="6678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dwt2-31"/>
          <p:cNvPicPr/>
          <p:nvPr/>
        </p:nvPicPr>
        <p:blipFill>
          <a:blip r:embed="rId1"/>
          <a:stretch/>
        </p:blipFill>
        <p:spPr>
          <a:xfrm>
            <a:off x="533520" y="380880"/>
            <a:ext cx="3252600" cy="586764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4495680" y="457200"/>
            <a:ext cx="3810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p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330440" y="1284120"/>
            <a:ext cx="32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348440" y="2438280"/>
            <a:ext cx="39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499280" y="358128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68760" y="4343400"/>
            <a:ext cx="388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514600" y="22860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erial 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9" name="Picture 5" descr="aerial root"/>
          <p:cNvPicPr/>
          <p:nvPr/>
        </p:nvPicPr>
        <p:blipFill>
          <a:blip r:embed="rId1"/>
          <a:srcRect l="63213" t="15339" r="14507" b="42512"/>
          <a:stretch/>
        </p:blipFill>
        <p:spPr>
          <a:xfrm>
            <a:off x="609480" y="990720"/>
            <a:ext cx="403884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5013360" y="110340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105520" y="281952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029200" y="426708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066680" y="304920"/>
            <a:ext cx="7086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ecialized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5" name="Picture 5" descr="250px-Roots_by_cesarpb"/>
          <p:cNvPicPr/>
          <p:nvPr/>
        </p:nvPicPr>
        <p:blipFill>
          <a:blip r:embed="rId1"/>
          <a:stretch/>
        </p:blipFill>
        <p:spPr>
          <a:xfrm>
            <a:off x="457200" y="1371600"/>
            <a:ext cx="556272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6401160" y="2133720"/>
            <a:ext cx="209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rop  roots"/>
          <p:cNvPicPr/>
          <p:nvPr/>
        </p:nvPicPr>
        <p:blipFill>
          <a:blip r:embed="rId1"/>
          <a:srcRect l="68915" t="14666" r="0" b="27292"/>
          <a:stretch/>
        </p:blipFill>
        <p:spPr>
          <a:xfrm>
            <a:off x="304920" y="228600"/>
            <a:ext cx="5486400" cy="6172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5931000" y="1436760"/>
            <a:ext cx="144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20:06:26Z</dcterms:created>
  <dc:creator>Ryan Hill</dc:creator>
  <dc:description/>
  <dc:language>en-US</dc:language>
  <cp:lastModifiedBy>LEGION2</cp:lastModifiedBy>
  <dcterms:modified xsi:type="dcterms:W3CDTF">2016-01-13T09:34:52Z</dcterms:modified>
  <cp:revision>8</cp:revision>
  <dc:subject/>
  <dc:title>Slide 1</dc:title>
</cp:coreProperties>
</file>