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A08AC-5A05-43A6-84AB-270A35A733E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XTERNAL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XTERNAL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NTITIOUS Roots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w from unusual places on plants such a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Stems, leaves and even fru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ENTITIOUS Roots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 from unusual places on plants such 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tems, leaves and even fr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ots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 of Ro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anchor plants firmly in the gr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absorb water and miner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the so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of some plants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store star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of some plants ca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 used to grow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w pl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ot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of R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nchor plants firmly in the g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bsorb water and miner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s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of some plant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store st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of some plants c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used to gr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ew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ernal Structure of the Plant – Parts of the plant on the outs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o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s of Root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 of the Root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ialized Root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rnal Structure of the Plant – Parts of the plant on the out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Root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of the Root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ized Root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IN RO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TER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 SID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O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RMINAL BU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XILL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 R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S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L B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XIL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 Shoot System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nd and the Root 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fou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LOW  or  UND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 Shoot System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nd and the Root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fou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W  or  UND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s of Root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s like 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ngled 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ro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pl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this roo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stem 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na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con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gar Ca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 Gra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Root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s like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gled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r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this ro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n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con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ar C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 Gra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p Ro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a large m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tral ro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many branch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 deep in the so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plants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 trees e.g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go, avocad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rubs e.g. tomato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pp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p R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large 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al r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many branch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deep in the s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plant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trees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go, avoc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rubs e.g. tomat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pp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erial  Ro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t attaches itself 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e branch or telephone wi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ots hang down in mid-air and absorb water from rainf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d P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Orch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erial  R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 attaches itself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e branch or telephone w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ots hang down in mid-air and absorb water from rainf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d P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rch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ialized Ro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IL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gro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ized R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gr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AB17-4447-47C0-868A-D0F53ADA6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9D36-DBF5-4060-8245-298135D40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0FEB-D54A-4D45-A487-7CDE7381C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5FBE-A2AE-4CC3-86E5-5DFECABEC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2E4A-EE13-4929-95B5-C03DD8BC4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7E97-4304-4A5F-8065-7CFB8DD95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E3EE-E865-4EA4-9C1A-3B88BF620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55D3-9567-40D5-9BEA-945EEEF8E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64D8-762B-4B83-BFC4-90DBE6AF1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9DB5-0577-4D13-AD32-720883C9C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1BDD-C23A-4F82-B0BC-019D9781D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E0C8-4C82-4E3E-9B06-3758BB1E3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0718A-95E6-4817-A631-07BE60AE73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5"/>
          <p:cNvSpPr txBox="1"/>
          <p:nvPr/>
        </p:nvSpPr>
        <p:spPr>
          <a:xfrm>
            <a:off x="1600200" y="1219320"/>
            <a:ext cx="63435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he EXTERNAL Structu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of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9" name="WordArt 6"/>
          <p:cNvSpPr txBox="1"/>
          <p:nvPr/>
        </p:nvSpPr>
        <p:spPr>
          <a:xfrm>
            <a:off x="1752480" y="3048120"/>
            <a:ext cx="61722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PLANTS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indefinite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image007"/>
          <p:cNvPicPr/>
          <p:nvPr/>
        </p:nvPicPr>
        <p:blipFill>
          <a:blip r:embed="rId1"/>
          <a:stretch/>
        </p:blipFill>
        <p:spPr>
          <a:xfrm>
            <a:off x="1219320" y="228600"/>
            <a:ext cx="6858000" cy="46195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5"/>
          <p:cNvSpPr/>
          <p:nvPr/>
        </p:nvSpPr>
        <p:spPr>
          <a:xfrm>
            <a:off x="758520" y="4952880"/>
            <a:ext cx="675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ENTITIOUS Roots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w from unusual places on plants such 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Stems, leaves and even fr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609480" y="1143000"/>
            <a:ext cx="158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ot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WordArt 5"/>
          <p:cNvSpPr txBox="1"/>
          <p:nvPr/>
        </p:nvSpPr>
        <p:spPr>
          <a:xfrm>
            <a:off x="2286000" y="228600"/>
            <a:ext cx="4686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unctions of Roo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1062720" y="1752480"/>
            <a:ext cx="70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anchor plants firmly in the 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1277640" y="2378160"/>
            <a:ext cx="5690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absorb water and miner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om the so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2361960" y="3429000"/>
            <a:ext cx="388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of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om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plant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n store st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3656520" y="4495680"/>
            <a:ext cx="4220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of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om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plants c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 used to gro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new p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rnal Structure of the Plant – Parts of the plant on the outs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 of Root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s of the Roo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pecializ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oot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Copy of ex structure3"/>
          <p:cNvPicPr/>
          <p:nvPr/>
        </p:nvPicPr>
        <p:blipFill>
          <a:blip r:embed="rId1"/>
          <a:stretch/>
        </p:blipFill>
        <p:spPr>
          <a:xfrm>
            <a:off x="0" y="87480"/>
            <a:ext cx="8763120" cy="6770520"/>
          </a:xfrm>
          <a:prstGeom prst="rect">
            <a:avLst/>
          </a:prstGeom>
          <a:ln w="0">
            <a:noFill/>
          </a:ln>
        </p:spPr>
      </p:pic>
      <p:sp>
        <p:nvSpPr>
          <p:cNvPr id="54" name="Line 5"/>
          <p:cNvSpPr/>
          <p:nvPr/>
        </p:nvSpPr>
        <p:spPr>
          <a:xfrm flipH="1">
            <a:off x="9907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274320" y="5911920"/>
            <a:ext cx="1533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MAIN RO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4206960" y="5181480"/>
            <a:ext cx="11682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LAT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OR S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RO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7484400" y="5486400"/>
            <a:ext cx="1052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ROO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3864960" y="4267080"/>
            <a:ext cx="721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LE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894240" y="4343400"/>
            <a:ext cx="782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3801240" y="838080"/>
            <a:ext cx="1116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FL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359280" y="1523880"/>
            <a:ext cx="849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FR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564840" y="2971800"/>
            <a:ext cx="845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1936440" y="3886200"/>
            <a:ext cx="84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5"/>
          <p:cNvSpPr/>
          <p:nvPr/>
        </p:nvSpPr>
        <p:spPr>
          <a:xfrm>
            <a:off x="1860120" y="1981080"/>
            <a:ext cx="84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7"/>
          <p:cNvSpPr/>
          <p:nvPr/>
        </p:nvSpPr>
        <p:spPr>
          <a:xfrm>
            <a:off x="434880" y="3505320"/>
            <a:ext cx="939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INTER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8"/>
          <p:cNvSpPr/>
          <p:nvPr/>
        </p:nvSpPr>
        <p:spPr>
          <a:xfrm>
            <a:off x="3003480" y="152280"/>
            <a:ext cx="1924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TERMINAL B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9"/>
          <p:cNvSpPr/>
          <p:nvPr/>
        </p:nvSpPr>
        <p:spPr>
          <a:xfrm>
            <a:off x="316080" y="152280"/>
            <a:ext cx="12916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AXILL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B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0"/>
          <p:cNvSpPr/>
          <p:nvPr/>
        </p:nvSpPr>
        <p:spPr>
          <a:xfrm>
            <a:off x="7560360" y="2286000"/>
            <a:ext cx="1052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SHO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767520" y="0"/>
            <a:ext cx="7253640" cy="64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 Shoot System 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un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round and the Root Syste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s foun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rou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3261600" y="1849320"/>
            <a:ext cx="216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ABO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1676520" y="4876920"/>
            <a:ext cx="558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BELOW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  UND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8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8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WordArt 4"/>
          <p:cNvSpPr txBox="1"/>
          <p:nvPr/>
        </p:nvSpPr>
        <p:spPr>
          <a:xfrm>
            <a:off x="1828800" y="228600"/>
            <a:ext cx="5448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ypes of Root Syste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75" name="Picture 5" descr="fibrous root"/>
          <p:cNvPicPr/>
          <p:nvPr/>
        </p:nvPicPr>
        <p:blipFill>
          <a:blip r:embed="rId1"/>
          <a:srcRect l="33363" t="15452" r="35633" b="11208"/>
          <a:stretch/>
        </p:blipFill>
        <p:spPr>
          <a:xfrm>
            <a:off x="917640" y="998640"/>
            <a:ext cx="3730680" cy="56959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6"/>
          <p:cNvSpPr/>
          <p:nvPr/>
        </p:nvSpPr>
        <p:spPr>
          <a:xfrm>
            <a:off x="5261400" y="990720"/>
            <a:ext cx="245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oks like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ngled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 ro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5338080" y="2438280"/>
            <a:ext cx="3420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s of pl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h this roo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stem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n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con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gar C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8"/>
          <p:cNvSpPr/>
          <p:nvPr/>
        </p:nvSpPr>
        <p:spPr>
          <a:xfrm>
            <a:off x="7924680" y="4648320"/>
            <a:ext cx="381240" cy="1218960"/>
          </a:xfrm>
          <a:custGeom>
            <a:avLst/>
            <a:gdLst>
              <a:gd name="textAreaLeft" fmla="*/ 0 w 381240"/>
              <a:gd name="textAreaRight" fmla="*/ 137520 w 38124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9"/>
          <p:cNvSpPr/>
          <p:nvPr/>
        </p:nvSpPr>
        <p:spPr>
          <a:xfrm rot="10800000">
            <a:off x="8305560" y="4111920"/>
            <a:ext cx="66780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  Gr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hdwt2-31"/>
          <p:cNvPicPr/>
          <p:nvPr/>
        </p:nvPicPr>
        <p:blipFill>
          <a:blip r:embed="rId1"/>
          <a:stretch/>
        </p:blipFill>
        <p:spPr>
          <a:xfrm>
            <a:off x="533520" y="380880"/>
            <a:ext cx="3252600" cy="5867640"/>
          </a:xfrm>
          <a:prstGeom prst="rect">
            <a:avLst/>
          </a:prstGeom>
          <a:ln w="0">
            <a:noFill/>
          </a:ln>
        </p:spPr>
      </p:pic>
      <p:sp>
        <p:nvSpPr>
          <p:cNvPr id="82" name="WordArt 5"/>
          <p:cNvSpPr txBox="1"/>
          <p:nvPr/>
        </p:nvSpPr>
        <p:spPr>
          <a:xfrm>
            <a:off x="4495680" y="457200"/>
            <a:ext cx="38102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ap Roo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4330440" y="1284120"/>
            <a:ext cx="320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ve a large 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entral ro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4348440" y="2438280"/>
            <a:ext cx="3972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ve many branch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4499280" y="3581280"/>
            <a:ext cx="335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 deep in the so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4568760" y="4343400"/>
            <a:ext cx="3889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s of plant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rge trees e.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go, avoc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rubs e.g. toma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p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4"/>
          <p:cNvSpPr txBox="1"/>
          <p:nvPr/>
        </p:nvSpPr>
        <p:spPr>
          <a:xfrm>
            <a:off x="2514600" y="228600"/>
            <a:ext cx="3209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erial  Roo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89" name="Picture 5" descr="aerial root"/>
          <p:cNvPicPr/>
          <p:nvPr/>
        </p:nvPicPr>
        <p:blipFill>
          <a:blip r:embed="rId1"/>
          <a:srcRect l="63213" t="15339" r="14507" b="42512"/>
          <a:stretch/>
        </p:blipFill>
        <p:spPr>
          <a:xfrm>
            <a:off x="609480" y="990720"/>
            <a:ext cx="4038840" cy="5715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6"/>
          <p:cNvSpPr/>
          <p:nvPr/>
        </p:nvSpPr>
        <p:spPr>
          <a:xfrm>
            <a:off x="5013360" y="1103400"/>
            <a:ext cx="318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t attaches itself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e branch or telephone w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5105520" y="2819520"/>
            <a:ext cx="318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s hang down in mid-air and absorb water from rainf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5029200" y="4267080"/>
            <a:ext cx="318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d P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rch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4"/>
          <p:cNvSpPr txBox="1"/>
          <p:nvPr/>
        </p:nvSpPr>
        <p:spPr>
          <a:xfrm>
            <a:off x="1066680" y="304920"/>
            <a:ext cx="7086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pecialized Roo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95" name="Picture 5" descr="250px-Roots_by_cesarpb"/>
          <p:cNvPicPr/>
          <p:nvPr/>
        </p:nvPicPr>
        <p:blipFill>
          <a:blip r:embed="rId1"/>
          <a:stretch/>
        </p:blipFill>
        <p:spPr>
          <a:xfrm>
            <a:off x="457200" y="1371600"/>
            <a:ext cx="5562720" cy="49528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6"/>
          <p:cNvSpPr/>
          <p:nvPr/>
        </p:nvSpPr>
        <p:spPr>
          <a:xfrm>
            <a:off x="6401160" y="2133720"/>
            <a:ext cx="2099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IL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gr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prop  roots"/>
          <p:cNvPicPr/>
          <p:nvPr/>
        </p:nvPicPr>
        <p:blipFill>
          <a:blip r:embed="rId1"/>
          <a:srcRect l="68915" t="14666" r="0" b="27292"/>
          <a:stretch/>
        </p:blipFill>
        <p:spPr>
          <a:xfrm>
            <a:off x="304920" y="228600"/>
            <a:ext cx="5486400" cy="61722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>
            <a:off x="5931000" y="1436760"/>
            <a:ext cx="1441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7T20:06:26Z</dcterms:created>
  <dc:creator>Ryan Hill</dc:creator>
  <dc:description/>
  <dc:language>en-US</dc:language>
  <cp:lastModifiedBy>LEGION2</cp:lastModifiedBy>
  <dcterms:modified xsi:type="dcterms:W3CDTF">2016-01-13T09:34:52Z</dcterms:modified>
  <cp:revision>8</cp:revision>
  <dc:subject/>
  <dc:title>Slide 1</dc:title>
</cp:coreProperties>
</file>