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0630-CC02-4476-928B-7E9DD62220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plants need wa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keeps plants upright and stops them wil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lso need water to make food and to carry nutrients through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lants need lots of water and others need very lit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plants need wa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keeps plants upright and stops them wil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lso need water to make food and to carry nutrients through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lants need lots of water and others need very lit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ing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ts can be watered from a watering can, from ab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ing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ts can be watered from a watering can, from ab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need to be watered from below, by standing the pot in a water filled tray for a few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need to be watered from below, by standing the pot in a water filled tray for a few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y ma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material that absorbs water and stays mo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y ma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material that absorbs water and stays mo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ting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ting systems produce water spraying droplets that are smaller than a human hai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of these tiny droplets hit the surrounding air, "flash evaporate", and quickly reduce temperatures 25 to 35 degre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ting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ting systems produce water spraying droplets that are smaller than a human hai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of these tiny droplets hit the surrounding air, "flash evaporate", and quickly reduce temperatures 25 to 35 degre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watered plants wilt, have dry, yellow leaves and dry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watered plants wilt, have dry, yellow leaves and dry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ompost or soil is waterlogged, roots are starved of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watered plants have soft, rotting or mouldy leaves and slimy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ompost or soil is waterlogged, roots are starved of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watered plants have soft, rotting or mouldy leaves and slimy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77CC-CDA9-4E9C-BD3E-31829C27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B692-7C09-4B18-A29E-164056CD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520E-B109-4CCF-AB42-D2EFB568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468D-DC04-4040-BE8B-E802636CF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51E7-CE06-4C58-93A3-F680945D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5082-5398-4552-83F6-D71C95BA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CBF5-EAD9-4F5F-8197-3A8B35C6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8640-5355-46AA-927C-B75EF849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6ED8-AC71-4B47-B809-87BD5C62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5DBD-19C5-48ED-AFF3-AE2C7805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C74C-39E1-4EE9-9DEE-DDE1D8AC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F3E2-1BE5-4836-AC28-7233EB96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5B7A-202A-49B4-A1D1-C17F8BDDF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lant produc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tering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hy do plants need wa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ter keeps plants upright and stops them wil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nts also need water to make food and to carry nutrients through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plants need lots of water and others need very lit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ater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st plants can be watered from a watering can, from ab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watering can"/>
          <p:cNvPicPr/>
          <p:nvPr/>
        </p:nvPicPr>
        <p:blipFill>
          <a:blip r:embed="rId1"/>
          <a:stretch/>
        </p:blipFill>
        <p:spPr>
          <a:xfrm>
            <a:off x="2556000" y="3141720"/>
            <a:ext cx="3457440" cy="32065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777240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need to be watered from below, by standing the pot in a water filled tray for a few minu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Image2"/>
          <p:cNvPicPr/>
          <p:nvPr/>
        </p:nvPicPr>
        <p:blipFill>
          <a:blip r:embed="rId1"/>
          <a:stretch/>
        </p:blipFill>
        <p:spPr>
          <a:xfrm>
            <a:off x="1476360" y="22860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apillary ma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773840" cy="11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is a material that absorbs water and stays mo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1" descr="mats"/>
          <p:cNvPicPr/>
          <p:nvPr/>
        </p:nvPicPr>
        <p:blipFill>
          <a:blip r:embed="rId1"/>
          <a:stretch/>
        </p:blipFill>
        <p:spPr>
          <a:xfrm>
            <a:off x="4932360" y="2924280"/>
            <a:ext cx="3659040" cy="3659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Tray"/>
          <p:cNvPicPr/>
          <p:nvPr/>
        </p:nvPicPr>
        <p:blipFill>
          <a:blip r:embed="rId2"/>
          <a:stretch/>
        </p:blipFill>
        <p:spPr>
          <a:xfrm>
            <a:off x="684360" y="2637000"/>
            <a:ext cx="3095640" cy="38764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"/>
          <p:cNvGrpSpPr/>
          <p:nvPr/>
        </p:nvGrpSpPr>
        <p:grpSpPr>
          <a:xfrm>
            <a:off x="684360" y="1268280"/>
            <a:ext cx="7849800" cy="4638600"/>
            <a:chOff x="684360" y="1268280"/>
            <a:chExt cx="7849800" cy="4638600"/>
          </a:xfrm>
        </p:grpSpPr>
        <p:pic>
          <p:nvPicPr>
            <p:cNvPr id="67" name="Picture 5" descr=""/>
            <p:cNvPicPr/>
            <p:nvPr/>
          </p:nvPicPr>
          <p:blipFill>
            <a:blip r:embed="rId1"/>
            <a:stretch/>
          </p:blipFill>
          <p:spPr>
            <a:xfrm>
              <a:off x="684360" y="1268280"/>
              <a:ext cx="7849800" cy="33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6"/>
            <p:cNvSpPr/>
            <p:nvPr/>
          </p:nvSpPr>
          <p:spPr>
            <a:xfrm>
              <a:off x="684360" y="4715640"/>
              <a:ext cx="7849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upils made this automatic watering system. Water drips very slowly out of the tube onto capillary matting, lining the tray. The plants absorb the wat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Misting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611280" y="1268280"/>
            <a:ext cx="770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sting systems produce water spraying droplets that are smaller than a human ha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llions of these tiny droplets hit the surrounding air, "flash evaporate", and quickly reduce temperatures 25 to 35 degre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0" descr="03"/>
          <p:cNvPicPr/>
          <p:nvPr/>
        </p:nvPicPr>
        <p:blipFill>
          <a:blip r:embed="rId1"/>
          <a:stretch/>
        </p:blipFill>
        <p:spPr>
          <a:xfrm>
            <a:off x="539640" y="370692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01"/>
          <p:cNvPicPr/>
          <p:nvPr/>
        </p:nvPicPr>
        <p:blipFill>
          <a:blip r:embed="rId2"/>
          <a:stretch/>
        </p:blipFill>
        <p:spPr>
          <a:xfrm>
            <a:off x="4788000" y="3699000"/>
            <a:ext cx="3659040" cy="27446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Underwatering pl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920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erwatered plants wilt, have dry, yellow leaves and dry comp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800600" y="44197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1" descr="Phtophwilt%20copy"/>
          <p:cNvPicPr/>
          <p:nvPr/>
        </p:nvPicPr>
        <p:blipFill>
          <a:blip r:embed="rId1"/>
          <a:stretch/>
        </p:blipFill>
        <p:spPr>
          <a:xfrm>
            <a:off x="2556000" y="2997360"/>
            <a:ext cx="4076640" cy="37242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Overwatering pl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62920" cy="10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compost or soil is waterlogged, roots are starved of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verwatered plants have soft, rotting or mouldy leaves and slimy comp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7" descr="gin312_stem_rot_e"/>
          <p:cNvPicPr/>
          <p:nvPr/>
        </p:nvPicPr>
        <p:blipFill>
          <a:blip r:embed="rId1"/>
          <a:stretch/>
        </p:blipFill>
        <p:spPr>
          <a:xfrm>
            <a:off x="2484360" y="4070520"/>
            <a:ext cx="3527640" cy="25621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14T12:27:11Z</dcterms:created>
  <dc:creator>Andrew Johnston</dc:creator>
  <dc:description/>
  <dc:language>en-US</dc:language>
  <cp:lastModifiedBy>LEGION2</cp:lastModifiedBy>
  <dcterms:modified xsi:type="dcterms:W3CDTF">2016-01-13T09:38:02Z</dcterms:modified>
  <cp:revision>10</cp:revision>
  <dc:subject/>
  <dc:title>Plant production</dc:title>
</cp:coreProperties>
</file>