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5.wmf" ContentType="image/x-wmf"/>
  <Override PartName="/ppt/media/TYPE.WAV" ContentType="audio/x-wav"/>
  <Override PartName="/ppt/media/image12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6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WHOOSH.WAV" ContentType="audio/x-wav"/>
  <Override PartName="/ppt/media/image1.png" ContentType="image/png"/>
  <Override PartName="/ppt/media/image13.wmf" ContentType="image/x-wmf"/>
  <Override PartName="/ppt/media/image14.wmf" ContentType="image/x-wmf"/>
  <Override PartName="/ppt/media/image15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0569-1387-478A-96E0-5DED2CD4C8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Functional Group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is the family name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family na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n O-H group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n O-H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n O-H group 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n O-H gro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l single bond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ingl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e oxygen is in a carbon sandwich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Ester loves to eat her carbon sandwich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xygen is in a carbon sandw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 loves to eat her carbon sandwich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…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…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l single bond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ingl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…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cohol 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dehyde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kene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 carbon to carbon double bon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rbon to carbon double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Well done !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done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n O-H group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n O-H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dehydes / sugar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 C=O group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s / sug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C=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n O-H group 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n O-H gro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Ester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e oxygen is in a carbon sandwich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Ester loves to eat her carbon sandwich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xygen is in a carbon sandw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 loves to eat her carbon sandwich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 carbon to carbon double bon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rbon to carbon double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dehyde / suga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 C=O group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 /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C=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B1DF-B56C-4FB6-B5AD-6E968928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A861-29D0-4F2F-8BD9-DD8417FC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B789-E82E-44FA-97BE-32DF7200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BBAA-C217-4FBF-A3FC-FE6FEF51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62CF-F1D2-475C-8810-A9969D66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28B1-E0B6-4093-A137-F5DFC630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54CD-C209-4045-863F-DB4EA851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3381-214B-4F1C-87A9-0127FC24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F013-CF9F-45B1-BF17-BF863AF9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F623-C7F7-48CE-8F9E-BE4084C6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8406-AD0A-4447-9661-8B6FA05B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15A9-7926-4125-A316-EBA24A88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2BFE-DA5A-455B-9FCC-3864CBA5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0FBD-B254-4DD2-AE3D-515059FC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79E4-94BD-44D4-9D29-C6979FFC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AE77-B63D-4B0C-A542-95C06F52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30B5-F04C-4174-B883-FA5F909B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353F-A834-4244-AAC9-455FCD91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3B95-B54C-4053-853E-04B39539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A0E2-7B3D-44A5-947C-4AF695E8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4E4E-68AE-4EE8-B32F-B2D39A9B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6A44-EB46-45F9-A71E-02015D9F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906A-A0E8-4147-BA02-BAF59AEB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D707-5C40-4919-B35C-C187E855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4223-2A1B-4ECA-92C7-5651B277A1F0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F126-F0FF-430E-8231-6960419C48E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Functional Group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99"/>
                </a:solidFill>
                <a:latin typeface="Times New Roman"/>
              </a:rPr>
              <a:t>What is the family name?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1" name="Object 5"/>
          <p:cNvGraphicFramePr/>
          <p:nvPr/>
        </p:nvGraphicFramePr>
        <p:xfrm>
          <a:off x="990720" y="2849400"/>
          <a:ext cx="3504960" cy="20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49400"/>
                    <a:ext cx="3504960" cy="20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Rectangle 6"/>
          <p:cNvSpPr/>
          <p:nvPr/>
        </p:nvSpPr>
        <p:spPr>
          <a:xfrm>
            <a:off x="4876920" y="3200400"/>
            <a:ext cx="3809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n O-H group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990720" y="2725560"/>
          <a:ext cx="365760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25560"/>
                    <a:ext cx="365760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6"/>
          <p:cNvSpPr/>
          <p:nvPr/>
        </p:nvSpPr>
        <p:spPr>
          <a:xfrm>
            <a:off x="4876920" y="2971800"/>
            <a:ext cx="3809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n O-H group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9" name="Object 5"/>
          <p:cNvGraphicFramePr/>
          <p:nvPr/>
        </p:nvGraphicFramePr>
        <p:xfrm>
          <a:off x="990720" y="2433600"/>
          <a:ext cx="380988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3600"/>
                    <a:ext cx="380988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876920" y="2819520"/>
            <a:ext cx="38098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l single bond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3" name="Object 5"/>
          <p:cNvGraphicFramePr/>
          <p:nvPr/>
        </p:nvGraphicFramePr>
        <p:xfrm>
          <a:off x="990720" y="2946240"/>
          <a:ext cx="3809880" cy="18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946240"/>
                    <a:ext cx="3809880" cy="18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6"/>
          <p:cNvSpPr/>
          <p:nvPr/>
        </p:nvSpPr>
        <p:spPr>
          <a:xfrm>
            <a:off x="4952880" y="2666880"/>
            <a:ext cx="38102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e oxygen is in a carbon sandwich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 loves to eat her carbon sandwich ?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…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7" name="Object 3"/>
          <p:cNvGraphicFramePr/>
          <p:nvPr/>
        </p:nvGraphicFramePr>
        <p:xfrm>
          <a:off x="2743200" y="2286000"/>
          <a:ext cx="3809880" cy="22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86000"/>
                    <a:ext cx="380988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7600" y="5105160"/>
            <a:ext cx="22096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…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1" name="Object 3"/>
          <p:cNvGraphicFramePr/>
          <p:nvPr/>
        </p:nvGraphicFramePr>
        <p:xfrm>
          <a:off x="2514600" y="2362320"/>
          <a:ext cx="380988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62320"/>
                    <a:ext cx="380988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52320" y="5181120"/>
            <a:ext cx="2210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5" name="Object 3"/>
          <p:cNvGraphicFramePr/>
          <p:nvPr/>
        </p:nvGraphicFramePr>
        <p:xfrm>
          <a:off x="2514600" y="2286000"/>
          <a:ext cx="380988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286000"/>
                    <a:ext cx="380988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28640" y="5028840"/>
            <a:ext cx="1981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75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9" name="Object 3"/>
          <p:cNvGraphicFramePr/>
          <p:nvPr/>
        </p:nvGraphicFramePr>
        <p:xfrm>
          <a:off x="2895480" y="1981080"/>
          <a:ext cx="3810240" cy="29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981080"/>
                    <a:ext cx="3810240" cy="29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9520" y="50288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75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63" name="Object 3"/>
          <p:cNvGraphicFramePr/>
          <p:nvPr/>
        </p:nvGraphicFramePr>
        <p:xfrm>
          <a:off x="2666880" y="1905120"/>
          <a:ext cx="3810240" cy="29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905120"/>
                    <a:ext cx="3810240" cy="29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9880" y="5028840"/>
            <a:ext cx="1981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75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67" name="Object 3"/>
          <p:cNvGraphicFramePr/>
          <p:nvPr/>
        </p:nvGraphicFramePr>
        <p:xfrm>
          <a:off x="2514600" y="2743200"/>
          <a:ext cx="3809880" cy="17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743200"/>
                    <a:ext cx="380988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581280" y="50288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lkan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3048120"/>
            <a:ext cx="38098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l single bond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00" name="Object 6"/>
          <p:cNvGraphicFramePr/>
          <p:nvPr/>
        </p:nvGraphicFramePr>
        <p:xfrm>
          <a:off x="4572000" y="2438280"/>
          <a:ext cx="3809880" cy="29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438280"/>
                    <a:ext cx="3809880" cy="29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9520" y="5028840"/>
            <a:ext cx="17528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72" name="Object 5"/>
          <p:cNvGraphicFramePr/>
          <p:nvPr/>
        </p:nvGraphicFramePr>
        <p:xfrm>
          <a:off x="2895480" y="2743200"/>
          <a:ext cx="3810240" cy="17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743200"/>
                    <a:ext cx="381024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75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…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75" name="Object 3"/>
          <p:cNvGraphicFramePr/>
          <p:nvPr/>
        </p:nvGraphicFramePr>
        <p:xfrm>
          <a:off x="2743200" y="2438280"/>
          <a:ext cx="3809880" cy="22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438280"/>
                    <a:ext cx="3809880" cy="22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505320" y="5028840"/>
            <a:ext cx="1752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75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2743200" y="2209680"/>
          <a:ext cx="3809880" cy="22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09680"/>
                    <a:ext cx="380988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733560" y="5028840"/>
            <a:ext cx="1904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75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3" name="Object 3"/>
          <p:cNvGraphicFramePr/>
          <p:nvPr/>
        </p:nvGraphicFramePr>
        <p:xfrm>
          <a:off x="3048120" y="1523880"/>
          <a:ext cx="37036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523880"/>
                    <a:ext cx="3703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14800" y="563832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75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7" name="Object 3"/>
          <p:cNvGraphicFramePr/>
          <p:nvPr/>
        </p:nvGraphicFramePr>
        <p:xfrm>
          <a:off x="2666880" y="2590920"/>
          <a:ext cx="381024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90920"/>
                    <a:ext cx="381024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86200" y="5181480"/>
            <a:ext cx="17524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cohol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1" name="Object 3"/>
          <p:cNvGraphicFramePr/>
          <p:nvPr/>
        </p:nvGraphicFramePr>
        <p:xfrm>
          <a:off x="2819520" y="1981080"/>
          <a:ext cx="3809880" cy="28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981080"/>
                    <a:ext cx="380988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7240" y="5257440"/>
            <a:ext cx="2057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5" name="Object 3"/>
          <p:cNvGraphicFramePr/>
          <p:nvPr/>
        </p:nvGraphicFramePr>
        <p:xfrm>
          <a:off x="2514600" y="2514600"/>
          <a:ext cx="3809880" cy="17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514600"/>
                    <a:ext cx="380988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504960" y="5333760"/>
            <a:ext cx="1904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2895480" y="2514600"/>
          <a:ext cx="3810240" cy="18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514600"/>
                    <a:ext cx="3810240" cy="18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038120" y="533376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03" name="Object 3"/>
          <p:cNvGraphicFramePr/>
          <p:nvPr/>
        </p:nvGraphicFramePr>
        <p:xfrm>
          <a:off x="2819520" y="2666880"/>
          <a:ext cx="3809880" cy="18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666880"/>
                    <a:ext cx="3809880" cy="18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733560" y="5257440"/>
            <a:ext cx="1904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07" name="Object 3"/>
          <p:cNvGraphicFramePr/>
          <p:nvPr/>
        </p:nvGraphicFramePr>
        <p:xfrm>
          <a:off x="2590920" y="2743200"/>
          <a:ext cx="3809880" cy="13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743200"/>
                    <a:ext cx="3809880" cy="13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4724280"/>
            <a:ext cx="19047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lken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28951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 carbon to carbon double bon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4952880" y="2743200"/>
          <a:ext cx="381024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743200"/>
                    <a:ext cx="381024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11" name="Object 3"/>
          <p:cNvGraphicFramePr/>
          <p:nvPr/>
        </p:nvGraphicFramePr>
        <p:xfrm>
          <a:off x="2514600" y="2514600"/>
          <a:ext cx="3809880" cy="18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514600"/>
                    <a:ext cx="380988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657600" y="487656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3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581280" y="4876560"/>
            <a:ext cx="15242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216" name="Object 5"/>
          <p:cNvGraphicFramePr/>
          <p:nvPr/>
        </p:nvGraphicFramePr>
        <p:xfrm>
          <a:off x="2362320" y="2209680"/>
          <a:ext cx="3809880" cy="23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209680"/>
                    <a:ext cx="380988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19" name="Object 3"/>
          <p:cNvGraphicFramePr/>
          <p:nvPr/>
        </p:nvGraphicFramePr>
        <p:xfrm>
          <a:off x="2895480" y="2057400"/>
          <a:ext cx="3810240" cy="24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057400"/>
                    <a:ext cx="3810240" cy="24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57240" y="50288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23" name="Object 3"/>
          <p:cNvGraphicFramePr/>
          <p:nvPr/>
        </p:nvGraphicFramePr>
        <p:xfrm>
          <a:off x="2819520" y="2514600"/>
          <a:ext cx="3809880" cy="21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514600"/>
                    <a:ext cx="380988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9520" y="5257440"/>
            <a:ext cx="1676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27" name="Object 3"/>
          <p:cNvGraphicFramePr/>
          <p:nvPr/>
        </p:nvGraphicFramePr>
        <p:xfrm>
          <a:off x="2666880" y="2514600"/>
          <a:ext cx="381024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14600"/>
                    <a:ext cx="381024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9520" y="510516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3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3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31" name="Object 3"/>
          <p:cNvGraphicFramePr/>
          <p:nvPr/>
        </p:nvGraphicFramePr>
        <p:xfrm>
          <a:off x="2438280" y="2819520"/>
          <a:ext cx="3810240" cy="16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19520"/>
                    <a:ext cx="38102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9520" y="472428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3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38480" y="4876560"/>
            <a:ext cx="15242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236" name="Object 10"/>
          <p:cNvGraphicFramePr/>
          <p:nvPr/>
        </p:nvGraphicFramePr>
        <p:xfrm>
          <a:off x="2514600" y="2438280"/>
          <a:ext cx="3728880" cy="17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438280"/>
                    <a:ext cx="372888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3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3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26665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ell done !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lcohol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320040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n O-H group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4952880" y="2849400"/>
          <a:ext cx="3505320" cy="20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849400"/>
                    <a:ext cx="3505320" cy="20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ldehydes / sugar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320004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 C=O group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5105520" y="2479680"/>
          <a:ext cx="33526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479680"/>
                    <a:ext cx="3352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cid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32767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n O-H group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5105520" y="2725560"/>
          <a:ext cx="358128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725560"/>
                    <a:ext cx="358128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Ester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2666880"/>
            <a:ext cx="38098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e oxygen is in a carbon sandwich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 loves to eat her carbon sandwich ?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4952880" y="2946240"/>
          <a:ext cx="3733920" cy="18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946240"/>
                    <a:ext cx="3733920" cy="18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23" name="Object 5"/>
          <p:cNvGraphicFramePr/>
          <p:nvPr/>
        </p:nvGraphicFramePr>
        <p:xfrm>
          <a:off x="990720" y="2751120"/>
          <a:ext cx="3809880" cy="22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51120"/>
                    <a:ext cx="3809880" cy="22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6"/>
          <p:cNvSpPr/>
          <p:nvPr/>
        </p:nvSpPr>
        <p:spPr>
          <a:xfrm>
            <a:off x="5029200" y="2895480"/>
            <a:ext cx="38098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 carbon to carbon double bon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27" name="Object 5"/>
          <p:cNvGraphicFramePr/>
          <p:nvPr/>
        </p:nvGraphicFramePr>
        <p:xfrm>
          <a:off x="1143000" y="2514600"/>
          <a:ext cx="35812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35812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6"/>
          <p:cNvSpPr/>
          <p:nvPr/>
        </p:nvSpPr>
        <p:spPr>
          <a:xfrm>
            <a:off x="4952880" y="3200400"/>
            <a:ext cx="3810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 / suga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 C=O group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21:10:01Z</dcterms:created>
  <dc:creator>King James's School</dc:creator>
  <dc:description/>
  <dc:language>en-US</dc:language>
  <cp:lastModifiedBy>RomaK</cp:lastModifiedBy>
  <dcterms:modified xsi:type="dcterms:W3CDTF">2015-09-01T16:24:13Z</dcterms:modified>
  <cp:revision>8</cp:revision>
  <dc:subject/>
  <dc:title>Functional Groups</dc:title>
</cp:coreProperties>
</file>