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7.wmf" ContentType="image/x-wmf"/>
  <Override PartName="/ppt/media/image4.wmf" ContentType="image/x-wmf"/>
  <Override PartName="/ppt/media/image28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5.wmf" ContentType="image/x-wmf"/>
  <Override PartName="/ppt/media/TYPE.WAV" ContentType="audio/x-wav"/>
  <Override PartName="/ppt/media/image12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6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WHOOSH.WAV" ContentType="audio/x-wav"/>
  <Override PartName="/ppt/media/image1.png" ContentType="image/png"/>
  <Override PartName="/ppt/media/image13.wmf" ContentType="image/x-wmf"/>
  <Override PartName="/ppt/media/image14.wmf" ContentType="image/x-wmf"/>
  <Override PartName="/ppt/media/image15.wmf" ContentType="image/x-wmf"/>
  <Override PartName="/ppt/media/image17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E3479-FB02-4882-A152-A09EC24EE5E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Functional Groups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What is the family name?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al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family nam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What family does it belong to ?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alcohol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Only one oxygen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Has an O-H group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amily does it belong to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one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an O-H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What family does it belong to ?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acid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Has 2 oxygens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Has an O-H group 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amily does it belong to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2 oxyg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an O-H grou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What family does it belong to ?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alkane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Only carbon and hydrogen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All single bonds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amily does it belong to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carbon and 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single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What family does it belong to ?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ester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Has 2 oxygens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One oxygen is in a carbon sandwich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Ester loves to eat her carbon sandwich ?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amily does it belong to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2 oxyg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xygen is in a carbon sandw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er loves to eat her carbon sandwich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…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lkane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…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…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lkene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ldehyde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dehy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lkane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lcohol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lkene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alkanes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Only carbon and hydrogen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All single bonds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carbon and 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single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lkene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…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ester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…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lkene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lkane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lcohol 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ldehyde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dehy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lkane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cid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ldehyde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dehy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ester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alkenes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Only carbon and hydrogen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A carbon to carbon double bond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carbon and 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arbon to carbon double b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lcohol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cid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ldehyde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dehy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cid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ester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ester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cid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Well done !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 done 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alcohols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Only one oxygen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Has an O-H group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one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an O-H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Aldehydes / sugars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Only one oxygen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Has a C=O group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dehydes / sug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one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a C=O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Acids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Has 2 oxygens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Has an O-H group 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2 oxyg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an O-H grou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Esters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Has 2 oxygens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One oxygen is in a carbon sandwich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Ester loves to eat her carbon sandwich ?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2 oxyg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xygen is in a carbon sandw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er loves to eat her carbon sandwich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What family does it belong to ?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alkene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Only carbon and hydrogen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A carbon to carbon double bond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amily does it belong to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carbon and 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arbon to carbon double b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What family does it belong to ?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Aldehyde / sugar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Only one oxygen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Has a C=O group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amily does it belong to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dehyde / sug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one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a C=O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FB68-24C1-4550-8488-9D6E6BF41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55EB-EF52-4FC8-AB16-313EF173D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57E4-A057-495D-B65A-7DE827AAA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7B33-8641-464E-BB22-D44B70D82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6B018-E8F9-4A2B-BCED-DDDB69431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62705-3A59-471F-BB1D-33B10FE6D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45337-CF88-4449-9A65-51E783DAE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EE178-239C-4200-9548-9745DA472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1F251-A5EE-44CD-AD76-1CA9BFBD8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7ED22-57A7-436D-ABB4-0A7067C77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EBF61-5985-4910-983B-AB4E4D60D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6A2B-B359-4BF3-A646-60DE0B8CA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F3F6D-08D9-4B47-8600-6CC5DB8C3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E3820-E388-4E88-BFB1-8BF8946DE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F6E7C-8433-47FE-8489-37BFB30F9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E90B8-E615-4278-A7CE-20CED4053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870F6-516E-42F4-863D-630A0AA6C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B908-489A-46F2-A839-4AF98D99C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1F8E-57AE-48AC-8D93-183BF733C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DC92-BF3F-4179-A73F-DE85CCC5E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4B24-0A70-414A-B6E0-CDA97A12C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2397-AA75-44DF-9AF6-7092FA5B9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5B65-9E13-48E4-8336-B0A9F56B7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8F0C-6A12-4D3A-BA3D-87AC0D46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c1c1c"/>
                </a:solidFill>
                <a:latin typeface="Times New Roman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1c1c1c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505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5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505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505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99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395BC-3F95-43D5-89EB-5ECB07F5E771}" type="slidenum"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c1c1c"/>
                </a:solidFill>
                <a:latin typeface="Times New Roman"/>
              </a:endParaRPr>
            </a:p>
          </p:txBody>
        </p:sp>
        <p:pic>
          <p:nvPicPr>
            <p:cNvPr id="47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505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5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505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505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0D85E-ECCA-41C9-9D2E-FA31E0433315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Functional Group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6699"/>
                </a:solidFill>
                <a:latin typeface="Times New Roman"/>
              </a:rPr>
              <a:t>What is the family name?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What family does it belong to ?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31" name="Object 5"/>
          <p:cNvGraphicFramePr/>
          <p:nvPr/>
        </p:nvGraphicFramePr>
        <p:xfrm>
          <a:off x="990720" y="2849400"/>
          <a:ext cx="3504960" cy="207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49400"/>
                    <a:ext cx="3504960" cy="207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Rectangle 6"/>
          <p:cNvSpPr/>
          <p:nvPr/>
        </p:nvSpPr>
        <p:spPr>
          <a:xfrm>
            <a:off x="4876920" y="3200400"/>
            <a:ext cx="3809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cohol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81160" indent="-28116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Only one oxygen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81160" indent="-28116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Has an O-H group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What family does it belong to ?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35" name="Object 5"/>
          <p:cNvGraphicFramePr/>
          <p:nvPr/>
        </p:nvGraphicFramePr>
        <p:xfrm>
          <a:off x="990720" y="2725560"/>
          <a:ext cx="3657600" cy="231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725560"/>
                    <a:ext cx="3657600" cy="23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Rectangle 6"/>
          <p:cNvSpPr/>
          <p:nvPr/>
        </p:nvSpPr>
        <p:spPr>
          <a:xfrm>
            <a:off x="4876920" y="2971800"/>
            <a:ext cx="3809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cid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Has 2 oxygens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Has an O-H group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What family does it belong to ?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39" name="Object 5"/>
          <p:cNvGraphicFramePr/>
          <p:nvPr/>
        </p:nvGraphicFramePr>
        <p:xfrm>
          <a:off x="990720" y="2433600"/>
          <a:ext cx="3809880" cy="290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433600"/>
                    <a:ext cx="3809880" cy="29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Rectangle 6"/>
          <p:cNvSpPr/>
          <p:nvPr/>
        </p:nvSpPr>
        <p:spPr>
          <a:xfrm>
            <a:off x="4876920" y="2819520"/>
            <a:ext cx="38098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kane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Only carbon and hydrogen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l single bonds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What family does it belong to ?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43" name="Object 5"/>
          <p:cNvGraphicFramePr/>
          <p:nvPr/>
        </p:nvGraphicFramePr>
        <p:xfrm>
          <a:off x="990720" y="2946240"/>
          <a:ext cx="3809880" cy="187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946240"/>
                    <a:ext cx="3809880" cy="187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Rectangle 6"/>
          <p:cNvSpPr/>
          <p:nvPr/>
        </p:nvSpPr>
        <p:spPr>
          <a:xfrm>
            <a:off x="4952880" y="2666880"/>
            <a:ext cx="381024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ester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-28440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Has 2 oxygens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-28440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One oxygen is in a carbon sandwich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-28440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Ester loves to eat her carbon sandwich ?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…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47" name="Object 3"/>
          <p:cNvGraphicFramePr/>
          <p:nvPr/>
        </p:nvGraphicFramePr>
        <p:xfrm>
          <a:off x="2743200" y="2286000"/>
          <a:ext cx="3809880" cy="220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286000"/>
                    <a:ext cx="3809880" cy="22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657600" y="5105160"/>
            <a:ext cx="22096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kane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75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…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51" name="Object 3"/>
          <p:cNvGraphicFramePr/>
          <p:nvPr/>
        </p:nvGraphicFramePr>
        <p:xfrm>
          <a:off x="2514600" y="2362320"/>
          <a:ext cx="3809880" cy="22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362320"/>
                    <a:ext cx="3809880" cy="22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352320" y="5181120"/>
            <a:ext cx="22100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kene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75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55" name="Object 3"/>
          <p:cNvGraphicFramePr/>
          <p:nvPr/>
        </p:nvGraphicFramePr>
        <p:xfrm>
          <a:off x="2514600" y="2286000"/>
          <a:ext cx="3809880" cy="227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286000"/>
                    <a:ext cx="3809880" cy="22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428640" y="5028840"/>
            <a:ext cx="19810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dehyde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75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59" name="Object 3"/>
          <p:cNvGraphicFramePr/>
          <p:nvPr/>
        </p:nvGraphicFramePr>
        <p:xfrm>
          <a:off x="2895480" y="1981080"/>
          <a:ext cx="3810240" cy="290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1981080"/>
                    <a:ext cx="3810240" cy="29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9520" y="5028840"/>
            <a:ext cx="21337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kane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75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63" name="Object 3"/>
          <p:cNvGraphicFramePr/>
          <p:nvPr/>
        </p:nvGraphicFramePr>
        <p:xfrm>
          <a:off x="2666880" y="1905120"/>
          <a:ext cx="3810240" cy="293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905120"/>
                    <a:ext cx="3810240" cy="29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9880" y="5028840"/>
            <a:ext cx="19814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cohol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75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67" name="Object 3"/>
          <p:cNvGraphicFramePr/>
          <p:nvPr/>
        </p:nvGraphicFramePr>
        <p:xfrm>
          <a:off x="2514600" y="2743200"/>
          <a:ext cx="3809880" cy="179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743200"/>
                    <a:ext cx="3809880" cy="17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581280" y="5028840"/>
            <a:ext cx="1828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kene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alkane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360" y="3048120"/>
            <a:ext cx="380988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Only carbon and hydrogen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l single bonds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graphicFrame>
        <p:nvGraphicFramePr>
          <p:cNvPr id="100" name="Object 6"/>
          <p:cNvGraphicFramePr/>
          <p:nvPr/>
        </p:nvGraphicFramePr>
        <p:xfrm>
          <a:off x="4572000" y="2438280"/>
          <a:ext cx="3809880" cy="290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438280"/>
                    <a:ext cx="3809880" cy="29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9520" y="5028840"/>
            <a:ext cx="17528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kene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graphicFrame>
        <p:nvGraphicFramePr>
          <p:cNvPr id="172" name="Object 5"/>
          <p:cNvGraphicFramePr/>
          <p:nvPr/>
        </p:nvGraphicFramePr>
        <p:xfrm>
          <a:off x="2895480" y="2743200"/>
          <a:ext cx="3810240" cy="179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743200"/>
                    <a:ext cx="3810240" cy="17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75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…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75" name="Object 3"/>
          <p:cNvGraphicFramePr/>
          <p:nvPr/>
        </p:nvGraphicFramePr>
        <p:xfrm>
          <a:off x="2743200" y="2438280"/>
          <a:ext cx="3809880" cy="223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438280"/>
                    <a:ext cx="3809880" cy="22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505320" y="5028840"/>
            <a:ext cx="17524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ester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75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79" name="Object 3"/>
          <p:cNvGraphicFramePr/>
          <p:nvPr/>
        </p:nvGraphicFramePr>
        <p:xfrm>
          <a:off x="2743200" y="2209680"/>
          <a:ext cx="3809880" cy="227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209680"/>
                    <a:ext cx="3809880" cy="22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733560" y="5028840"/>
            <a:ext cx="19047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kene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75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83" name="Object 3"/>
          <p:cNvGraphicFramePr/>
          <p:nvPr/>
        </p:nvGraphicFramePr>
        <p:xfrm>
          <a:off x="3048120" y="1523880"/>
          <a:ext cx="37036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523880"/>
                    <a:ext cx="37036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114800" y="5638320"/>
            <a:ext cx="19051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kane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75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87" name="Object 3"/>
          <p:cNvGraphicFramePr/>
          <p:nvPr/>
        </p:nvGraphicFramePr>
        <p:xfrm>
          <a:off x="2666880" y="2590920"/>
          <a:ext cx="3810240" cy="15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2590920"/>
                    <a:ext cx="3810240" cy="15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86200" y="5181480"/>
            <a:ext cx="17524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cohol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91" name="Object 3"/>
          <p:cNvGraphicFramePr/>
          <p:nvPr/>
        </p:nvGraphicFramePr>
        <p:xfrm>
          <a:off x="2819520" y="1981080"/>
          <a:ext cx="3809880" cy="285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1981080"/>
                    <a:ext cx="3809880" cy="28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657240" y="5257440"/>
            <a:ext cx="2057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dehyde.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95" name="Object 3"/>
          <p:cNvGraphicFramePr/>
          <p:nvPr/>
        </p:nvGraphicFramePr>
        <p:xfrm>
          <a:off x="2514600" y="2514600"/>
          <a:ext cx="3809880" cy="179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514600"/>
                    <a:ext cx="3809880" cy="17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504960" y="5333760"/>
            <a:ext cx="190476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kane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99" name="Object 3"/>
          <p:cNvGraphicFramePr/>
          <p:nvPr/>
        </p:nvGraphicFramePr>
        <p:xfrm>
          <a:off x="2895480" y="2514600"/>
          <a:ext cx="3810240" cy="183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514600"/>
                    <a:ext cx="3810240" cy="18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038120" y="533376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cid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03" name="Object 3"/>
          <p:cNvGraphicFramePr/>
          <p:nvPr/>
        </p:nvGraphicFramePr>
        <p:xfrm>
          <a:off x="2819520" y="2666880"/>
          <a:ext cx="3809880" cy="18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666880"/>
                    <a:ext cx="3809880" cy="18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733560" y="5257440"/>
            <a:ext cx="19047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dehyde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07" name="Object 3"/>
          <p:cNvGraphicFramePr/>
          <p:nvPr/>
        </p:nvGraphicFramePr>
        <p:xfrm>
          <a:off x="2590920" y="2743200"/>
          <a:ext cx="3809880" cy="137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2743200"/>
                    <a:ext cx="3809880" cy="13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504960" y="4724280"/>
            <a:ext cx="190476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ester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alkene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360" y="2895120"/>
            <a:ext cx="38098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Only carbon and hydrogen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 carbon to carbon double bond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graphicFrame>
        <p:nvGraphicFramePr>
          <p:cNvPr id="104" name="Object 4"/>
          <p:cNvGraphicFramePr/>
          <p:nvPr/>
        </p:nvGraphicFramePr>
        <p:xfrm>
          <a:off x="4952880" y="2743200"/>
          <a:ext cx="3810240" cy="22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2743200"/>
                    <a:ext cx="3810240" cy="22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11" name="Object 3"/>
          <p:cNvGraphicFramePr/>
          <p:nvPr/>
        </p:nvGraphicFramePr>
        <p:xfrm>
          <a:off x="2514600" y="2514600"/>
          <a:ext cx="3809880" cy="187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514600"/>
                    <a:ext cx="3809880" cy="18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657600" y="4876560"/>
            <a:ext cx="19051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cohol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3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3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581280" y="4876560"/>
            <a:ext cx="15242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cid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graphicFrame>
        <p:nvGraphicFramePr>
          <p:cNvPr id="216" name="Object 5"/>
          <p:cNvGraphicFramePr/>
          <p:nvPr/>
        </p:nvGraphicFramePr>
        <p:xfrm>
          <a:off x="2362320" y="2209680"/>
          <a:ext cx="3809880" cy="235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209680"/>
                    <a:ext cx="3809880" cy="23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3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19" name="Object 3"/>
          <p:cNvGraphicFramePr/>
          <p:nvPr/>
        </p:nvGraphicFramePr>
        <p:xfrm>
          <a:off x="2895480" y="2057400"/>
          <a:ext cx="3810240" cy="249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057400"/>
                    <a:ext cx="3810240" cy="24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657240" y="5028840"/>
            <a:ext cx="21337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dehyde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3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3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23" name="Object 3"/>
          <p:cNvGraphicFramePr/>
          <p:nvPr/>
        </p:nvGraphicFramePr>
        <p:xfrm>
          <a:off x="2819520" y="2514600"/>
          <a:ext cx="3809880" cy="214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514600"/>
                    <a:ext cx="3809880" cy="21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809520" y="5257440"/>
            <a:ext cx="16765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cid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3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3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27" name="Object 3"/>
          <p:cNvGraphicFramePr/>
          <p:nvPr/>
        </p:nvGraphicFramePr>
        <p:xfrm>
          <a:off x="2666880" y="2514600"/>
          <a:ext cx="3810240" cy="19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2514600"/>
                    <a:ext cx="3810240" cy="19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809520" y="5105160"/>
            <a:ext cx="16002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ester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3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3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31" name="Object 3"/>
          <p:cNvGraphicFramePr/>
          <p:nvPr/>
        </p:nvGraphicFramePr>
        <p:xfrm>
          <a:off x="2438280" y="2819520"/>
          <a:ext cx="3810240" cy="161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2819520"/>
                    <a:ext cx="3810240" cy="16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809520" y="472428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ester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3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3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038480" y="4876560"/>
            <a:ext cx="15242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cid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graphicFrame>
        <p:nvGraphicFramePr>
          <p:cNvPr id="236" name="Object 10"/>
          <p:cNvGraphicFramePr/>
          <p:nvPr/>
        </p:nvGraphicFramePr>
        <p:xfrm>
          <a:off x="2514600" y="2438280"/>
          <a:ext cx="3728880" cy="179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438280"/>
                    <a:ext cx="3728880" cy="17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3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3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819160" y="266652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Well done !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alcohol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360" y="3200400"/>
            <a:ext cx="38098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Only one oxygen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Has an O-H group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graphicFrame>
        <p:nvGraphicFramePr>
          <p:cNvPr id="108" name="Object 4"/>
          <p:cNvGraphicFramePr/>
          <p:nvPr/>
        </p:nvGraphicFramePr>
        <p:xfrm>
          <a:off x="4952880" y="2849400"/>
          <a:ext cx="3505320" cy="207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2849400"/>
                    <a:ext cx="3505320" cy="207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Aldehydes / sugar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90360" y="3200040"/>
            <a:ext cx="38098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Only one oxygen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Has a C=O group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graphicFrame>
        <p:nvGraphicFramePr>
          <p:cNvPr id="112" name="Object 4"/>
          <p:cNvGraphicFramePr/>
          <p:nvPr/>
        </p:nvGraphicFramePr>
        <p:xfrm>
          <a:off x="5105520" y="2479680"/>
          <a:ext cx="3352680" cy="28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2479680"/>
                    <a:ext cx="3352680" cy="28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Acid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90360" y="3276720"/>
            <a:ext cx="380988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Has 2 oxygens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Has an O-H group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graphicFrame>
        <p:nvGraphicFramePr>
          <p:cNvPr id="116" name="Object 4"/>
          <p:cNvGraphicFramePr/>
          <p:nvPr/>
        </p:nvGraphicFramePr>
        <p:xfrm>
          <a:off x="5105520" y="2725560"/>
          <a:ext cx="3581280" cy="231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2725560"/>
                    <a:ext cx="3581280" cy="23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Ester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0360" y="2666880"/>
            <a:ext cx="380988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Has 2 oxygens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One oxygen is in a carbon sandwich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Ester loves to eat her carbon sandwich ?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graphicFrame>
        <p:nvGraphicFramePr>
          <p:cNvPr id="120" name="Object 4"/>
          <p:cNvGraphicFramePr/>
          <p:nvPr/>
        </p:nvGraphicFramePr>
        <p:xfrm>
          <a:off x="4952880" y="2946240"/>
          <a:ext cx="3733920" cy="187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2946240"/>
                    <a:ext cx="3733920" cy="187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What family does it belong to ?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23" name="Object 5"/>
          <p:cNvGraphicFramePr/>
          <p:nvPr/>
        </p:nvGraphicFramePr>
        <p:xfrm>
          <a:off x="990720" y="2751120"/>
          <a:ext cx="3809880" cy="22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751120"/>
                    <a:ext cx="3809880" cy="22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Rectangle 6"/>
          <p:cNvSpPr/>
          <p:nvPr/>
        </p:nvSpPr>
        <p:spPr>
          <a:xfrm>
            <a:off x="5029200" y="2895480"/>
            <a:ext cx="380988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kene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Only carbon and hydrogen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 carbon to carbon double bond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What family does it belong to ?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27" name="Object 5"/>
          <p:cNvGraphicFramePr/>
          <p:nvPr/>
        </p:nvGraphicFramePr>
        <p:xfrm>
          <a:off x="1143000" y="2514600"/>
          <a:ext cx="3581280" cy="28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514600"/>
                    <a:ext cx="3581280" cy="28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Rectangle 6"/>
          <p:cNvSpPr/>
          <p:nvPr/>
        </p:nvSpPr>
        <p:spPr>
          <a:xfrm>
            <a:off x="4952880" y="3200400"/>
            <a:ext cx="38102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dehyde / sugar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Only one oxygen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Has a C=O group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7T21:10:01Z</dcterms:created>
  <dc:creator>King James's School</dc:creator>
  <dc:description/>
  <dc:language>en-US</dc:language>
  <cp:lastModifiedBy>RomaK</cp:lastModifiedBy>
  <dcterms:modified xsi:type="dcterms:W3CDTF">2015-09-01T16:24:13Z</dcterms:modified>
  <cp:revision>8</cp:revision>
  <dc:subject/>
  <dc:title>Functional Groups</dc:title>
</cp:coreProperties>
</file>