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24.wmf" ContentType="image/x-wmf"/>
  <Override PartName="/ppt/media/image27.wmf" ContentType="image/x-wmf"/>
  <Override PartName="/ppt/media/image4.wmf" ContentType="image/x-wmf"/>
  <Override PartName="/ppt/media/image28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5.wmf" ContentType="image/x-wmf"/>
  <Override PartName="/ppt/media/TYPE.WAV" ContentType="audio/x-wav"/>
  <Override PartName="/ppt/media/image12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6.wmf" ContentType="image/x-wmf"/>
  <Override PartName="/ppt/media/image3.wmf" ContentType="image/x-wmf"/>
  <Override PartName="/ppt/media/image26.wmf" ContentType="image/x-wmf"/>
  <Override PartName="/ppt/media/image25.wmf" ContentType="image/x-wmf"/>
  <Override PartName="/ppt/media/WHOOSH.WAV" ContentType="audio/x-wav"/>
  <Override PartName="/ppt/media/image1.png" ContentType="image/png"/>
  <Override PartName="/ppt/media/image13.wmf" ContentType="image/x-wmf"/>
  <Override PartName="/ppt/media/image14.wmf" ContentType="image/x-wmf"/>
  <Override PartName="/ppt/media/image15.wmf" ContentType="image/x-wmf"/>
  <Override PartName="/ppt/media/image17.wmf" ContentType="image/x-wmf"/>
  <Override PartName="/ppt/media/image2.jpeg" ContentType="image/jpeg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media/image2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83B45-D0B8-466F-9927-A413AFCACDE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Functional Groups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What is the family name?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al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family nam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What family does it belong to ?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alcohol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Only one oxygen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Has an O-H group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family does it belong to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one oxy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an O-H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What family does it belong to ?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acid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Has 2 oxygens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Has an O-H group 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family does it belong to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2 oxyg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an O-H grou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What family does it belong to ?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alkane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Only carbon and hydrogen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All single bonds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family does it belong to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k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carbon and hydro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single b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What family does it belong to ?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ester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Has 2 oxygens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One oxygen is in a carbon sandwich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Ester loves to eat her carbon sandwich ?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family does it belong to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2 oxyg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xygen is in a carbon sandw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ter loves to eat her carbon sandwich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This is an …..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alkane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n …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k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This is an ….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alkene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n 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k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aldehyde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dehy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alkane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k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alcohol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alkene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k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alkanes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Only carbon and hydrogen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All single bonds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k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carbon and hydro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single b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alkene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k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This is an …..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ester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n …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alkene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k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alkane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k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Alcohol 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coh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Aldehyde.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dehy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alkane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k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acid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aldehyde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dehy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ester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alkenes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Only carbon and hydrogen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A carbon to carbon double bond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ke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carbon and hydro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arbon to carbon double b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alcohol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acid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aldehyde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dehy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acid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ester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ester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acid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Well done !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 done 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alcohols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Only one oxygen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Has an O-H group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coh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one oxy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an O-H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Aldehydes / sugars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Only one oxygen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Has a C=O group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dehydes / sug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one oxy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a C=O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Acids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Has 2 oxygens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Has an O-H group 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2 oxyg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an O-H grou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Esters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Has 2 oxygens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One oxygen is in a carbon sandwich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Ester loves to eat her carbon sandwich ?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2 oxyg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xygen is in a carbon sandw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ter loves to eat her carbon sandwich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What family does it belong to ?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alkene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Only carbon and hydrogen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A carbon to carbon double bond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family does it belong to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k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carbon and hydro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arbon to carbon double b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What family does it belong to ?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Aldehyde / sugar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Only one oxygen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Has a C=O group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family does it belong to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dehyde / sug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one oxy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a C=O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37F1-1CB1-4A2F-907C-C88A1C0A9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F5C3-ED8B-4C3D-99DB-66F151C90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86DE-C334-4DEC-BBE3-4B6651422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C22F-DAAE-49C6-B6A8-60F79F542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16512-F086-41DF-9105-C31858C0A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F2E09-A0B2-4B3E-B649-C46280915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BB0C8-63A2-4EB4-A513-087D55935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F2CB3-F81C-4005-89F9-0F43D0716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A1A0C-B0BE-4C6B-A0EB-035E71BE5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98FC1-D42E-46B9-9DC6-F9A379DBE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CEB79-0B05-4F8C-A6AF-1CCEBE887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9B6D-079B-48E2-B5FC-7A2D377EC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70EE5-EF89-4D22-A157-17062AEB8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4C645-3BBD-4D87-A94F-9E724B745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8A3D8-2AC8-4C96-A33A-A782E0DB7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BB155-C040-419D-B6BA-681FB8B2A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47CBF-FD5D-49E0-85CF-0AF3C068C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9203-7DA4-4D43-8FF5-C16DC8765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E458-6A15-4498-95B4-91C099298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54A4-B77A-4638-BB62-16A2D0A92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B367-1BC8-4D8F-B2C4-E21AC8142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100C-5FCF-4471-A059-24AF38AE4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749F-859A-4676-A411-E5F758346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0E0D-4622-414B-A49C-2DB3AFE0A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c1c1c"/>
                </a:solidFill>
                <a:latin typeface="Times New Roman"/>
              </a:endParaRPr>
            </a:p>
          </p:txBody>
        </p:sp>
        <p:pic>
          <p:nvPicPr>
            <p:cNvPr id="2" name="Picture 4" descr="minispir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Line 5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1c1c1c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505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50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505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505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1c1c1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1c1c1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6699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BB459-C92E-452D-ADA7-E4B501A7C850}" type="slidenum">
              <a:rPr b="0" lang="en-US" sz="1400" spc="-1" strike="noStrike">
                <a:solidFill>
                  <a:srgbClr val="66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c1c1c"/>
                </a:solidFill>
                <a:latin typeface="Times New Roman"/>
              </a:endParaRPr>
            </a:p>
          </p:txBody>
        </p:sp>
        <p:pic>
          <p:nvPicPr>
            <p:cNvPr id="47" name="Picture 4" descr="minispir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505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50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505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505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1c1c1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1c1c1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B4798-D64E-4496-AFAF-5148012222BC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Functional Groups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6699"/>
                </a:solidFill>
                <a:latin typeface="Times New Roman"/>
              </a:rPr>
              <a:t>What is the family name?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What family does it belong to ?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31" name="Object 5"/>
          <p:cNvGraphicFramePr/>
          <p:nvPr/>
        </p:nvGraphicFramePr>
        <p:xfrm>
          <a:off x="990720" y="2849400"/>
          <a:ext cx="3504960" cy="207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49400"/>
                    <a:ext cx="3504960" cy="207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Rectangle 6"/>
          <p:cNvSpPr/>
          <p:nvPr/>
        </p:nvSpPr>
        <p:spPr>
          <a:xfrm>
            <a:off x="4876920" y="3200400"/>
            <a:ext cx="38098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alcohol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281160" indent="-28116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Only one oxygen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281160" indent="-28116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Has an O-H group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What family does it belong to ?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35" name="Object 5"/>
          <p:cNvGraphicFramePr/>
          <p:nvPr/>
        </p:nvGraphicFramePr>
        <p:xfrm>
          <a:off x="990720" y="2725560"/>
          <a:ext cx="3657600" cy="231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725560"/>
                    <a:ext cx="3657600" cy="23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Rectangle 6"/>
          <p:cNvSpPr/>
          <p:nvPr/>
        </p:nvSpPr>
        <p:spPr>
          <a:xfrm>
            <a:off x="4876920" y="2971800"/>
            <a:ext cx="3809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acid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Has 2 oxygens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Has an O-H group 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What family does it belong to ?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39" name="Object 5"/>
          <p:cNvGraphicFramePr/>
          <p:nvPr/>
        </p:nvGraphicFramePr>
        <p:xfrm>
          <a:off x="990720" y="2433600"/>
          <a:ext cx="3809880" cy="290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433600"/>
                    <a:ext cx="3809880" cy="290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Rectangle 6"/>
          <p:cNvSpPr/>
          <p:nvPr/>
        </p:nvSpPr>
        <p:spPr>
          <a:xfrm>
            <a:off x="4876920" y="2819520"/>
            <a:ext cx="38098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alkane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Only carbon and hydrogen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All single bonds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What family does it belong to ?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43" name="Object 5"/>
          <p:cNvGraphicFramePr/>
          <p:nvPr/>
        </p:nvGraphicFramePr>
        <p:xfrm>
          <a:off x="990720" y="2946240"/>
          <a:ext cx="3809880" cy="187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946240"/>
                    <a:ext cx="3809880" cy="187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Rectangle 6"/>
          <p:cNvSpPr/>
          <p:nvPr/>
        </p:nvSpPr>
        <p:spPr>
          <a:xfrm>
            <a:off x="4952880" y="2666880"/>
            <a:ext cx="381024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ester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284400" indent="-28440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Has 2 oxygens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284400" indent="-28440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One oxygen is in a carbon sandwich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284400" indent="-28440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Ester loves to eat her carbon sandwich ?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This is an ….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47" name="Object 3"/>
          <p:cNvGraphicFramePr/>
          <p:nvPr/>
        </p:nvGraphicFramePr>
        <p:xfrm>
          <a:off x="2743200" y="2286000"/>
          <a:ext cx="3809880" cy="220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2286000"/>
                    <a:ext cx="3809880" cy="220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657600" y="5105160"/>
            <a:ext cx="220968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alkane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75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This is an …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51" name="Object 3"/>
          <p:cNvGraphicFramePr/>
          <p:nvPr/>
        </p:nvGraphicFramePr>
        <p:xfrm>
          <a:off x="2514600" y="2362320"/>
          <a:ext cx="3809880" cy="226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2362320"/>
                    <a:ext cx="3809880" cy="22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352320" y="5181120"/>
            <a:ext cx="221004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alkene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75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This is an ..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55" name="Object 3"/>
          <p:cNvGraphicFramePr/>
          <p:nvPr/>
        </p:nvGraphicFramePr>
        <p:xfrm>
          <a:off x="2514600" y="2286000"/>
          <a:ext cx="3809880" cy="227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2286000"/>
                    <a:ext cx="3809880" cy="22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428640" y="5028840"/>
            <a:ext cx="19810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aldehyde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75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This is an ..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59" name="Object 3"/>
          <p:cNvGraphicFramePr/>
          <p:nvPr/>
        </p:nvGraphicFramePr>
        <p:xfrm>
          <a:off x="2895480" y="1981080"/>
          <a:ext cx="3810240" cy="290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1981080"/>
                    <a:ext cx="3810240" cy="290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9520" y="5028840"/>
            <a:ext cx="21337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alkane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75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This is an ..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63" name="Object 3"/>
          <p:cNvGraphicFramePr/>
          <p:nvPr/>
        </p:nvGraphicFramePr>
        <p:xfrm>
          <a:off x="2666880" y="1905120"/>
          <a:ext cx="3810240" cy="293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1905120"/>
                    <a:ext cx="3810240" cy="293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809880" y="5028840"/>
            <a:ext cx="198144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alcohol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75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This is an ..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67" name="Object 3"/>
          <p:cNvGraphicFramePr/>
          <p:nvPr/>
        </p:nvGraphicFramePr>
        <p:xfrm>
          <a:off x="2514600" y="2743200"/>
          <a:ext cx="3809880" cy="179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2743200"/>
                    <a:ext cx="3809880" cy="179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581280" y="5028840"/>
            <a:ext cx="18288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alkene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alkanes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90360" y="3048120"/>
            <a:ext cx="380988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Only carbon and hydrogen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All single bonds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graphicFrame>
        <p:nvGraphicFramePr>
          <p:cNvPr id="100" name="Object 6"/>
          <p:cNvGraphicFramePr/>
          <p:nvPr/>
        </p:nvGraphicFramePr>
        <p:xfrm>
          <a:off x="4572000" y="2438280"/>
          <a:ext cx="3809880" cy="290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2438280"/>
                    <a:ext cx="3809880" cy="290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This is an ..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809520" y="5028840"/>
            <a:ext cx="175284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alkene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graphicFrame>
        <p:nvGraphicFramePr>
          <p:cNvPr id="172" name="Object 5"/>
          <p:cNvGraphicFramePr/>
          <p:nvPr/>
        </p:nvGraphicFramePr>
        <p:xfrm>
          <a:off x="2895480" y="2743200"/>
          <a:ext cx="3810240" cy="179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2743200"/>
                    <a:ext cx="3810240" cy="179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75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This is an ….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75" name="Object 3"/>
          <p:cNvGraphicFramePr/>
          <p:nvPr/>
        </p:nvGraphicFramePr>
        <p:xfrm>
          <a:off x="2743200" y="2438280"/>
          <a:ext cx="3809880" cy="223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2438280"/>
                    <a:ext cx="3809880" cy="223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505320" y="5028840"/>
            <a:ext cx="175248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ester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75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This is an ..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79" name="Object 3"/>
          <p:cNvGraphicFramePr/>
          <p:nvPr/>
        </p:nvGraphicFramePr>
        <p:xfrm>
          <a:off x="2743200" y="2209680"/>
          <a:ext cx="3809880" cy="227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2209680"/>
                    <a:ext cx="3809880" cy="227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733560" y="5028840"/>
            <a:ext cx="190476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alkene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" dur="75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This is an ..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83" name="Object 3"/>
          <p:cNvGraphicFramePr/>
          <p:nvPr/>
        </p:nvGraphicFramePr>
        <p:xfrm>
          <a:off x="3048120" y="1523880"/>
          <a:ext cx="370368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1523880"/>
                    <a:ext cx="37036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114800" y="5638320"/>
            <a:ext cx="19051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alkane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75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This is an ..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87" name="Object 3"/>
          <p:cNvGraphicFramePr/>
          <p:nvPr/>
        </p:nvGraphicFramePr>
        <p:xfrm>
          <a:off x="2666880" y="2590920"/>
          <a:ext cx="3810240" cy="154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2590920"/>
                    <a:ext cx="3810240" cy="15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86200" y="5181480"/>
            <a:ext cx="175248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Alcohol 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This is an ..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91" name="Object 3"/>
          <p:cNvGraphicFramePr/>
          <p:nvPr/>
        </p:nvGraphicFramePr>
        <p:xfrm>
          <a:off x="2819520" y="1981080"/>
          <a:ext cx="3809880" cy="285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1981080"/>
                    <a:ext cx="3809880" cy="285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657240" y="5257440"/>
            <a:ext cx="20574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Aldehyde.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This is an ..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95" name="Object 3"/>
          <p:cNvGraphicFramePr/>
          <p:nvPr/>
        </p:nvGraphicFramePr>
        <p:xfrm>
          <a:off x="2514600" y="2514600"/>
          <a:ext cx="3809880" cy="179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2514600"/>
                    <a:ext cx="3809880" cy="179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504960" y="5333760"/>
            <a:ext cx="190476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alkane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This is an ..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99" name="Object 3"/>
          <p:cNvGraphicFramePr/>
          <p:nvPr/>
        </p:nvGraphicFramePr>
        <p:xfrm>
          <a:off x="2895480" y="2514600"/>
          <a:ext cx="3810240" cy="183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2514600"/>
                    <a:ext cx="3810240" cy="183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038120" y="5333760"/>
            <a:ext cx="16002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acid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This is an ..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203" name="Object 3"/>
          <p:cNvGraphicFramePr/>
          <p:nvPr/>
        </p:nvGraphicFramePr>
        <p:xfrm>
          <a:off x="2819520" y="2666880"/>
          <a:ext cx="3809880" cy="18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2666880"/>
                    <a:ext cx="3809880" cy="18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733560" y="5257440"/>
            <a:ext cx="190476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aldehyde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This is an ..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207" name="Object 3"/>
          <p:cNvGraphicFramePr/>
          <p:nvPr/>
        </p:nvGraphicFramePr>
        <p:xfrm>
          <a:off x="2590920" y="2743200"/>
          <a:ext cx="3809880" cy="137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2743200"/>
                    <a:ext cx="3809880" cy="137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504960" y="4724280"/>
            <a:ext cx="190476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ester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alkenes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90360" y="2895120"/>
            <a:ext cx="38098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Only carbon and hydrogen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A carbon to carbon double bond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graphicFrame>
        <p:nvGraphicFramePr>
          <p:cNvPr id="104" name="Object 4"/>
          <p:cNvGraphicFramePr/>
          <p:nvPr/>
        </p:nvGraphicFramePr>
        <p:xfrm>
          <a:off x="4952880" y="2743200"/>
          <a:ext cx="3810240" cy="226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2880" y="2743200"/>
                    <a:ext cx="3810240" cy="22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This is an ..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211" name="Object 3"/>
          <p:cNvGraphicFramePr/>
          <p:nvPr/>
        </p:nvGraphicFramePr>
        <p:xfrm>
          <a:off x="2514600" y="2514600"/>
          <a:ext cx="3809880" cy="187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2514600"/>
                    <a:ext cx="3809880" cy="18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657600" y="4876560"/>
            <a:ext cx="19051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alcohol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3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3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This is an ..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581280" y="4876560"/>
            <a:ext cx="152424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acid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graphicFrame>
        <p:nvGraphicFramePr>
          <p:cNvPr id="216" name="Object 5"/>
          <p:cNvGraphicFramePr/>
          <p:nvPr/>
        </p:nvGraphicFramePr>
        <p:xfrm>
          <a:off x="2362320" y="2209680"/>
          <a:ext cx="3809880" cy="235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2209680"/>
                    <a:ext cx="3809880" cy="235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3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3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This is an ..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219" name="Object 3"/>
          <p:cNvGraphicFramePr/>
          <p:nvPr/>
        </p:nvGraphicFramePr>
        <p:xfrm>
          <a:off x="2895480" y="2057400"/>
          <a:ext cx="3810240" cy="249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2057400"/>
                    <a:ext cx="3810240" cy="249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657240" y="5028840"/>
            <a:ext cx="21337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aldehyde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3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3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This is an ..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223" name="Object 3"/>
          <p:cNvGraphicFramePr/>
          <p:nvPr/>
        </p:nvGraphicFramePr>
        <p:xfrm>
          <a:off x="2819520" y="2514600"/>
          <a:ext cx="3809880" cy="214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2514600"/>
                    <a:ext cx="3809880" cy="21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809520" y="5257440"/>
            <a:ext cx="16765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acid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3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3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This is an ..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227" name="Object 3"/>
          <p:cNvGraphicFramePr/>
          <p:nvPr/>
        </p:nvGraphicFramePr>
        <p:xfrm>
          <a:off x="2666880" y="2514600"/>
          <a:ext cx="3810240" cy="191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2514600"/>
                    <a:ext cx="3810240" cy="191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809520" y="5105160"/>
            <a:ext cx="16002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ester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3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3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This is an ..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231" name="Object 3"/>
          <p:cNvGraphicFramePr/>
          <p:nvPr/>
        </p:nvGraphicFramePr>
        <p:xfrm>
          <a:off x="2438280" y="2819520"/>
          <a:ext cx="3810240" cy="161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2819520"/>
                    <a:ext cx="3810240" cy="161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809520" y="4724280"/>
            <a:ext cx="16002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ester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3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3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This is an ..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038480" y="4876560"/>
            <a:ext cx="152424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acid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graphicFrame>
        <p:nvGraphicFramePr>
          <p:cNvPr id="236" name="Object 10"/>
          <p:cNvGraphicFramePr/>
          <p:nvPr/>
        </p:nvGraphicFramePr>
        <p:xfrm>
          <a:off x="2514600" y="2438280"/>
          <a:ext cx="3728880" cy="179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2438280"/>
                    <a:ext cx="3728880" cy="179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3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3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819160" y="2666520"/>
            <a:ext cx="3429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Well done !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alcohols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90360" y="3200400"/>
            <a:ext cx="38098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Only one oxygen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Has an O-H group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graphicFrame>
        <p:nvGraphicFramePr>
          <p:cNvPr id="108" name="Object 4"/>
          <p:cNvGraphicFramePr/>
          <p:nvPr/>
        </p:nvGraphicFramePr>
        <p:xfrm>
          <a:off x="4952880" y="2849400"/>
          <a:ext cx="3505320" cy="207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2880" y="2849400"/>
                    <a:ext cx="3505320" cy="207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Aldehydes / sugars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90360" y="3200040"/>
            <a:ext cx="380988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Only one oxygen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Has a C=O group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graphicFrame>
        <p:nvGraphicFramePr>
          <p:cNvPr id="112" name="Object 4"/>
          <p:cNvGraphicFramePr/>
          <p:nvPr/>
        </p:nvGraphicFramePr>
        <p:xfrm>
          <a:off x="5105520" y="2479680"/>
          <a:ext cx="3352680" cy="281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5520" y="2479680"/>
                    <a:ext cx="3352680" cy="281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Acids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90360" y="3276720"/>
            <a:ext cx="380988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Has 2 oxygens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Has an O-H group 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graphicFrame>
        <p:nvGraphicFramePr>
          <p:cNvPr id="116" name="Object 4"/>
          <p:cNvGraphicFramePr/>
          <p:nvPr/>
        </p:nvGraphicFramePr>
        <p:xfrm>
          <a:off x="5105520" y="2725560"/>
          <a:ext cx="3581280" cy="231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5520" y="2725560"/>
                    <a:ext cx="3581280" cy="23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Esters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90360" y="2666880"/>
            <a:ext cx="380988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Has 2 oxygens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One oxygen is in a carbon sandwich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Ester loves to eat her carbon sandwich ?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graphicFrame>
        <p:nvGraphicFramePr>
          <p:cNvPr id="120" name="Object 4"/>
          <p:cNvGraphicFramePr/>
          <p:nvPr/>
        </p:nvGraphicFramePr>
        <p:xfrm>
          <a:off x="4952880" y="2946240"/>
          <a:ext cx="3733920" cy="187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2880" y="2946240"/>
                    <a:ext cx="3733920" cy="187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What family does it belong to ?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23" name="Object 5"/>
          <p:cNvGraphicFramePr/>
          <p:nvPr/>
        </p:nvGraphicFramePr>
        <p:xfrm>
          <a:off x="990720" y="2751120"/>
          <a:ext cx="3809880" cy="226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751120"/>
                    <a:ext cx="3809880" cy="22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Rectangle 6"/>
          <p:cNvSpPr/>
          <p:nvPr/>
        </p:nvSpPr>
        <p:spPr>
          <a:xfrm>
            <a:off x="5029200" y="2895480"/>
            <a:ext cx="380988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alkene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Only carbon and hydrogen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A carbon to carbon double bond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What family does it belong to ?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27" name="Object 5"/>
          <p:cNvGraphicFramePr/>
          <p:nvPr/>
        </p:nvGraphicFramePr>
        <p:xfrm>
          <a:off x="1143000" y="2514600"/>
          <a:ext cx="3581280" cy="281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514600"/>
                    <a:ext cx="3581280" cy="281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Rectangle 6"/>
          <p:cNvSpPr/>
          <p:nvPr/>
        </p:nvSpPr>
        <p:spPr>
          <a:xfrm>
            <a:off x="4952880" y="3200400"/>
            <a:ext cx="381024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Aldehyde / sugar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Only one oxygen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Has a C=O group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7T21:10:01Z</dcterms:created>
  <dc:creator>King James's School</dc:creator>
  <dc:description/>
  <dc:language>en-US</dc:language>
  <cp:lastModifiedBy>RomaK</cp:lastModifiedBy>
  <dcterms:modified xsi:type="dcterms:W3CDTF">2015-09-01T16:24:13Z</dcterms:modified>
  <cp:revision>8</cp:revision>
  <dc:subject/>
  <dc:title>Functional Groups</dc:title>
</cp:coreProperties>
</file>