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5.wmf" ContentType="image/x-wmf"/>
  <Override PartName="/ppt/media/TYPE.WAV" ContentType="audio/x-wav"/>
  <Override PartName="/ppt/media/image12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6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WHOOSH.WAV" ContentType="audio/x-wav"/>
  <Override PartName="/ppt/media/image1.png" ContentType="image/png"/>
  <Override PartName="/ppt/media/image13.wmf" ContentType="image/x-wmf"/>
  <Override PartName="/ppt/media/image14.wmf" ContentType="image/x-wmf"/>
  <Override PartName="/ppt/media/image15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DE8F-0382-42AE-997E-FDB80C46DF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Functional Group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is the family name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amily na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…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cohol 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ene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c1c1c"/>
                </a:solidFill>
                <a:latin typeface="Times New Roman"/>
              </a:rPr>
              <a:t>Well done !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done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dehydes / sugar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s / sug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n O-H gro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2 oxy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xygen is in a carbon sandw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r loves to eat her carbon sandwich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carbon and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rbon to carbon double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Aldehyde / sugar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mily does it belong to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dehyde /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C=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092F-BB33-4355-BB4A-F6FA980B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DDEB-3679-4A18-ACBB-0370912A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C48F-BDF9-48FE-BB3E-BBD8D57D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5A1B-F534-404D-8095-CF3D64CE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E9CD-AE41-4E85-ADFA-A0B7A08F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90D2-5D03-42AC-9B94-BA60B77B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3BFA-56CF-4D9D-8C82-73CF7313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5450-A212-4483-B649-55133489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E912-ED35-4782-AA00-90BF9019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E27A-3AC9-4677-93ED-50353620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05CD-9586-4DF4-BC7C-2E77C25E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E0DF-3BE0-4086-881D-D6E972CD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88A1-FC73-44B7-9C82-E51B1765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D196-17C7-4DBD-9E77-C75F8040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DBD8-3DAE-4092-AA01-01D93A41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66AC-1ECA-4133-ADFC-15C1C40C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0944-EE42-437F-9FA9-9D0C89C6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3448-C716-4BDE-89D0-57DB6BB5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AE9F-784F-4B58-92C4-7F0FF319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2FB6-FB92-485E-BEFE-2A6CAFDC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66F6-243E-46FC-B3BA-44EEE5D3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BD01-9BBF-43A4-A583-DF0500B6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6072-56D2-48F0-B0B1-243BC2DF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8EB1-2510-4B33-B6A1-EA780E4E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5FA4-0ECD-4059-BE41-E1B59C3B6852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505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847B-7704-4B06-B4E5-A163B3D03E8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Functional Group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Times New Roman"/>
              </a:rPr>
              <a:t>What is the family name?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1" name="Object 5"/>
          <p:cNvGraphicFramePr/>
          <p:nvPr/>
        </p:nvGraphicFramePr>
        <p:xfrm>
          <a:off x="990720" y="2849400"/>
          <a:ext cx="3504960" cy="20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49400"/>
                    <a:ext cx="3504960" cy="20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6"/>
          <p:cNvSpPr/>
          <p:nvPr/>
        </p:nvSpPr>
        <p:spPr>
          <a:xfrm>
            <a:off x="4876920" y="3200400"/>
            <a:ext cx="3809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990720" y="2725560"/>
          <a:ext cx="365760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25560"/>
                    <a:ext cx="365760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6"/>
          <p:cNvSpPr/>
          <p:nvPr/>
        </p:nvSpPr>
        <p:spPr>
          <a:xfrm>
            <a:off x="4876920" y="2971800"/>
            <a:ext cx="3809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9" name="Object 5"/>
          <p:cNvGraphicFramePr/>
          <p:nvPr/>
        </p:nvGraphicFramePr>
        <p:xfrm>
          <a:off x="990720" y="2433600"/>
          <a:ext cx="380988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3600"/>
                    <a:ext cx="380988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876920" y="2819520"/>
            <a:ext cx="38098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3" name="Object 5"/>
          <p:cNvGraphicFramePr/>
          <p:nvPr/>
        </p:nvGraphicFramePr>
        <p:xfrm>
          <a:off x="990720" y="2946240"/>
          <a:ext cx="3809880" cy="18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946240"/>
                    <a:ext cx="3809880" cy="18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6"/>
          <p:cNvSpPr/>
          <p:nvPr/>
        </p:nvSpPr>
        <p:spPr>
          <a:xfrm>
            <a:off x="4952880" y="2666880"/>
            <a:ext cx="38102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…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7" name="Object 3"/>
          <p:cNvGraphicFramePr/>
          <p:nvPr/>
        </p:nvGraphicFramePr>
        <p:xfrm>
          <a:off x="2743200" y="2286000"/>
          <a:ext cx="380988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86000"/>
                    <a:ext cx="380988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5105160"/>
            <a:ext cx="22096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…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1" name="Object 3"/>
          <p:cNvGraphicFramePr/>
          <p:nvPr/>
        </p:nvGraphicFramePr>
        <p:xfrm>
          <a:off x="2514600" y="2362320"/>
          <a:ext cx="380988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380988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52320" y="5181120"/>
            <a:ext cx="2210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5" name="Object 3"/>
          <p:cNvGraphicFramePr/>
          <p:nvPr/>
        </p:nvGraphicFramePr>
        <p:xfrm>
          <a:off x="2514600" y="2286000"/>
          <a:ext cx="380988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286000"/>
                    <a:ext cx="380988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8640" y="5028840"/>
            <a:ext cx="1981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75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9" name="Object 3"/>
          <p:cNvGraphicFramePr/>
          <p:nvPr/>
        </p:nvGraphicFramePr>
        <p:xfrm>
          <a:off x="2895480" y="1981080"/>
          <a:ext cx="3810240" cy="29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981080"/>
                    <a:ext cx="381024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9520" y="50288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75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63" name="Object 3"/>
          <p:cNvGraphicFramePr/>
          <p:nvPr/>
        </p:nvGraphicFramePr>
        <p:xfrm>
          <a:off x="2666880" y="1905120"/>
          <a:ext cx="3810240" cy="29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905120"/>
                    <a:ext cx="3810240" cy="29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9880" y="5028840"/>
            <a:ext cx="1981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75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67" name="Object 3"/>
          <p:cNvGraphicFramePr/>
          <p:nvPr/>
        </p:nvGraphicFramePr>
        <p:xfrm>
          <a:off x="2514600" y="2743200"/>
          <a:ext cx="3809880" cy="17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743200"/>
                    <a:ext cx="380988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81280" y="50288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kan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3048120"/>
            <a:ext cx="38098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l single bond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00" name="Object 6"/>
          <p:cNvGraphicFramePr/>
          <p:nvPr/>
        </p:nvGraphicFramePr>
        <p:xfrm>
          <a:off x="4572000" y="2438280"/>
          <a:ext cx="3809880" cy="29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438280"/>
                    <a:ext cx="380988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9520" y="5028840"/>
            <a:ext cx="17528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72" name="Object 5"/>
          <p:cNvGraphicFramePr/>
          <p:nvPr/>
        </p:nvGraphicFramePr>
        <p:xfrm>
          <a:off x="2895480" y="2743200"/>
          <a:ext cx="3810240" cy="17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743200"/>
                    <a:ext cx="381024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75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…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75" name="Object 3"/>
          <p:cNvGraphicFramePr/>
          <p:nvPr/>
        </p:nvGraphicFramePr>
        <p:xfrm>
          <a:off x="2743200" y="2438280"/>
          <a:ext cx="3809880" cy="22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3809880" cy="22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505320" y="5028840"/>
            <a:ext cx="1752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75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2743200" y="2209680"/>
          <a:ext cx="3809880" cy="22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09680"/>
                    <a:ext cx="380988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733560" y="5028840"/>
            <a:ext cx="1904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75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3048120" y="1523880"/>
          <a:ext cx="3703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523880"/>
                    <a:ext cx="3703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14800" y="563832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7" name="Object 3"/>
          <p:cNvGraphicFramePr/>
          <p:nvPr/>
        </p:nvGraphicFramePr>
        <p:xfrm>
          <a:off x="2666880" y="2590920"/>
          <a:ext cx="381024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90920"/>
                    <a:ext cx="381024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86200" y="5181480"/>
            <a:ext cx="17524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1" name="Object 3"/>
          <p:cNvGraphicFramePr/>
          <p:nvPr/>
        </p:nvGraphicFramePr>
        <p:xfrm>
          <a:off x="2819520" y="1981080"/>
          <a:ext cx="3809880" cy="28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981080"/>
                    <a:ext cx="380988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240" y="5257440"/>
            <a:ext cx="2057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5" name="Object 3"/>
          <p:cNvGraphicFramePr/>
          <p:nvPr/>
        </p:nvGraphicFramePr>
        <p:xfrm>
          <a:off x="2514600" y="2514600"/>
          <a:ext cx="3809880" cy="17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514600"/>
                    <a:ext cx="380988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04960" y="5333760"/>
            <a:ext cx="1904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a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2895480" y="2514600"/>
          <a:ext cx="3810240" cy="18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514600"/>
                    <a:ext cx="3810240" cy="18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038120" y="533376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03" name="Object 3"/>
          <p:cNvGraphicFramePr/>
          <p:nvPr/>
        </p:nvGraphicFramePr>
        <p:xfrm>
          <a:off x="2819520" y="2666880"/>
          <a:ext cx="3809880" cy="18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666880"/>
                    <a:ext cx="380988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733560" y="5257440"/>
            <a:ext cx="1904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07" name="Object 3"/>
          <p:cNvGraphicFramePr/>
          <p:nvPr/>
        </p:nvGraphicFramePr>
        <p:xfrm>
          <a:off x="2590920" y="2743200"/>
          <a:ext cx="3809880" cy="13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743200"/>
                    <a:ext cx="3809880" cy="13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4724280"/>
            <a:ext cx="19047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ken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28951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4952880" y="2743200"/>
          <a:ext cx="381024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743200"/>
                    <a:ext cx="381024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2514600" y="2514600"/>
          <a:ext cx="3809880" cy="18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514600"/>
                    <a:ext cx="38098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657600" y="487656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581280" y="4876560"/>
            <a:ext cx="15242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216" name="Object 5"/>
          <p:cNvGraphicFramePr/>
          <p:nvPr/>
        </p:nvGraphicFramePr>
        <p:xfrm>
          <a:off x="2362320" y="2209680"/>
          <a:ext cx="3809880" cy="23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209680"/>
                    <a:ext cx="380988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2895480" y="2057400"/>
          <a:ext cx="3810240" cy="24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057400"/>
                    <a:ext cx="3810240" cy="24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57240" y="50288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23" name="Object 3"/>
          <p:cNvGraphicFramePr/>
          <p:nvPr/>
        </p:nvGraphicFramePr>
        <p:xfrm>
          <a:off x="2819520" y="2514600"/>
          <a:ext cx="3809880" cy="21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514600"/>
                    <a:ext cx="380988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9520" y="5257440"/>
            <a:ext cx="1676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27" name="Object 3"/>
          <p:cNvGraphicFramePr/>
          <p:nvPr/>
        </p:nvGraphicFramePr>
        <p:xfrm>
          <a:off x="2666880" y="2514600"/>
          <a:ext cx="381024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14600"/>
                    <a:ext cx="381024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9520" y="510516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3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31" name="Object 3"/>
          <p:cNvGraphicFramePr/>
          <p:nvPr/>
        </p:nvGraphicFramePr>
        <p:xfrm>
          <a:off x="2438280" y="2819520"/>
          <a:ext cx="3810240" cy="16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19520"/>
                    <a:ext cx="38102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9520" y="472428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is an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38480" y="4876560"/>
            <a:ext cx="15242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236" name="Object 10"/>
          <p:cNvGraphicFramePr/>
          <p:nvPr/>
        </p:nvGraphicFramePr>
        <p:xfrm>
          <a:off x="2514600" y="2438280"/>
          <a:ext cx="3728880" cy="17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438280"/>
                    <a:ext cx="372888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3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26665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ell done !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cohol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320040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4952880" y="2849400"/>
          <a:ext cx="3505320" cy="20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849400"/>
                    <a:ext cx="3505320" cy="20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ldehydes / sugar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320004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5105520" y="2479680"/>
          <a:ext cx="3352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479680"/>
                    <a:ext cx="3352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cid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32767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n O-H group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5105520" y="2725560"/>
          <a:ext cx="358128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725560"/>
                    <a:ext cx="358128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Ester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2666880"/>
            <a:ext cx="38098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2 oxygen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e oxygen is in a carbon sandwich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Ester loves to eat her carbon sandwich ?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4952880" y="2946240"/>
          <a:ext cx="3733920" cy="18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946240"/>
                    <a:ext cx="3733920" cy="18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23" name="Object 5"/>
          <p:cNvGraphicFramePr/>
          <p:nvPr/>
        </p:nvGraphicFramePr>
        <p:xfrm>
          <a:off x="990720" y="2751120"/>
          <a:ext cx="3809880" cy="22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51120"/>
                    <a:ext cx="3809880" cy="22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6"/>
          <p:cNvSpPr/>
          <p:nvPr/>
        </p:nvSpPr>
        <p:spPr>
          <a:xfrm>
            <a:off x="5029200" y="2895480"/>
            <a:ext cx="38098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ken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carbon and hydro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 carbon to carbon double bon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family does it belong to 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27" name="Object 5"/>
          <p:cNvGraphicFramePr/>
          <p:nvPr/>
        </p:nvGraphicFramePr>
        <p:xfrm>
          <a:off x="1143000" y="2514600"/>
          <a:ext cx="35812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35812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6"/>
          <p:cNvSpPr/>
          <p:nvPr/>
        </p:nvSpPr>
        <p:spPr>
          <a:xfrm>
            <a:off x="4952880" y="3200400"/>
            <a:ext cx="3810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Aldehyde / sugar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Only one oxyge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505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imes New Roman"/>
              </a:rPr>
              <a:t>Has a C=O group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21:10:01Z</dcterms:created>
  <dc:creator>King James's School</dc:creator>
  <dc:description/>
  <dc:language>en-US</dc:language>
  <cp:lastModifiedBy>RomaK</cp:lastModifiedBy>
  <dcterms:modified xsi:type="dcterms:W3CDTF">2015-09-01T16:24:13Z</dcterms:modified>
  <cp:revision>8</cp:revision>
  <dc:subject/>
  <dc:title>Functional Groups</dc:title>
</cp:coreProperties>
</file>