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WHOOSH.WAV" ContentType="audio/x-wav"/>
  <Override PartName="/ppt/media/image1.png" ContentType="image/png"/>
  <Override PartName="/ppt/media/image13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9D4D-646A-4B32-9132-410DF3F51B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A89-5FFF-4B6D-9D3C-0E832BD0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2F8-20FE-4BB2-85B3-999C829C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FFE-29CE-4731-823B-F42B1AD2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37F-9EDB-4ACF-A42B-9CD84C71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72F5-29B9-4EAE-AE83-0E2E7944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9C63-E327-4876-A38B-0D759D03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402A-3287-4198-BCF7-7A9FAD6B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7335-B875-449C-A11A-597C77A4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192B-FBC0-4D50-A0BC-0474F18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AAD8-88B6-47BC-8A79-D28A961F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CC9C-06D5-414F-8F28-FA334615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F3D-535D-4C50-BC01-A85CB6A9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AF4C-17BF-48B6-A3E9-A7D2847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F92E-16A4-4B12-AC63-4859ACB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ED50-BFF4-4BCC-B673-EE67CE49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1481-0CDC-44E4-8B84-7760E1E3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4E12-CB43-43D6-AF45-6AD73D2C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C0F-515E-4199-ACA3-1D4F804C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A7D-721B-4C74-84AB-E6CAE504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A79-48C8-4301-ABFD-1BC3412D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40C-8399-4534-966D-F96D80F5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58D-A4D0-4465-AD4F-FE95AB08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3CA-3B9D-4EA2-90B5-C288F33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3E7-9F2A-4AAF-95EC-28F088DD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2E99-6329-47BF-B72D-F14BEF76C3AE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1F1B-03F4-4BB7-B7DA-8FD18A9D142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What is the family name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990720" y="2849400"/>
          <a:ext cx="350496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49400"/>
                    <a:ext cx="350496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6"/>
          <p:cNvSpPr/>
          <p:nvPr/>
        </p:nvSpPr>
        <p:spPr>
          <a:xfrm>
            <a:off x="487692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990720" y="2725560"/>
          <a:ext cx="36576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25560"/>
                    <a:ext cx="36576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876920" y="29718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990720" y="2433600"/>
          <a:ext cx="380988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3600"/>
                    <a:ext cx="38098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876920" y="2819520"/>
            <a:ext cx="3809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0720" y="2946240"/>
          <a:ext cx="380988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946240"/>
                    <a:ext cx="380988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6"/>
          <p:cNvSpPr/>
          <p:nvPr/>
        </p:nvSpPr>
        <p:spPr>
          <a:xfrm>
            <a:off x="4952880" y="2666880"/>
            <a:ext cx="3810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743200" y="2286000"/>
          <a:ext cx="380988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0"/>
                    <a:ext cx="38098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51051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14600" y="2362320"/>
          <a:ext cx="38098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8098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52320" y="518112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514600" y="2286000"/>
          <a:ext cx="380988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380988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8640" y="502884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2895480" y="1981080"/>
          <a:ext cx="381024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38102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666880" y="1905120"/>
          <a:ext cx="38102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38102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9880" y="502884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2514600" y="27432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1280" y="5028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4572000" y="2438280"/>
          <a:ext cx="38098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8098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1752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895480" y="2743200"/>
          <a:ext cx="381024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38102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2743200" y="2438280"/>
          <a:ext cx="380988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80988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05320" y="5028840"/>
            <a:ext cx="1752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743200" y="2209680"/>
          <a:ext cx="3809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3809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33560" y="50288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3048120" y="1523880"/>
          <a:ext cx="370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370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14800" y="56383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2666880" y="2590920"/>
          <a:ext cx="381024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38102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86200" y="5181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2819520" y="1981080"/>
          <a:ext cx="380988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8098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240" y="52574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514600" y="25146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04960" y="533376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895480" y="2514600"/>
          <a:ext cx="38102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14600"/>
                    <a:ext cx="38102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8120" y="53337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2819520" y="2666880"/>
          <a:ext cx="380988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666880"/>
                    <a:ext cx="3809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33560" y="52574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2743200"/>
          <a:ext cx="380988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80988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47242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4952880" y="2743200"/>
          <a:ext cx="38102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43200"/>
                    <a:ext cx="38102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14600" y="2514600"/>
          <a:ext cx="380988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57600" y="48765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812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362320" y="2209680"/>
          <a:ext cx="38098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38098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895480" y="2057400"/>
          <a:ext cx="381024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8102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724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2819520" y="2514600"/>
          <a:ext cx="380988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14600"/>
                    <a:ext cx="38098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9520" y="52574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2666880" y="2514600"/>
          <a:ext cx="381024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8102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9520" y="5105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438280" y="2819520"/>
          <a:ext cx="38102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38102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9520" y="472428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384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36" name="Object 10"/>
          <p:cNvGraphicFramePr/>
          <p:nvPr/>
        </p:nvGraphicFramePr>
        <p:xfrm>
          <a:off x="2514600" y="2438280"/>
          <a:ext cx="372888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37288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2666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ell done 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952880" y="2849400"/>
          <a:ext cx="350532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849400"/>
                    <a:ext cx="350532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dehydes / suga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105520" y="2479680"/>
          <a:ext cx="3352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7968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cid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5105520" y="2725560"/>
          <a:ext cx="35812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25560"/>
                    <a:ext cx="35812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952880" y="2946240"/>
          <a:ext cx="373392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46240"/>
                    <a:ext cx="373392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990720" y="2751120"/>
          <a:ext cx="3809880" cy="22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51120"/>
                    <a:ext cx="380988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6"/>
          <p:cNvSpPr/>
          <p:nvPr/>
        </p:nvSpPr>
        <p:spPr>
          <a:xfrm>
            <a:off x="5029200" y="2895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1143000" y="2514600"/>
          <a:ext cx="358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358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4952880" y="3200400"/>
            <a:ext cx="3810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1:10:01Z</dcterms:created>
  <dc:creator>King James's School</dc:creator>
  <dc:description/>
  <dc:language>en-US</dc:language>
  <cp:lastModifiedBy>RomaK</cp:lastModifiedBy>
  <dcterms:modified xsi:type="dcterms:W3CDTF">2015-09-01T16:24:13Z</dcterms:modified>
  <cp:revision>8</cp:revision>
  <dc:subject/>
  <dc:title>Functional Groups</dc:title>
</cp:coreProperties>
</file>