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1466-B760-41B0-87F1-D31CE738A4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 other plants, a plantlet develops at the base of each mature leaf where it meets the leaf stalk.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Piggy-Back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plants, a plantlet develops at the base of each mature leaf where it meets the leaf s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Piggy-Back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Piggyback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gyback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3.  PRODUCTION OF PLANTLETS FROM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offset is a tiny plantlet that develops as a side shoot at the base of the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times different offsets are produced and these then form a clump at the base of the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Mother-in-law’s Tongue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PRODUCTION OF PLANTLETS FROM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ffset is a tiny plantlet that develops as a side shoot at the base of the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different offsets are produced and these then form a clump at the base of the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Mother-in-law’s Tongu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Mother-In-Law’s Tongue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-In-Law’s Tongu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METHODS OF PROPAGATING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 plant with offsets can be propagated by divis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is means separating the offsets from the parent, normally using a sharp knif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offsets can then be planted in new location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S OF PROPAGATING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with offsets can be propagated by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separating the offsets from the parent, normally using a sharp kn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ffsets can then be planted in new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Offsets of Mother-In-Law’s Tongu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ets of Mother-In-Law’s Ton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dvantages of Vegetative Propaga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Exact copies of parent plants can be produced in most cases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Often simple and relatively quick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Large plants can sometimes be produced in a short period of tim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Good quality and uniformity among plants produced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ct copies of parent plants can be produced in most c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simple and relatively qui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lants can sometimes be produced in a short period of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quality and uniformity among plants produ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Disadvantages of Vegetative Propaga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ll offspring share common susceptibility to diseas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ot suitable if variation is desired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fspring share common susceptibility to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uitable if variation is desi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 plantlet is a tiny version of a plant still attached somewhere to its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plantlets obtain food from the parent plant until they are established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let is a tiny version of a plant still attached somewhere to its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lets obtain food from the parent plant until they are esta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OBTAINING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lantlets can be obtained by different methods: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leaf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ING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lets can be obtained by different metho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leaf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1.  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 types of plants produce plantlets at the end of ‘horizontal’ stems called runners.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ypes of plants produce plantlets at the end of ‘horizontal’ stems called run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Spider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METHOD OF OBTANING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plantlet can be ‘pegged down’ into a small pot of compost using wir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When the roots are established, the runner is cut close to the new plant and the wire removed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OF OBTANING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let can be ‘pegged down’ into a small pot of compost using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roots are established, the runner is cut close to the new plant and the wire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2.  PRODUCTION OF LEAF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 types of plant develop plantlets on the edges of mature leave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se can be detached from the leaf and grown in small pots of compos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Mexican Ha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PRODUCTION OF LEAF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ypes of plant develop plantlets on the edges of mature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detached from the leaf and grown in small pots of com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Mexican Ha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Mexican Ha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an Ha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4FDE-3B3E-40EB-BFED-864A3707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28F-5A70-45CC-8AC2-C1CACA2B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3F00-1A76-4783-AA72-934380A4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4C4-DD71-46AE-82C4-B5321FA4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4A61-34EE-4ACF-AB7E-E69C904A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8530-87B2-4DDF-9A07-90EE883F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C21F-A5C0-4968-A92A-E720D0F3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3A43-3650-4A2C-9F1E-90D42B2F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2864-5CDF-4D3D-957F-C93738DF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542D-7219-448A-BF82-E725FCB3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D872-DC2B-48EF-8F75-FBAC565B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C49-D0CC-4065-BCF6-9EA7A428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4C48-1E4A-4C00-B894-85EF8C7B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431D-3500-4A53-BB04-78118C89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5A2F-8854-449D-BA90-E14ECF5D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B80E-292B-4255-A6AA-2D469C53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CC23-4B87-41A6-8185-71DBA2AA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73A-DC5E-48C5-941C-73B68EA1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CE3C-9EFB-4873-8078-EF47BAC0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F0B4-C017-4AEE-BC94-E5F35C9C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7125-BD96-4509-AA6F-B662FB6F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5E6E-5716-4736-B77E-93D3E373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C8D-0C95-405B-8DCF-72C9D163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A9E8-9251-4D43-89B3-264F9324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3B86-B827-452F-84DF-4F026F2E66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Line 5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Line 7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2B73-C478-4301-A71A-67117BE431EB}" type="slidenum"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PLANTLE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ntermediate 1 Biology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n other plants, a plantlet develops at the base of each mature leaf where it meets the leaf stalk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n example of this is the Piggy-Back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384137837037037Tolmiea_menziesii-09cm"/>
          <p:cNvPicPr/>
          <p:nvPr/>
        </p:nvPicPr>
        <p:blipFill>
          <a:blip r:embed="rId1"/>
          <a:stretch/>
        </p:blipFill>
        <p:spPr>
          <a:xfrm>
            <a:off x="2124000" y="170028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755640" y="404640"/>
            <a:ext cx="6337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Times New Roman"/>
              </a:rPr>
              <a:t>Piggyback Plan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3.  PRODUCTION OF PLANTLETS FROM OFFS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An offset is a tiny plantlet that develops as a side shoot at the base of the parent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Sometimes different offsets are produced and these then form a clump at the base of the parent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An example of this is the Mother-in-law’s Tongue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92360" y="2276280"/>
            <a:ext cx="2987640" cy="29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Times New Roman"/>
              </a:rPr>
              <a:t>Mother-In-Law’s Tongue Plan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5" descr="mediaget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THODS OF PROPAGATING OFFS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 plant with offsets can be propagated by divisi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is means separating the offsets from the parent, normally using a sharp knif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offsets can then be planted in new location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Times New Roman"/>
              </a:rPr>
              <a:t>Offsets of Mother-In-Law’s Tongu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087"/>
          <p:cNvPicPr/>
          <p:nvPr/>
        </p:nvPicPr>
        <p:blipFill>
          <a:blip r:embed="rId1"/>
          <a:stretch/>
        </p:blipFill>
        <p:spPr>
          <a:xfrm>
            <a:off x="0" y="2874960"/>
            <a:ext cx="4572000" cy="3292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Rooted_leaf_cutting_use"/>
          <p:cNvPicPr/>
          <p:nvPr/>
        </p:nvPicPr>
        <p:blipFill>
          <a:blip r:embed="rId2"/>
          <a:stretch/>
        </p:blipFill>
        <p:spPr>
          <a:xfrm>
            <a:off x="4643280" y="2905200"/>
            <a:ext cx="4246560" cy="329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Advantages of Vegetative Propaga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Exact copies of parent plants can be produced in most case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Often simple and relatively quick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Large plants can sometimes be produced in a short period of time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Good quality and uniformity among plants produced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Disadvantages of Vegetative Propaga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ll offspring share common susceptibility to disease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Not suitable if variation is desired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plantlet </a:t>
            </a: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s a tiny version of a plant still attached somewhere to its parent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plantlets obtain food from the parent plant until they are establish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7" name="Picture 5" descr="img"/>
          <p:cNvPicPr/>
          <p:nvPr/>
        </p:nvPicPr>
        <p:blipFill>
          <a:blip r:embed="rId1"/>
          <a:stretch/>
        </p:blipFill>
        <p:spPr>
          <a:xfrm>
            <a:off x="3995640" y="4653000"/>
            <a:ext cx="4762440" cy="18097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OBTAINING PLANTLE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lantlets can be obtained by different methods: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 plantlets from 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runner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 leaf plantle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 plantlets from 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offse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1.  PRODUCTION OF PLANTLETS FROM RUNNER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Some types of plants produce plantlets at the end of ‘horizontal’ stems called </a:t>
            </a: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runners</a:t>
            </a: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9180"/>
          <p:cNvPicPr/>
          <p:nvPr/>
        </p:nvPicPr>
        <p:blipFill>
          <a:blip r:embed="rId1"/>
          <a:stretch/>
        </p:blipFill>
        <p:spPr>
          <a:xfrm>
            <a:off x="971640" y="476280"/>
            <a:ext cx="4181400" cy="5904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5292720" y="620640"/>
            <a:ext cx="3851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300"/>
                </a:solidFill>
                <a:latin typeface="Times New Roman"/>
              </a:rPr>
              <a:t>Spider plant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THOD OF OBTANING PLANTLETS FROM RUNNER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plantlet can be ‘pegged down’ into a small pot of compost using wir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When the roots are established, the runner is cut close to the new plant and the wire remov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runners"/>
          <p:cNvPicPr/>
          <p:nvPr/>
        </p:nvPicPr>
        <p:blipFill>
          <a:blip r:embed="rId1"/>
          <a:stretch/>
        </p:blipFill>
        <p:spPr>
          <a:xfrm>
            <a:off x="826920" y="1916280"/>
            <a:ext cx="7777440" cy="4375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755640" y="47628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11280" y="26028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PRODUCTION OF PLANTLETS FROM RUNNERS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2.  PRODUCTION OF LEAF PLANTL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Some types of plant develop plantlets on the edges of mature leav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se can be detached from the leaf and grown in small pots of compos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n example of this is the Mexican Hat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Bryophyllum daigremontianum plantlets"/>
          <p:cNvPicPr/>
          <p:nvPr/>
        </p:nvPicPr>
        <p:blipFill>
          <a:blip r:embed="rId1"/>
          <a:stretch/>
        </p:blipFill>
        <p:spPr>
          <a:xfrm>
            <a:off x="1619280" y="1557360"/>
            <a:ext cx="6191280" cy="4352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755640" y="4762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xican Hat Plan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8:27:59Z</dcterms:created>
  <dc:creator>Education</dc:creator>
  <dc:description/>
  <dc:language>en-US</dc:language>
  <cp:lastModifiedBy>LEGION2</cp:lastModifiedBy>
  <dcterms:modified xsi:type="dcterms:W3CDTF">2016-01-13T09:48:31Z</dcterms:modified>
  <cp:revision>25</cp:revision>
  <dc:subject/>
  <dc:title>PLANTLETS</dc:title>
</cp:coreProperties>
</file>