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7A88-614D-4528-896C-4F8D95D8D8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 other plants, a plantlet develops at the base of each mature leaf where it meets the leaf stalk.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Piggy-Back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plants, a plantlet develops at the base of each mature leaf where it meets the leaf s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Piggy-Back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Piggyback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gyback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3.  PRODUCTION OF PLANTLETS FROM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offset is a tiny plantlet that develops as a side shoot at the base of the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times different offsets are produced and these then form a clump at the base of the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Mother-in-law’s Tongue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PRODUCTION OF PLANTLETS FROM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ffset is a tiny plantlet that develops as a side shoot at the base of the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different offsets are produced and these then form a clump at the base of the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Mother-in-law’s Tongu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Mother-In-Law’s Tongue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-In-Law’s Tongu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METHODS OF PROPAGATING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 plant with offsets can be propagated by divis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is means separating the offsets from the parent, normally using a sharp knif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offsets can then be planted in new location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S OF PROPAGATING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with offsets can be propagated by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separating the offsets from the parent, normally using a sharp kn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ffsets can then be planted in new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Offsets of Mother-In-Law’s Tongu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ets of Mother-In-Law’s Ton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dvantages of Vegetative Propaga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Exact copies of parent plants can be produced in most cases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Often simple and relatively quick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Large plants can sometimes be produced in a short period of tim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Good quality and uniformity among plants produced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ct copies of parent plants can be produced in most c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simple and relatively qui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lants can sometimes be produced in a short period of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quality and uniformity among plants produ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Disadvantages of Vegetative Propaga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ll offspring share common susceptibility to diseas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ot suitable if variation is desired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fspring share common susceptibility to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uitable if variation is desi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 plantlet is a tiny version of a plant still attached somewhere to its paren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plantlets obtain food from the parent plant until they are established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let is a tiny version of a plant still attached somewhere to its paren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lets obtain food from the parent plant until they are esta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OBTAINING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lantlets can be obtained by different methods: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leaf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offs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ING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lets can be obtained by different metho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leaf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off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1.  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 types of plants produce plantlets at the end of ‘horizontal’ stems called runners.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ypes of plants produce plantlets at the end of ‘horizontal’ stems called run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Spider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METHOD OF OBTANING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 plantlet can be ‘pegged down’ into a small pot of compost using wire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When the roots are established, the runner is cut close to the new plant and the wire removed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OF OBTANING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let can be ‘pegged down’ into a small pot of compost using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roots are established, the runner is cut close to the new plant and the wire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PLANTLETS FROM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2.  PRODUCTION OF LEAF PLANTLE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Some types of plant develop plantlets on the edges of mature leave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These can be detached from the leaf and grown in small pots of compos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An example of this is the Mexican Ha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PRODUCTION OF LEAF PLAN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ypes of plant develop plantlets on the edges of mature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detached from the leaf and grown in small pots of com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of this is the Mexican Ha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00"/>
                </a:solidFill>
                <a:latin typeface="Arial"/>
              </a:rPr>
              <a:t>Mexican Hat Plan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xican Hat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B0C-55DD-486E-96C2-FD553593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EBF-356D-441C-BDD5-D8280AC4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15F0-C748-41F2-BB8E-B74CBA7A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56E5-B8E1-4067-A5D2-D1FB46F6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7660-541E-4A15-9AB7-CDB72029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F26D-B932-43E6-B2D9-3C9353C6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C12A-875A-420F-A71C-F0675FFD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2868-45D2-4825-885A-EA6C49F1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8462-FA16-4597-9FB5-BABB2DCB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1536-97CE-4574-AA96-5CB9AC85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ABEF-38C1-4A3F-9FB1-32723155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D56-5F68-4990-B147-A99B3E91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D4B7-36BB-44E3-AFB2-F1D3C014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2CF8-C613-4A34-A307-77D76B97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F051-4910-46DB-9B10-E58A006D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9A9E-7EBB-495A-B9CB-2E514F61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517A-84CB-433C-BF41-117203F0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53B8-A9C7-47AC-9612-83CA61AD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5EA-239B-4561-816A-CB075C69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FC7-D898-4FE8-9539-D243BAD5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727-4D3B-49E2-9C60-8EDFDDBF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186-E079-4268-9D5F-6CAFE26B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BA22-52CF-4B6E-A0DA-53F28E72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9109-C1E7-44A3-834F-EE4DF2E3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B3FF-0A5C-480C-B321-E210C6BD99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Rectangle 3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Line 5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Line 7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F302-7C84-42A3-9B03-96518F110E55}" type="slidenum"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PLANTLE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ntermediate 1 Biology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n other plants, a plantlet develops at the base of each mature leaf where it meets the leaf stalk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n example of this is the Piggy-Back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384137837037037Tolmiea_menziesii-09cm"/>
          <p:cNvPicPr/>
          <p:nvPr/>
        </p:nvPicPr>
        <p:blipFill>
          <a:blip r:embed="rId1"/>
          <a:stretch/>
        </p:blipFill>
        <p:spPr>
          <a:xfrm>
            <a:off x="2124000" y="170028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755640" y="404640"/>
            <a:ext cx="6337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Times New Roman"/>
              </a:rPr>
              <a:t>Piggyback Plan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3.  PRODUCTION OF PLANTLETS FROM OFFS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An offset is a tiny plantlet that develops as a side shoot at the base of the parent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Sometimes different offsets are produced and these then form a clump at the base of the parent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An example of this is the Mother-in-law’s Tongue plan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292360" y="2276280"/>
            <a:ext cx="2987640" cy="29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Times New Roman"/>
              </a:rPr>
              <a:t>Mother-In-Law’s Tongue Plan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5" descr="mediaget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THODS OF PROPAGATING OFFS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 plant with offsets can be propagated by divisio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is means separating the offsets from the parent, normally using a sharp knif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offsets can then be planted in new location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Times New Roman"/>
              </a:rPr>
              <a:t>Offsets of Mother-In-Law’s Tongu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087"/>
          <p:cNvPicPr/>
          <p:nvPr/>
        </p:nvPicPr>
        <p:blipFill>
          <a:blip r:embed="rId1"/>
          <a:stretch/>
        </p:blipFill>
        <p:spPr>
          <a:xfrm>
            <a:off x="0" y="2874960"/>
            <a:ext cx="4572000" cy="3292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Rooted_leaf_cutting_use"/>
          <p:cNvPicPr/>
          <p:nvPr/>
        </p:nvPicPr>
        <p:blipFill>
          <a:blip r:embed="rId2"/>
          <a:stretch/>
        </p:blipFill>
        <p:spPr>
          <a:xfrm>
            <a:off x="4643280" y="2905200"/>
            <a:ext cx="4246560" cy="329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Advantages of Vegetative Propagat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Exact copies of parent plants can be produced in most cases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Often simple and relatively quick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Large plants can sometimes be produced in a short period of time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Good quality and uniformity among plants produced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Disadvantages of Vegetative Propagat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ll offspring share common susceptibility to disease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Not suitable if variation is desired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3300"/>
                </a:solidFill>
                <a:latin typeface="Times New Roman"/>
              </a:rPr>
              <a:t>plantlet </a:t>
            </a: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is a tiny version of a plant still attached somewhere to its parent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plantlets obtain food from the parent plant until they are establish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7" name="Picture 5" descr="img"/>
          <p:cNvPicPr/>
          <p:nvPr/>
        </p:nvPicPr>
        <p:blipFill>
          <a:blip r:embed="rId1"/>
          <a:stretch/>
        </p:blipFill>
        <p:spPr>
          <a:xfrm>
            <a:off x="3995640" y="4653000"/>
            <a:ext cx="4762440" cy="18097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OBTAINING PLANTLE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lantlets can be obtained by different methods: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 plantlets from 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runner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 leaf plantle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00"/>
                </a:solidFill>
                <a:latin typeface="Times New Roman"/>
              </a:rPr>
              <a:t>production of plantlets from </a:t>
            </a:r>
            <a:r>
              <a:rPr b="1" lang="en-GB" sz="2800" spc="-1" strike="noStrike">
                <a:solidFill>
                  <a:srgbClr val="003300"/>
                </a:solidFill>
                <a:latin typeface="Times New Roman"/>
              </a:rPr>
              <a:t>offse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1.  PRODUCTION OF PLANTLETS FROM RUNNER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Some types of plants produce plantlets at the end of ‘horizontal’ stems called </a:t>
            </a:r>
            <a:r>
              <a:rPr b="1" lang="en-GB" sz="3200" spc="-1" strike="noStrike">
                <a:solidFill>
                  <a:srgbClr val="003300"/>
                </a:solidFill>
                <a:latin typeface="Times New Roman"/>
              </a:rPr>
              <a:t>runners</a:t>
            </a: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9180"/>
          <p:cNvPicPr/>
          <p:nvPr/>
        </p:nvPicPr>
        <p:blipFill>
          <a:blip r:embed="rId1"/>
          <a:stretch/>
        </p:blipFill>
        <p:spPr>
          <a:xfrm>
            <a:off x="971640" y="476280"/>
            <a:ext cx="4181400" cy="5904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5292720" y="620640"/>
            <a:ext cx="3851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3300"/>
                </a:solidFill>
                <a:latin typeface="Times New Roman"/>
              </a:rPr>
              <a:t>Spider plant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THOD OF OBTANING PLANTLETS FROM RUNNER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 plantlet can be ‘pegged down’ into a small pot of compost using wir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When the roots are established, the runner is cut close to the new plant and the wire remov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runners"/>
          <p:cNvPicPr/>
          <p:nvPr/>
        </p:nvPicPr>
        <p:blipFill>
          <a:blip r:embed="rId1"/>
          <a:stretch/>
        </p:blipFill>
        <p:spPr>
          <a:xfrm>
            <a:off x="826920" y="1916280"/>
            <a:ext cx="7777440" cy="4375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755640" y="47628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11280" y="26028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PRODUCTION OF PLANTLETS FROM RUNNERS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2.  PRODUCTION OF LEAF PLANTLETS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Some types of plant develop plantlets on the edges of mature leav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These can be detached from the leaf and grown in small pots of compos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Times New Roman"/>
              </a:rPr>
              <a:t>An example of this is the Mexican Hat plan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Bryophyllum daigremontianum plantlets"/>
          <p:cNvPicPr/>
          <p:nvPr/>
        </p:nvPicPr>
        <p:blipFill>
          <a:blip r:embed="rId1"/>
          <a:stretch/>
        </p:blipFill>
        <p:spPr>
          <a:xfrm>
            <a:off x="1619280" y="1557360"/>
            <a:ext cx="6191280" cy="4352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755640" y="4762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Mexican Hat Plan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8:27:59Z</dcterms:created>
  <dc:creator>Education</dc:creator>
  <dc:description/>
  <dc:language>en-US</dc:language>
  <cp:lastModifiedBy>LEGION2</cp:lastModifiedBy>
  <dcterms:modified xsi:type="dcterms:W3CDTF">2016-01-13T09:48:31Z</dcterms:modified>
  <cp:revision>25</cp:revision>
  <dc:subject/>
  <dc:title>PLANTLETS</dc:title>
</cp:coreProperties>
</file>