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1185-34D1-4CAB-917B-8BD035EAF5B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nvascular lifecyc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nvascular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edless vascular lifecyc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dless vascular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ymnosperm lifecyc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ymnosperm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 lifecyc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giosperm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asses of 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ocotyledonae (Monocot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ery few are annua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lies, grasses, cattails, palms, yuccas, orchids, iri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cotyledonae (Dicot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re primative, 1/6 are annua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most all kinds of trees and shrub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napdragons, mints, peas, sunflow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es of Angi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nocotyledonae (Monoco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y few are ann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lies, grasses, cattails, palms, yuccas, orchids, ir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cotyledonae (Dico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primative, 1/6 are ann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most all kinds of trees and shru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napdragons, mints, peas, sunfl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ocot characteristic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nocot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cot characteristic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cot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rts of the fl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ISTI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ig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y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M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th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s the se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s the fru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the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S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es the s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es the 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productive Orga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ose up of stigma, style and anthers in a tuli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up of stigma, style and anthers in a tul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volutionary Pas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yanobacter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lue- green 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otosyntheti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ponsible for the marked increase in Oxygen 2000 million years ag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ary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- gre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yn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le for the marked increase in Oxygen 2000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yanobacteria Evid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NA shows the first green plants evolved from prokaryotes between 2500 and 1000 million years ago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me chlorophyll in algae and land plants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hows the first green plants evolved from prokaryotes between 2500 and 1000 million years ag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chlorophyll in algae and land pla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dosymbiosi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symbiotic relationship between two organisms in which one of the two organisms (the endosymbiont) lives inside the body of the other one (the host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ymb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ymbiotic relationship between two organisms in which one of the two organisms (the endosymbiont) lives inside the body of the other one (the hos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assification of Pla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ingdom - Plant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vision (-phyt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ass (-opsid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bclass (-ida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rder (-al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mily (-acea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enu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ecies (Genus + specific epithe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ification of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ngdom - Plant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ision (-phy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 (-opsid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class (-ida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der (-a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mily (-acea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es (Genus + specific epith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a grandiflor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tae--includes all plan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ophyta--flowering plan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opsida--dico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idae--subclass for Magnolia-like plan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ales--order for Magnolia-like plan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aceae--family for Magnolia-like plan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a--genus that includes all Magnolia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andiflora--specific epithet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a grandifl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ae--includes all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ophyta--flowering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opsida--dico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idae--subclass for Magnolia-like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ales--order for Magnolia-like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aceae--family for Magnolia-like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a--genus that includes all Magnoli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ndiflora--specific epith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ircumscription of Featur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new condition is added at each step to set up a category that is MOST specifi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ings with wheels = buses, cars, bicycles, skates, airplanes, trains, etc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 is ground transport = buses, cars, bicycles, trai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 can carry more than one person = buses, cars, trai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 runs on rails = trai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ww.csdl.tamu.edu/FLORA/tfplab/lab1a.htm#taxonom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scription of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 condition is added at each step to set up a category that is MOST specif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with wheels = buses, cars, bicycles, skates, airplanes, trains, et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s ground transport = buses, cars, bicycles, tra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an carry more than one person = buses, cars, tra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uns on rails = tra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sdl.tamu.edu/FLORA/tfplab/lab1a.htm#tax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ur major line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nvascular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ck xylem &amp; phloem &amp; see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edless vascular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ve xylem &amp; phloem, lack see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- have seeds, but not enclos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- enclosed see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ur major line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nvascul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ck xylem &amp; phloem &amp;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dless vascul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ve xylem &amp; phloem, lack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ave seeds, but not encl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giospe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enclosed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edless Vascul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oco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co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nvascul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ymnospe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less Vas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vas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ymno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io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9024-1C59-4491-AFF9-DD2105D3F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256E-9AEB-449D-82B3-232FC85C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68C1-643A-4795-81EA-265D24538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354E-7D6E-42FD-9194-E3BDD240C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F37E-7E97-41B5-B2F5-806D969BD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04DDA-3681-4A93-BE31-A8D960E7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82EC-4377-483E-8C19-A6D24D18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2036-F458-49C9-B05A-8A05DC38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8705-C8F2-4496-BBE8-52F271AE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CED5-DC9A-4C7D-AD33-81E266C3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BDEA1-2831-4A8E-9008-846E4FAC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AC8A-C6A6-427A-8949-140BA483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64E7-B677-4CF3-B843-1FE8B5CC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6BDB-6321-49D6-B47B-EDB80FDE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F30E-2B53-4064-9005-D5206269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8E389-4470-4C3D-A812-294386164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7BA9-E695-4FF6-A3D4-8FDA4615D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D9ED-BCD1-4CD1-8214-1D1104DD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FF82-3DCF-4CD5-9D55-B5BA2273B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E132-B3AD-4129-A25D-77C6E564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25ED-813B-4777-9F9F-82FB8B40F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671D-26CD-4991-B65F-495B750B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7085-7132-49A6-A86A-28B2D8D0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7382-4FB0-425B-A25B-52383CFA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1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2186-B704-4611-B0F8-E9DEA1BFE83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75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71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3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4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5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6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7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8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9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0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1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2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3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4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5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6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7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8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19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0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1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2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3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4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5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6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7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8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29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0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1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2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3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4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5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6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7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8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39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0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1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2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3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4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5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6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7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8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49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0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1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2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3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4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5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6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7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8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59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0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1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2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3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4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5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F913-62AA-4CA7-98EB-205DEB00DC7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ds.yahoo.com/_ylt=A0Je5rXh22REsA8AgxtXNyoA;_ylu=X3oDMTBqcDRrdjU5BGNvbG8DdwRzZWMDc2MEdnRpZAM-/SIG=1lkosj560/EXP=1147546977/**http%3A//images.search.yahoo.com/search/images/view%3Fback=http%253A%252F%252Fsearch.yahoo.com%252Fsearch%253Fei%253DUTF-8%2526p%253Dlichen%252Bimage%26h=467%26w=547%26imgcurl=botit.botany.wisc.edu%252Fimages%252F332%252FLichens%252FFoliose_lichen_130_d.gif%26imgurl=botit.botany.wisc.edu%252Fimages%252F332%252FLichens%252FFoliose_lichen_130_d.gif%26size=262.0kB%26name=Foliose_lichen_130_d.gif%26rcurl=http%253A%252F%252Fbotit.botany.wisc.edu%252Fimages%252F332%252FLichens%252FFoliose_lichen_130_d.html%26rurl=http%253A%252F%252Fbotit.botany.wisc.edu%252Fimages%252F332%252FLichens%252FFoliose_lichen_130_d.html%26p=lichen%26type=gif%26no=2%26tt=55%252C615%26fr=slv1-adbe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ds.yahoo.com/_ylt=A0Je5VGF32RE0RoB25BXNyoA;_ylu=X3oDMTBqcDRrdjU5BGNvbG8DdwRzZWMDc2MEdnRpZAM-/SIG=1lep58bm6/EXP=1147547909/**http%3A//images.search.yahoo.com/search/images/view%3Fback=http%253A%252F%252Fsearch.yahoo.com%252Fsearch%253Fei%253DUTF-8%2526p%253Deukaryotic%252Bfossil%252Bimage%26h=318%26w=600%26imgcurl=athene.as.arizona.edu%252F%257Elclose%252Fteaching%252Fa202%252Fmicrofossils.jpg%26imgurl=athene.as.arizona.edu%252F%257Elclose%252Fteaching%252Fa202%252Fmicrofossils.jpg%26size=48.2kB%26name=microfossils.jpg%26rcurl=http%253A%252F%252Fathene.as.arizona.edu%252F%257Elclose%252Fteaching%252Fa202%252Flect9.html%26rurl=http%253A%252F%252Fathene.as.arizona.edu%252F%257Elclose%252Fteaching%252Fa202%252Flect9.html%26p=eukaryotic%2Bfossil%26type=jpeg%26no=3%26tt=16%26fr=slv1-adbe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rds.yahoo.com/_ylt=A0Je5VGF32RE0RoB2pBXNyoA;_ylu=X3oDMTBqcDRrdjU5BGNvbG8DdwRzZWMDc2MEdnRpZAM-/SIG=1igihduo9/EXP=1147547909/**http%3A//images.search.yahoo.com/search/images/view%3Fback=http%253A%252F%252Fsearch.yahoo.com%252Fsearch%253Fei%253DUTF-8%2526p%253Deukaryotic%252Bfossil%252Bimage%26h=1670%26w=1792%26imgcurl=trc.ucdavis.edu%252Fdjbegun%252FfossilEucarya.jpg%26imgurl=trc.ucdavis.edu%252Fdjbegun%252FfossilEucarya.jpg%26size=516.6kB%26name=fossilEucarya.jpg%26rcurl=http%253A%252F%252Ftrc.ucdavis.edu%252Fdjbegun%252FLect_paleo%2526homo.html%26rurl=http%253A%252F%252Ftrc.ucdavis.edu%252Fdjbegun%252FLect_paleo%2526homo.html%26p=eukaryotic%2Bfossil%26type=jpeg%26no=2%26tt=16%26fr=slv1-adbe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ick5.pick.uga.edu/mp/20p?see=I_JP1824&amp;res=640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botany.cs.tamu.edu/FLORA/dcs420/fa01/fa01004.jpg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google.com/imgres?imgurl=http://www.visualparadox.com/images/no_linking_allowed/strawberry1600.jpg&amp;imgrefurl=http://www.visualparadox.com/wallpapers/strawberry1600.htm&amp;h=1200&amp;w=1600&amp;sz=144&amp;tbnid=sbWGjy5MU9VJoM:&amp;tbnh=112&amp;tbnw=150&amp;hl=en&amp;ei=t6ZqRLKhAbT8JKeH9cAJ&amp;sig2=Zx7LJYJgqgtUuzLtAr6ZpA&amp;start=415&amp;prev=/images%3Fq%3Dseeds%2Bfruit%2Bimage%26start%3D400%26svnum%3D10%26hl%3Den%26lr%3D%26rls%3DGGLG,GGLG:2005-42,GGLG:en%26sa%3DN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images.google.com/imgres?imgurl=http://www.hiltonpond.org/images/SycamoreFruit01.jpg&amp;imgrefurl=http://www.hiltonpond.org/ThisWeek001208.html&amp;h=178&amp;w=170&amp;sz=4&amp;tbnid=qDZSf7RkDhRDOM:&amp;tbnh=95&amp;tbnw=90&amp;hl=en&amp;ei=XKZqRLmgMK_UJPGgkfcJ&amp;sig2=3vK3tTHjT-Vx7-1LNmNwRA&amp;start=398&amp;prev=/images%3Fq%3Dseeds%2Bfruit%2Bimage%26start%3D380%26svnum%3D10%26hl%3Den%26lr%3D%26rls%3DGGLG,GGLG:2005-42,GGLG:en%26sa%3DN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hyperlink" Target="http://images.google.com/imgres?imgurl=http://ludlow.dns2go.com/cribbage/desktops/dsk_apple_blossum.jpg&amp;imgrefurl=http://ludlow.dns2go.com/cribbage/desktops/dsk_photos.html&amp;h=1024&amp;w=1280&amp;sz=341&amp;tbnid=U_qa4xmSlQpGgM:&amp;tbnh=120&amp;tbnw=150&amp;hl=en&amp;ei=DaBqRISNDJLOJJPSmPAJ&amp;sig2=SdxMMiO9bB90oT6tmPxj0A&amp;start=3&amp;prev=/images%3Fq%3Dapple%2Btree%2Bblossoms%2Bimage%26svnum%3D10%26hl%3Den%26lr%3D%26rls%3DGGLG,GGLG:2005-42,GGLG:en" TargetMode="External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hyperlink" Target="http://images.google.com/imgres?imgurl=http://jhphotos.stevenhasty.com/photos/K_Iki/08%2520Kilauea%2520Iki%252006%2520Fern%252020020930%2520(9).jpg&amp;imgrefurl=http://jhphotos.stevenhasty.com/photos/K_Iki/&amp;h=536&amp;w=800&amp;sz=23&amp;tbnid=Lux8oorXoC17tM:&amp;tbnh=95&amp;tbnw=142&amp;hl=en&amp;ei=c59qRLiTOK7aJN7h_PwJ&amp;sig2=qWPLsyVTVz8sLwaDF4Jm_Q&amp;start=10&amp;prev=/images%3Fq%3Dfern%2Bimage%26svnum%3D10%26hl%3Den%26lr%3D%26rls%3DGGLG,GGLG:2005-42,GGLG:en" TargetMode="External"/><Relationship Id="rId12" Type="http://schemas.openxmlformats.org/officeDocument/2006/relationships/image" Target="../media/image14.jpeg"/><Relationship Id="rId13" Type="http://schemas.openxmlformats.org/officeDocument/2006/relationships/hyperlink" Target="http://images.google.com/imgres?imgurl=http://www.hkflora.com/v2/gymnosperm/images/Keteleeria_fortunei.jpg&amp;imgrefurl=http://www.hkflora.com/v2/gymnosperm/what_are_gymnosperms.htm&amp;h=150&amp;w=225&amp;sz=28&amp;tbnid=i8E7L2CXIavy0M:&amp;tbnh=68&amp;tbnw=102&amp;hl=en&amp;ei=EJ9qRIWmEZHWJIXMnPkJ&amp;sig2=hzBVj8OI7osnUWKQ2dr5Rw&amp;start=15&amp;prev=/images%3Fq%3Dgymnosperm%2Bimage%26svnum%3D10%26hl%3Den%26lr%3D%26rls%3DGGLG,GGLG:2005-42,GGLG:en%26sa%3DX" TargetMode="External"/><Relationship Id="rId14" Type="http://schemas.openxmlformats.org/officeDocument/2006/relationships/image" Target="../media/image15.jpe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jpeg"/><Relationship Id="rId18" Type="http://schemas.openxmlformats.org/officeDocument/2006/relationships/image" Target="../media/image19.jpeg"/><Relationship Id="rId19" Type="http://schemas.openxmlformats.org/officeDocument/2006/relationships/image" Target="../media/image20.jpeg"/><Relationship Id="rId20" Type="http://schemas.openxmlformats.org/officeDocument/2006/relationships/image" Target="../media/image21.jpeg"/><Relationship Id="rId21" Type="http://schemas.openxmlformats.org/officeDocument/2006/relationships/image" Target="../media/image22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lant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18" name="Picture 4" descr="Interior Plant - Kentia Ivy - Indoor Plant"/>
          <p:cNvPicPr/>
          <p:nvPr/>
        </p:nvPicPr>
        <p:blipFill>
          <a:blip r:embed="rId1"/>
          <a:stretch/>
        </p:blipFill>
        <p:spPr>
          <a:xfrm>
            <a:off x="3352680" y="1905120"/>
            <a:ext cx="3614760" cy="434340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Nonvascular lifecycl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Picture 9" descr="moss_life_cycle"/>
          <p:cNvPicPr/>
          <p:nvPr/>
        </p:nvPicPr>
        <p:blipFill>
          <a:blip r:embed="rId1"/>
          <a:stretch/>
        </p:blipFill>
        <p:spPr>
          <a:xfrm>
            <a:off x="1219320" y="1905120"/>
            <a:ext cx="6781680" cy="472428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eedless vascular lifecycl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8" name="Picture 5" descr="test"/>
          <p:cNvPicPr/>
          <p:nvPr/>
        </p:nvPicPr>
        <p:blipFill>
          <a:blip r:embed="rId1"/>
          <a:stretch/>
        </p:blipFill>
        <p:spPr>
          <a:xfrm>
            <a:off x="914400" y="1905120"/>
            <a:ext cx="7315200" cy="441936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Gymnosperm lifecycl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Picture 5" descr="gymnospermlifecycle"/>
          <p:cNvPicPr/>
          <p:nvPr/>
        </p:nvPicPr>
        <p:blipFill>
          <a:blip r:embed="rId1"/>
          <a:stretch/>
        </p:blipFill>
        <p:spPr>
          <a:xfrm>
            <a:off x="1143000" y="1905120"/>
            <a:ext cx="7315200" cy="458136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Angiosperm lifecycl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Picture 5" descr="angiospermlifecycle"/>
          <p:cNvPicPr/>
          <p:nvPr/>
        </p:nvPicPr>
        <p:blipFill>
          <a:blip r:embed="rId1"/>
          <a:stretch/>
        </p:blipFill>
        <p:spPr>
          <a:xfrm>
            <a:off x="1219320" y="1828800"/>
            <a:ext cx="6933960" cy="4648320"/>
          </a:xfrm>
          <a:prstGeom prst="rect">
            <a:avLst/>
          </a:prstGeom>
          <a:ln w="0">
            <a:noFill/>
          </a:ln>
        </p:spPr>
      </p:pic>
      <p:sp>
        <p:nvSpPr>
          <p:cNvPr id="287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asses of Angiosperm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ocotyledonae (Monoco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y few are annu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lies, grasses, cattails, palms, yuccas, orchids, iri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cotyledonae (Dico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primative, 1/6 are annu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most all kinds of trees and shrub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napdragons, mints, peas, sunflow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Monocot characteristic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Picture 5" descr="monocots_1"/>
          <p:cNvPicPr/>
          <p:nvPr/>
        </p:nvPicPr>
        <p:blipFill>
          <a:blip r:embed="rId1"/>
          <a:stretch/>
        </p:blipFill>
        <p:spPr>
          <a:xfrm>
            <a:off x="685800" y="1905120"/>
            <a:ext cx="7391520" cy="396216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icot characteristic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7" name="Picture 5" descr="DICOTS"/>
          <p:cNvPicPr/>
          <p:nvPr/>
        </p:nvPicPr>
        <p:blipFill>
          <a:blip r:embed="rId1"/>
          <a:stretch/>
        </p:blipFill>
        <p:spPr>
          <a:xfrm>
            <a:off x="762120" y="1905120"/>
            <a:ext cx="7391160" cy="3809880"/>
          </a:xfrm>
          <a:prstGeom prst="rect">
            <a:avLst/>
          </a:prstGeom>
          <a:ln w="0">
            <a:noFill/>
          </a:ln>
        </p:spPr>
      </p:pic>
      <p:sp>
        <p:nvSpPr>
          <p:cNvPr id="298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arts of the flower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ISTI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ig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y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v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h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a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flower parts"/>
          <p:cNvPicPr/>
          <p:nvPr/>
        </p:nvPicPr>
        <p:blipFill>
          <a:blip r:embed="rId1"/>
          <a:stretch/>
        </p:blipFill>
        <p:spPr>
          <a:xfrm>
            <a:off x="3352680" y="1981080"/>
            <a:ext cx="5562720" cy="3934080"/>
          </a:xfrm>
          <a:prstGeom prst="rect">
            <a:avLst/>
          </a:prstGeom>
          <a:ln w="0">
            <a:noFill/>
          </a:ln>
        </p:spPr>
      </p:pic>
      <p:sp>
        <p:nvSpPr>
          <p:cNvPr id="302" name="WordArt 8"/>
          <p:cNvSpPr txBox="1"/>
          <p:nvPr/>
        </p:nvSpPr>
        <p:spPr>
          <a:xfrm>
            <a:off x="6934320" y="4572000"/>
            <a:ext cx="18381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comes the seed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3" name="WordArt 9"/>
          <p:cNvSpPr txBox="1"/>
          <p:nvPr/>
        </p:nvSpPr>
        <p:spPr>
          <a:xfrm>
            <a:off x="7010280" y="3505320"/>
            <a:ext cx="17719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comes the fruit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eproductive Organ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ose up of stigma, style and anthers in a tul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7" name="Picture 5" descr="tulip%20anther%201"/>
          <p:cNvPicPr/>
          <p:nvPr/>
        </p:nvPicPr>
        <p:blipFill>
          <a:blip r:embed="rId1"/>
          <a:stretch/>
        </p:blipFill>
        <p:spPr>
          <a:xfrm>
            <a:off x="3809880" y="3048120"/>
            <a:ext cx="5029200" cy="33526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9" descr="tulip%20flower"/>
          <p:cNvPicPr/>
          <p:nvPr/>
        </p:nvPicPr>
        <p:blipFill>
          <a:blip r:embed="rId2"/>
          <a:stretch/>
        </p:blipFill>
        <p:spPr>
          <a:xfrm>
            <a:off x="685800" y="304812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309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volutionary Pas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yanobacter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ue- green 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otosynthet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ponsible for the marked increase in Oxygen 2000 million years ag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5" descr="botit.botany.wisc.edu/images/332/Lichens/Foliose_lichen_130_d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43600" y="2563920"/>
            <a:ext cx="3979800" cy="287316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yanobacteria Evidenc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NA shows the first green plants evolved from prokaryotes between 2500 and 1000 million years ago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ame chlorophyll in algae and land plant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7" descr="athene.as.arizona.edu/~lclose/teaching/a202/microfossil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3581280"/>
            <a:ext cx="3980160" cy="2044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trc.ucdavis.edu/djbegun/fossilEucary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38680" y="1828800"/>
            <a:ext cx="2590920" cy="166860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ndosymbiosi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symbiotic relationship between two organisms in which one of the two organisms (the endosymbiont) lives inside the body of the other one (the host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219060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7" descr="endosymbiosis"/>
          <p:cNvPicPr/>
          <p:nvPr/>
        </p:nvPicPr>
        <p:blipFill>
          <a:blip r:embed="rId1"/>
          <a:stretch/>
        </p:blipFill>
        <p:spPr>
          <a:xfrm>
            <a:off x="5043600" y="1981080"/>
            <a:ext cx="3979800" cy="381024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assification of Plant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ingdom - Plant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sion (-phyt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ss (-opsid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class (-ida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der (-ale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mily (-acea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es (Genus + specific epithe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66"/>
                </a:solidFill>
                <a:latin typeface="Verdana"/>
              </a:rPr>
              <a:t>          </a:t>
            </a:r>
            <a:r>
              <a:rPr b="0" i="1" lang="en-US" sz="4400" spc="-1" strike="noStrike">
                <a:solidFill>
                  <a:srgbClr val="003366"/>
                </a:solidFill>
                <a:latin typeface="Verdana"/>
              </a:rPr>
              <a:t>Magnolia grandiflor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38" name="Picture 5" descr="Magnolia_grandiflora,I_JP18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040" y="46080"/>
            <a:ext cx="2400480" cy="30481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lant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s all pla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gnolio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hyt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flowering pla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gnoli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psid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dico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gnoli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da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subclass for Magnolia-like pla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gnoli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l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order for Magnolia-like pla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gnoli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cea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family for Magnolia-like pla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agnol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genus that includes all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 Magnolia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grandiflo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specific epithe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ircumscription of Featur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new condition is added at each step to set up a category that is MOST specifi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ngs with wheels = buses, cars, bicycles, skates, airplanes, trains, etc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ground transport = buses, cars, bicycles, trai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an carry more than one person = buses, cars, trai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uns on rails = trai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csdl.tamu.edu/FLORA/tfplab/lab1a.htm#taxonom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Four major lineag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nvascula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ck xylem &amp; phloem &amp; see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edless vascula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ve xylem &amp; phloem, lack see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ymnospe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have seeds, but not enclos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giosper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enclosed see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1" descr="CLUBMOSS"/>
          <p:cNvPicPr/>
          <p:nvPr/>
        </p:nvPicPr>
        <p:blipFill>
          <a:blip r:embed="rId1"/>
          <a:stretch/>
        </p:blipFill>
        <p:spPr>
          <a:xfrm>
            <a:off x="6353280" y="0"/>
            <a:ext cx="2790720" cy="2857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9" descr="strawberry16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0"/>
            <a:ext cx="1524240" cy="16002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7" descr="SycamoreFruit0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857160" cy="12096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0" descr="01%20sidemarchantia"/>
          <p:cNvPicPr/>
          <p:nvPr/>
        </p:nvPicPr>
        <p:blipFill>
          <a:blip r:embed="rId6"/>
          <a:stretch/>
        </p:blipFill>
        <p:spPr>
          <a:xfrm>
            <a:off x="6219720" y="838080"/>
            <a:ext cx="2924280" cy="13716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1" descr="EQUIS"/>
          <p:cNvPicPr/>
          <p:nvPr/>
        </p:nvPicPr>
        <p:blipFill>
          <a:blip r:embed="rId7"/>
          <a:stretch/>
        </p:blipFill>
        <p:spPr>
          <a:xfrm>
            <a:off x="2362320" y="0"/>
            <a:ext cx="1838160" cy="2362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9" descr="dsk_apple_blossum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0" y="1219320"/>
            <a:ext cx="971640" cy="990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4" descr="[photo Goldback Fern sporophyte]"/>
          <p:cNvPicPr/>
          <p:nvPr/>
        </p:nvPicPr>
        <p:blipFill>
          <a:blip r:embed="rId10"/>
          <a:stretch/>
        </p:blipFill>
        <p:spPr>
          <a:xfrm>
            <a:off x="3886200" y="0"/>
            <a:ext cx="2362320" cy="2106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7" descr="08%2520Kilauea%2520Iki%252006%2520Fern%252020020930%2520(9)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095880" y="0"/>
            <a:ext cx="1352520" cy="905040"/>
          </a:xfrm>
          <a:prstGeom prst="rect">
            <a:avLst/>
          </a:prstGeom>
          <a:ln w="0">
            <a:noFill/>
          </a:ln>
        </p:spPr>
      </p:pic>
      <p:sp>
        <p:nvSpPr>
          <p:cNvPr id="255" name="WordArt 15"/>
          <p:cNvSpPr txBox="1"/>
          <p:nvPr/>
        </p:nvSpPr>
        <p:spPr>
          <a:xfrm>
            <a:off x="4038480" y="914400"/>
            <a:ext cx="20196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edless Vascular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56" name="Picture 25" descr="Keteleeria_fortunei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315200" y="0"/>
            <a:ext cx="914400" cy="8380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626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Exampl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61760" y="228600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5" descr="Sanguinaria_canadensis"/>
          <p:cNvPicPr/>
          <p:nvPr/>
        </p:nvPicPr>
        <p:blipFill>
          <a:blip r:embed="rId15"/>
          <a:stretch/>
        </p:blipFill>
        <p:spPr>
          <a:xfrm>
            <a:off x="0" y="2209680"/>
            <a:ext cx="2486160" cy="1809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monocot_flower"/>
          <p:cNvPicPr/>
          <p:nvPr/>
        </p:nvPicPr>
        <p:blipFill>
          <a:blip r:embed="rId16"/>
          <a:stretch/>
        </p:blipFill>
        <p:spPr>
          <a:xfrm>
            <a:off x="0" y="4038480"/>
            <a:ext cx="3743280" cy="2819520"/>
          </a:xfrm>
          <a:prstGeom prst="rect">
            <a:avLst/>
          </a:prstGeom>
          <a:ln w="0">
            <a:noFill/>
          </a:ln>
        </p:spPr>
      </p:pic>
      <p:sp>
        <p:nvSpPr>
          <p:cNvPr id="261" name="WordArt 8"/>
          <p:cNvSpPr txBox="1"/>
          <p:nvPr/>
        </p:nvSpPr>
        <p:spPr>
          <a:xfrm>
            <a:off x="1752480" y="5638680"/>
            <a:ext cx="9432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onoco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2" name="WordArt 9"/>
          <p:cNvSpPr txBox="1"/>
          <p:nvPr/>
        </p:nvSpPr>
        <p:spPr>
          <a:xfrm>
            <a:off x="380880" y="3505320"/>
            <a:ext cx="57168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co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3" name="Picture 17" descr="mosssporo"/>
          <p:cNvPicPr/>
          <p:nvPr/>
        </p:nvPicPr>
        <p:blipFill>
          <a:blip r:embed="rId17"/>
          <a:stretch/>
        </p:blipFill>
        <p:spPr>
          <a:xfrm>
            <a:off x="6400800" y="2209680"/>
            <a:ext cx="2743200" cy="1676520"/>
          </a:xfrm>
          <a:prstGeom prst="rect">
            <a:avLst/>
          </a:prstGeom>
          <a:ln w="0">
            <a:noFill/>
          </a:ln>
        </p:spPr>
      </p:pic>
      <p:sp>
        <p:nvSpPr>
          <p:cNvPr id="264" name="WordArt 18"/>
          <p:cNvSpPr txBox="1"/>
          <p:nvPr/>
        </p:nvSpPr>
        <p:spPr>
          <a:xfrm>
            <a:off x="6858000" y="1981080"/>
            <a:ext cx="13716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nvascular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5" name="Picture 33" descr="wpipo--wplook-up13989"/>
          <p:cNvPicPr/>
          <p:nvPr/>
        </p:nvPicPr>
        <p:blipFill>
          <a:blip r:embed="rId18"/>
          <a:stretch/>
        </p:blipFill>
        <p:spPr>
          <a:xfrm>
            <a:off x="3733920" y="2057400"/>
            <a:ext cx="2666880" cy="48006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stam%26ovucones"/>
          <p:cNvPicPr/>
          <p:nvPr/>
        </p:nvPicPr>
        <p:blipFill>
          <a:blip r:embed="rId19"/>
          <a:stretch/>
        </p:blipFill>
        <p:spPr>
          <a:xfrm>
            <a:off x="5257800" y="3886200"/>
            <a:ext cx="3886200" cy="2971800"/>
          </a:xfrm>
          <a:prstGeom prst="rect">
            <a:avLst/>
          </a:prstGeom>
          <a:ln w="0">
            <a:noFill/>
          </a:ln>
        </p:spPr>
      </p:pic>
      <p:sp>
        <p:nvSpPr>
          <p:cNvPr id="267" name="WordArt 12"/>
          <p:cNvSpPr txBox="1"/>
          <p:nvPr/>
        </p:nvSpPr>
        <p:spPr>
          <a:xfrm>
            <a:off x="4876920" y="3962520"/>
            <a:ext cx="143820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ymnosperm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8" name="Picture 22" descr="Chrysanthemum_leucanthemum"/>
          <p:cNvPicPr/>
          <p:nvPr/>
        </p:nvPicPr>
        <p:blipFill>
          <a:blip r:embed="rId20"/>
          <a:stretch/>
        </p:blipFill>
        <p:spPr>
          <a:xfrm>
            <a:off x="2438280" y="2057400"/>
            <a:ext cx="2381400" cy="1981080"/>
          </a:xfrm>
          <a:prstGeom prst="rect">
            <a:avLst/>
          </a:prstGeom>
          <a:ln w="0">
            <a:noFill/>
          </a:ln>
        </p:spPr>
      </p:pic>
      <p:sp>
        <p:nvSpPr>
          <p:cNvPr id="269" name="WordArt 23"/>
          <p:cNvSpPr txBox="1"/>
          <p:nvPr/>
        </p:nvSpPr>
        <p:spPr>
          <a:xfrm>
            <a:off x="1981080" y="3886200"/>
            <a:ext cx="129564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giosperm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70" name="Picture 35" descr="strawberry_development"/>
          <p:cNvPicPr/>
          <p:nvPr/>
        </p:nvPicPr>
        <p:blipFill>
          <a:blip r:embed="rId21"/>
          <a:stretch/>
        </p:blipFill>
        <p:spPr>
          <a:xfrm>
            <a:off x="914400" y="1600200"/>
            <a:ext cx="1514520" cy="74304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8:58:52Z</dcterms:created>
  <dc:creator>ICOE</dc:creator>
  <dc:description/>
  <dc:language>en-US</dc:language>
  <cp:lastModifiedBy>LEGION2</cp:lastModifiedBy>
  <dcterms:modified xsi:type="dcterms:W3CDTF">2016-01-13T09:51:38Z</dcterms:modified>
  <cp:revision>11</cp:revision>
  <dc:subject/>
  <dc:title>Plants</dc:title>
</cp:coreProperties>
</file>