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.gif" ContentType="image/gif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E940-6C55-4725-9243-31F311A2D2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and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is a small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size is controlled by 2 guar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function is for gas exchange in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 plant is photosynthes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open and close at different times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is light the plant needs CO2 for photosynthesis so the stoma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(darkness) the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– function an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plant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 water and minerals from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sed cells to increase surface area for water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gile parts of cells that grow from the main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ssively increase the surface area for absor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hair cells        (x1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  ‘B’  has had the hairs damaged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xchange of gases –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 light energy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ing sugar from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of gases –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s to catch mor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get carbon dioxide from bottom to top of leaf for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er on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gets in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diagram – palisad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cell - palis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per surface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are designed to allow carbon dioxide to get to the main chlorophyll layer at the top of the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holes called stomata on the unde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hole is open &amp; closed by 2 guar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832-A5F1-40C6-9E50-C55279C1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B16-9B01-4E9C-B105-7FE7B2E6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753-D6FF-4911-8013-E6253151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381-ADDB-4FDA-A489-A666B783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FFF1-AF33-49FA-B031-FE2E6339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B2D2-5DC0-4004-A594-576E7C9C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50BE-5BCA-4A27-9710-BFAFE2B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54DA-C253-48FF-911D-86C89672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A3DE-2AED-4155-8A95-677B7EE8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B714-7C21-4821-8954-4F2AFB15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6CBF-BA51-43E9-9F01-7B01439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9B5-339B-4DE1-8B4A-426DD18C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9519-2C68-42B6-8721-FB61A756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EEE5-A9EE-40EC-AF1E-6F69AD07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0DFD-E2CF-4D2C-8012-29A32904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E9BE-D65A-4EE9-AC48-39759952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8A30-D664-4904-8164-EA6597BF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BEB-507B-445A-8B9B-1D169004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9C6-5496-4D89-8366-505F0844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60D-E57E-4B9E-885B-6184B82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5D0-0AB5-46B8-9181-E694956D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3A8-F4C1-447D-AD29-AD6204B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2E4-976A-4DE7-A188-50C9DB7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9BB-F622-45B7-9ECD-16C22C2A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8AEA-17D7-4246-8AEC-145D6B678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C001-4CA9-4351-81C3-9E60A27215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Arial Black"/>
              </a:rPr>
              <a:t>Plant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tructu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Le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lower gif"/>
          <p:cNvPicPr/>
          <p:nvPr/>
        </p:nvPicPr>
        <p:blipFill>
          <a:blip r:embed="rId1"/>
          <a:stretch/>
        </p:blipFill>
        <p:spPr>
          <a:xfrm>
            <a:off x="4716360" y="47628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aisy gif"/>
          <p:cNvPicPr/>
          <p:nvPr/>
        </p:nvPicPr>
        <p:blipFill>
          <a:blip r:embed="rId2"/>
          <a:stretch/>
        </p:blipFill>
        <p:spPr>
          <a:xfrm>
            <a:off x="6324480" y="3657600"/>
            <a:ext cx="172080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</a:t>
            </a:r>
            <a:br>
              <a:rPr sz="3600"/>
            </a:b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stoma and guard cells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3" descr="leaf section"/>
          <p:cNvPicPr/>
          <p:nvPr/>
        </p:nvPicPr>
        <p:blipFill>
          <a:blip r:embed="rId1"/>
          <a:stretch/>
        </p:blipFill>
        <p:spPr>
          <a:xfrm>
            <a:off x="755640" y="1413000"/>
            <a:ext cx="7570800" cy="503208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>
            <a:off x="6012000" y="4724280"/>
            <a:ext cx="0" cy="79236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oma pos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leaf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4986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01680" y="314280"/>
            <a:ext cx="6980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is a small ho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stomata closup"/>
          <p:cNvPicPr/>
          <p:nvPr/>
        </p:nvPicPr>
        <p:blipFill>
          <a:blip r:embed="rId1"/>
          <a:stretch/>
        </p:blipFill>
        <p:spPr>
          <a:xfrm>
            <a:off x="1692360" y="2133720"/>
            <a:ext cx="594360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008000" y="981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ts size is controlled by 2 guar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484360" y="5734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508720" y="580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Stoma function is for gas exchange in the leaf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0" name="Picture 4" descr="STOMATA diag"/>
          <p:cNvPicPr/>
          <p:nvPr/>
        </p:nvPicPr>
        <p:blipFill>
          <a:blip r:embed="rId1"/>
          <a:stretch/>
        </p:blipFill>
        <p:spPr>
          <a:xfrm>
            <a:off x="900000" y="1484280"/>
            <a:ext cx="4873680" cy="4570560"/>
          </a:xfrm>
          <a:prstGeom prst="rect">
            <a:avLst/>
          </a:prstGeom>
          <a:ln w="0">
            <a:noFill/>
          </a:ln>
        </p:spPr>
      </p:pic>
      <p:sp>
        <p:nvSpPr>
          <p:cNvPr id="161" name="Line 5"/>
          <p:cNvSpPr/>
          <p:nvPr/>
        </p:nvSpPr>
        <p:spPr>
          <a:xfrm flipV="1">
            <a:off x="3492360" y="2421000"/>
            <a:ext cx="2664000" cy="1079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3419640" y="4292280"/>
            <a:ext cx="2736720" cy="1152360"/>
          </a:xfrm>
          <a:prstGeom prst="line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372360" y="4724280"/>
            <a:ext cx="180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300720" y="1916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90000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uard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300720" y="321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rovided plant is photosynthesi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tomata open cloz"/>
          <p:cNvPicPr/>
          <p:nvPr/>
        </p:nvPicPr>
        <p:blipFill>
          <a:blip r:embed="rId1"/>
          <a:stretch/>
        </p:blipFill>
        <p:spPr>
          <a:xfrm>
            <a:off x="3276720" y="404640"/>
            <a:ext cx="5400720" cy="6048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250920" y="765000"/>
            <a:ext cx="295272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ta open and close at different times of the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it is light the plant needs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photosynthesis so the stoma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night (darkness) they 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2" name="Picture 4" descr="gas exchange plant diag"/>
          <p:cNvPicPr/>
          <p:nvPr/>
        </p:nvPicPr>
        <p:blipFill>
          <a:blip r:embed="rId1"/>
          <a:stretch/>
        </p:blipFill>
        <p:spPr>
          <a:xfrm>
            <a:off x="1295280" y="1436760"/>
            <a:ext cx="6782040" cy="44305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s – function and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63272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ld plant in po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sorb water and minerals from the s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alised cells to increase surface area for water inta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116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Wheat s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8" name="Picture 4" descr="root%20hair"/>
          <p:cNvPicPr/>
          <p:nvPr/>
        </p:nvPicPr>
        <p:blipFill>
          <a:blip r:embed="rId1"/>
          <a:stretch/>
        </p:blipFill>
        <p:spPr>
          <a:xfrm>
            <a:off x="3851280" y="404640"/>
            <a:ext cx="4956120" cy="6120000"/>
          </a:xfrm>
          <a:prstGeom prst="rect">
            <a:avLst/>
          </a:prstGeom>
          <a:ln w="0">
            <a:noFill/>
          </a:ln>
        </p:spPr>
      </p:pic>
      <p:sp>
        <p:nvSpPr>
          <p:cNvPr id="179" name="Line 7"/>
          <p:cNvSpPr/>
          <p:nvPr/>
        </p:nvSpPr>
        <p:spPr>
          <a:xfrm>
            <a:off x="3419640" y="2492280"/>
            <a:ext cx="1439640" cy="8654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9640" y="1989000"/>
            <a:ext cx="27370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oot hair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gile parts of cells that grow from the main r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massively increase the surface area for absorp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oot hair cells        </a:t>
            </a:r>
            <a:r>
              <a:rPr b="1" lang="en-GB" sz="2400" spc="-1" strike="noStrike">
                <a:solidFill>
                  <a:srgbClr val="ffffb7"/>
                </a:solidFill>
                <a:latin typeface="Arial Black"/>
              </a:rPr>
              <a:t>(x150)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3" name="Picture 4" descr="root hairs"/>
          <p:cNvPicPr/>
          <p:nvPr/>
        </p:nvPicPr>
        <p:blipFill>
          <a:blip r:embed="rId1"/>
          <a:stretch/>
        </p:blipFill>
        <p:spPr>
          <a:xfrm>
            <a:off x="5867280" y="1268280"/>
            <a:ext cx="2766960" cy="4969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rroot hair"/>
          <p:cNvPicPr/>
          <p:nvPr/>
        </p:nvPicPr>
        <p:blipFill>
          <a:blip r:embed="rId2"/>
          <a:stretch/>
        </p:blipFill>
        <p:spPr>
          <a:xfrm>
            <a:off x="539640" y="1197000"/>
            <a:ext cx="5184720" cy="4968720"/>
          </a:xfrm>
          <a:prstGeom prst="rect">
            <a:avLst/>
          </a:prstGeom>
          <a:ln w="0">
            <a:noFill/>
          </a:ln>
        </p:spPr>
      </p:pic>
      <p:sp>
        <p:nvSpPr>
          <p:cNvPr id="185" name="Line 10"/>
          <p:cNvSpPr/>
          <p:nvPr/>
        </p:nvSpPr>
        <p:spPr>
          <a:xfrm>
            <a:off x="6659640" y="2924280"/>
            <a:ext cx="217440" cy="10094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V="1">
            <a:off x="6300720" y="1773000"/>
            <a:ext cx="1008000" cy="3603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9" name="Picture 4" descr="rooy hair"/>
          <p:cNvPicPr/>
          <p:nvPr/>
        </p:nvPicPr>
        <p:blipFill>
          <a:blip r:embed="rId1"/>
          <a:stretch/>
        </p:blipFill>
        <p:spPr>
          <a:xfrm>
            <a:off x="3924360" y="549360"/>
            <a:ext cx="4957560" cy="5904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324000" y="191628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ot   ‘B’  has had the hairs damaged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tree"/>
          <p:cNvPicPr/>
          <p:nvPr/>
        </p:nvPicPr>
        <p:blipFill>
          <a:blip r:embed="rId1"/>
          <a:stretch/>
        </p:blipFill>
        <p:spPr>
          <a:xfrm>
            <a:off x="324000" y="2060640"/>
            <a:ext cx="2447640" cy="226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leaves sycamore"/>
          <p:cNvPicPr/>
          <p:nvPr/>
        </p:nvPicPr>
        <p:blipFill>
          <a:blip r:embed="rId2"/>
          <a:stretch/>
        </p:blipFill>
        <p:spPr>
          <a:xfrm>
            <a:off x="3059280" y="2060640"/>
            <a:ext cx="5184720" cy="42339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Picture 4" descr="rootxs3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362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Function of lea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p light energy for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ing sugar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hange of gases –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xygen and carbon di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leaf ps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3216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538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leaf ps"/>
          <p:cNvPicPr/>
          <p:nvPr/>
        </p:nvPicPr>
        <p:blipFill>
          <a:blip r:embed="rId1"/>
          <a:stretch/>
        </p:blipFill>
        <p:spPr>
          <a:xfrm>
            <a:off x="4572000" y="69228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395280" y="1484280"/>
            <a:ext cx="403236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s to catch more light ener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elp get carbon dioxide from bottom to top of leaf for photosynthe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Leaf stru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leaf x section"/>
          <p:cNvPicPr/>
          <p:nvPr/>
        </p:nvPicPr>
        <p:blipFill>
          <a:blip r:embed="rId1"/>
          <a:stretch/>
        </p:blipFill>
        <p:spPr>
          <a:xfrm>
            <a:off x="609480" y="1219320"/>
            <a:ext cx="7848720" cy="4895640"/>
          </a:xfrm>
          <a:prstGeom prst="rect">
            <a:avLst/>
          </a:prstGeom>
          <a:ln w="0">
            <a:noFill/>
          </a:ln>
        </p:spPr>
      </p:pic>
      <p:sp>
        <p:nvSpPr>
          <p:cNvPr id="126" name="Line 5"/>
          <p:cNvSpPr/>
          <p:nvPr/>
        </p:nvSpPr>
        <p:spPr>
          <a:xfrm flipH="1">
            <a:off x="6156000" y="1989000"/>
            <a:ext cx="647640" cy="1152720"/>
          </a:xfrm>
          <a:prstGeom prst="line">
            <a:avLst/>
          </a:prstGeom>
          <a:ln w="85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443640" y="148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er on 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H="1" flipV="1">
            <a:off x="6011640" y="5157360"/>
            <a:ext cx="647640" cy="57636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732720" y="5445000"/>
            <a:ext cx="1655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gets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b7"/>
                </a:solidFill>
                <a:latin typeface="Arial Black"/>
              </a:rPr>
              <a:t>Leaf diagram – palisade lay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5" descr="leaf section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5216400"/>
          </a:xfrm>
          <a:prstGeom prst="rect">
            <a:avLst/>
          </a:prstGeom>
          <a:ln w="0">
            <a:noFill/>
          </a:ln>
        </p:spPr>
      </p:pic>
      <p:sp>
        <p:nvSpPr>
          <p:cNvPr id="133" name="Line 6"/>
          <p:cNvSpPr/>
          <p:nvPr/>
        </p:nvSpPr>
        <p:spPr>
          <a:xfrm>
            <a:off x="2484360" y="2205000"/>
            <a:ext cx="936720" cy="0"/>
          </a:xfrm>
          <a:prstGeom prst="line">
            <a:avLst/>
          </a:prstGeom>
          <a:ln w="117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10"/>
          <p:cNvSpPr/>
          <p:nvPr/>
        </p:nvSpPr>
        <p:spPr>
          <a:xfrm>
            <a:off x="5807160" y="4476600"/>
            <a:ext cx="841320" cy="1568520"/>
          </a:xfrm>
          <a:custGeom>
            <a:avLst/>
            <a:gdLst/>
            <a:ahLst/>
            <a:rect l="l" t="t" r="r" b="b"/>
            <a:pathLst>
              <a:path w="530" h="988">
                <a:moveTo>
                  <a:pt x="530" y="936"/>
                </a:moveTo>
                <a:cubicBezTo>
                  <a:pt x="452" y="988"/>
                  <a:pt x="438" y="970"/>
                  <a:pt x="326" y="960"/>
                </a:cubicBezTo>
                <a:cubicBezTo>
                  <a:pt x="314" y="956"/>
                  <a:pt x="302" y="951"/>
                  <a:pt x="290" y="948"/>
                </a:cubicBezTo>
                <a:cubicBezTo>
                  <a:pt x="274" y="943"/>
                  <a:pt x="258" y="941"/>
                  <a:pt x="242" y="936"/>
                </a:cubicBezTo>
                <a:cubicBezTo>
                  <a:pt x="218" y="929"/>
                  <a:pt x="170" y="912"/>
                  <a:pt x="170" y="912"/>
                </a:cubicBezTo>
                <a:cubicBezTo>
                  <a:pt x="132" y="855"/>
                  <a:pt x="151" y="890"/>
                  <a:pt x="122" y="804"/>
                </a:cubicBezTo>
                <a:cubicBezTo>
                  <a:pt x="118" y="792"/>
                  <a:pt x="114" y="780"/>
                  <a:pt x="110" y="768"/>
                </a:cubicBezTo>
                <a:cubicBezTo>
                  <a:pt x="106" y="756"/>
                  <a:pt x="98" y="732"/>
                  <a:pt x="98" y="732"/>
                </a:cubicBezTo>
                <a:cubicBezTo>
                  <a:pt x="102" y="688"/>
                  <a:pt x="102" y="644"/>
                  <a:pt x="110" y="600"/>
                </a:cubicBezTo>
                <a:cubicBezTo>
                  <a:pt x="114" y="575"/>
                  <a:pt x="134" y="528"/>
                  <a:pt x="134" y="528"/>
                </a:cubicBezTo>
                <a:cubicBezTo>
                  <a:pt x="130" y="456"/>
                  <a:pt x="131" y="384"/>
                  <a:pt x="122" y="312"/>
                </a:cubicBezTo>
                <a:cubicBezTo>
                  <a:pt x="106" y="181"/>
                  <a:pt x="93" y="297"/>
                  <a:pt x="50" y="168"/>
                </a:cubicBezTo>
                <a:cubicBezTo>
                  <a:pt x="33" y="118"/>
                  <a:pt x="45" y="143"/>
                  <a:pt x="14" y="96"/>
                </a:cubicBezTo>
                <a:cubicBezTo>
                  <a:pt x="0" y="24"/>
                  <a:pt x="2" y="56"/>
                  <a:pt x="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 flipV="1">
            <a:off x="5940000" y="4581000"/>
            <a:ext cx="144360" cy="107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084720" y="5589720"/>
            <a:ext cx="172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826920" y="1844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st chlorophy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Leaf cell - palisad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024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Posi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pper surface of 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ox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palisade cell"/>
          <p:cNvPicPr/>
          <p:nvPr/>
        </p:nvPicPr>
        <p:blipFill>
          <a:blip r:embed="rId1"/>
          <a:stretch/>
        </p:blipFill>
        <p:spPr>
          <a:xfrm>
            <a:off x="3505320" y="1219320"/>
            <a:ext cx="518148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Gas exchang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ves are designed to allow carbon dioxide to get to the main chlorophyll layer at the top of the lea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small holes called stomata on the under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hole is open &amp; closed by 2 guard ce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8:46:24Z</dcterms:created>
  <dc:creator>rik g</dc:creator>
  <dc:description/>
  <dc:language>en-US</dc:language>
  <cp:lastModifiedBy>LEGION2</cp:lastModifiedBy>
  <dcterms:modified xsi:type="dcterms:W3CDTF">2016-01-13T09:58:14Z</dcterms:modified>
  <cp:revision>24</cp:revision>
  <dc:subject/>
  <dc:title>Plants</dc:title>
</cp:coreProperties>
</file>