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gif" ContentType="image/gif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F300-0665-43C0-8349-9790214EF2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xchange of gases –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of gases –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AB3-6B18-4A01-92BC-CCB4C699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6F3-9787-4A15-853F-4C393F64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6A8-BBCF-450B-99E3-28E23F41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A49-7D3F-4D5A-AC7A-3E8F3397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EEA5-C284-4170-AD67-BE3CFBFB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F42B-E79E-4E47-9AEE-E3227135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F433-1C76-4313-93B7-B150D957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34FF-480E-4611-8205-4B43A07F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2991-0205-4BD1-9031-E9CBAB66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E8FC-11A0-4ABE-84A6-560720CD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3528-96F1-43AB-AA36-9998A6ED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39F-0F08-4B0E-97F8-9636AFBC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631A-2757-43C7-967B-A4283364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D6FF-9DFC-45FA-938E-7DAF1594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AF5A-9518-4EC8-99E7-6BBF1F99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7199-5C10-4AF6-B4EA-23711210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CF60-9E65-4645-A2B1-75F7D60D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040-B965-4266-A931-C343338D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0FD-2567-4D94-8747-B0ED83C1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3DA-7C6A-43B5-86F7-38BE2E57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DA3-11CC-4692-93E1-1007BEDA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054-9653-4680-B44E-D15A5B89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2C9-3B84-4E69-83C1-57E1C742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FF5-D1F0-4312-90F7-B3369B48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32E3-C87D-44F7-9B52-8B0143D979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787A-93A3-4FC7-B8B9-E5522F73E0A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Plant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ructu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flower gif"/>
          <p:cNvPicPr/>
          <p:nvPr/>
        </p:nvPicPr>
        <p:blipFill>
          <a:blip r:embed="rId1"/>
          <a:stretch/>
        </p:blipFill>
        <p:spPr>
          <a:xfrm>
            <a:off x="4716360" y="47628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aisy gif"/>
          <p:cNvPicPr/>
          <p:nvPr/>
        </p:nvPicPr>
        <p:blipFill>
          <a:blip r:embed="rId2"/>
          <a:stretch/>
        </p:blipFill>
        <p:spPr>
          <a:xfrm>
            <a:off x="6324480" y="3657600"/>
            <a:ext cx="172080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84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</a:t>
            </a:r>
            <a:br>
              <a:rPr sz="3600"/>
            </a:b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stoma and guard cell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3" descr="leaf section"/>
          <p:cNvPicPr/>
          <p:nvPr/>
        </p:nvPicPr>
        <p:blipFill>
          <a:blip r:embed="rId1"/>
          <a:stretch/>
        </p:blipFill>
        <p:spPr>
          <a:xfrm>
            <a:off x="755640" y="1413000"/>
            <a:ext cx="7570800" cy="503208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>
            <a:off x="6012000" y="4724280"/>
            <a:ext cx="0" cy="79236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oma pos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4" descr="leaf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4986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01680" y="314280"/>
            <a:ext cx="6980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is a small ho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4" descr="stomata closup"/>
          <p:cNvPicPr/>
          <p:nvPr/>
        </p:nvPicPr>
        <p:blipFill>
          <a:blip r:embed="rId1"/>
          <a:stretch/>
        </p:blipFill>
        <p:spPr>
          <a:xfrm>
            <a:off x="1692360" y="2133720"/>
            <a:ext cx="59436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00800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ts size is controlled by 2 guar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84360" y="57340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508720" y="580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function is for gas exchange in the leaf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STOMATA diag"/>
          <p:cNvPicPr/>
          <p:nvPr/>
        </p:nvPicPr>
        <p:blipFill>
          <a:blip r:embed="rId1"/>
          <a:stretch/>
        </p:blipFill>
        <p:spPr>
          <a:xfrm>
            <a:off x="900000" y="1484280"/>
            <a:ext cx="4873680" cy="4570560"/>
          </a:xfrm>
          <a:prstGeom prst="rect">
            <a:avLst/>
          </a:prstGeom>
          <a:ln w="0">
            <a:noFill/>
          </a:ln>
        </p:spPr>
      </p:pic>
      <p:sp>
        <p:nvSpPr>
          <p:cNvPr id="161" name="Line 5"/>
          <p:cNvSpPr/>
          <p:nvPr/>
        </p:nvSpPr>
        <p:spPr>
          <a:xfrm flipV="1">
            <a:off x="3492360" y="2421000"/>
            <a:ext cx="2664000" cy="1079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H="1" flipV="1">
            <a:off x="3419640" y="4292280"/>
            <a:ext cx="2736720" cy="1152360"/>
          </a:xfrm>
          <a:prstGeom prst="line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372360" y="472428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300720" y="191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90000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uard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300720" y="321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ed plant is photosynthes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tomata open cloz"/>
          <p:cNvPicPr/>
          <p:nvPr/>
        </p:nvPicPr>
        <p:blipFill>
          <a:blip r:embed="rId1"/>
          <a:stretch/>
        </p:blipFill>
        <p:spPr>
          <a:xfrm>
            <a:off x="3276720" y="404640"/>
            <a:ext cx="5400720" cy="6048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250920" y="765000"/>
            <a:ext cx="295272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mata open and close at different times of th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t is light the plant needs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or photosynthesis so the stoma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night (darkness) they 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Picture 4" descr="gas exchange plant diag"/>
          <p:cNvPicPr/>
          <p:nvPr/>
        </p:nvPicPr>
        <p:blipFill>
          <a:blip r:embed="rId1"/>
          <a:stretch/>
        </p:blipFill>
        <p:spPr>
          <a:xfrm>
            <a:off x="1295280" y="1436760"/>
            <a:ext cx="6782040" cy="4430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s – function and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327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ld plant in 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sorb water and minerals from the so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alised cells to increase surface area for water int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11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eat se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root%20hair"/>
          <p:cNvPicPr/>
          <p:nvPr/>
        </p:nvPicPr>
        <p:blipFill>
          <a:blip r:embed="rId1"/>
          <a:stretch/>
        </p:blipFill>
        <p:spPr>
          <a:xfrm>
            <a:off x="3851280" y="404640"/>
            <a:ext cx="4956120" cy="6120000"/>
          </a:xfrm>
          <a:prstGeom prst="rect">
            <a:avLst/>
          </a:prstGeom>
          <a:ln w="0">
            <a:noFill/>
          </a:ln>
        </p:spPr>
      </p:pic>
      <p:sp>
        <p:nvSpPr>
          <p:cNvPr id="179" name="Line 7"/>
          <p:cNvSpPr/>
          <p:nvPr/>
        </p:nvSpPr>
        <p:spPr>
          <a:xfrm>
            <a:off x="3419640" y="2492280"/>
            <a:ext cx="1439640" cy="865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9640" y="1989000"/>
            <a:ext cx="273708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oot hair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gile parts of cells that grow from the main 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massively increase the surface area for absorp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 hair cells        </a:t>
            </a:r>
            <a:r>
              <a:rPr b="1" lang="en-GB" sz="2400" spc="-1" strike="noStrike">
                <a:solidFill>
                  <a:srgbClr val="ffffb7"/>
                </a:solidFill>
                <a:latin typeface="Arial Black"/>
              </a:rPr>
              <a:t>(x150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Picture 4" descr="root hairs"/>
          <p:cNvPicPr/>
          <p:nvPr/>
        </p:nvPicPr>
        <p:blipFill>
          <a:blip r:embed="rId1"/>
          <a:stretch/>
        </p:blipFill>
        <p:spPr>
          <a:xfrm>
            <a:off x="5867280" y="1268280"/>
            <a:ext cx="2766960" cy="496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rroot hair"/>
          <p:cNvPicPr/>
          <p:nvPr/>
        </p:nvPicPr>
        <p:blipFill>
          <a:blip r:embed="rId2"/>
          <a:stretch/>
        </p:blipFill>
        <p:spPr>
          <a:xfrm>
            <a:off x="539640" y="1197000"/>
            <a:ext cx="5184720" cy="4968720"/>
          </a:xfrm>
          <a:prstGeom prst="rect">
            <a:avLst/>
          </a:prstGeom>
          <a:ln w="0">
            <a:noFill/>
          </a:ln>
        </p:spPr>
      </p:pic>
      <p:sp>
        <p:nvSpPr>
          <p:cNvPr id="185" name="Line 10"/>
          <p:cNvSpPr/>
          <p:nvPr/>
        </p:nvSpPr>
        <p:spPr>
          <a:xfrm>
            <a:off x="6659640" y="2924280"/>
            <a:ext cx="217440" cy="10094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6300720" y="1773000"/>
            <a:ext cx="1008000" cy="3603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Picture 4" descr="rooy hair"/>
          <p:cNvPicPr/>
          <p:nvPr/>
        </p:nvPicPr>
        <p:blipFill>
          <a:blip r:embed="rId1"/>
          <a:stretch/>
        </p:blipFill>
        <p:spPr>
          <a:xfrm>
            <a:off x="3924360" y="549360"/>
            <a:ext cx="4957560" cy="59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24000" y="191628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ot   ‘B’  has had the hairs damaged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tree"/>
          <p:cNvPicPr/>
          <p:nvPr/>
        </p:nvPicPr>
        <p:blipFill>
          <a:blip r:embed="rId1"/>
          <a:stretch/>
        </p:blipFill>
        <p:spPr>
          <a:xfrm>
            <a:off x="324000" y="2060640"/>
            <a:ext cx="2447640" cy="22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leaves sycamore"/>
          <p:cNvPicPr/>
          <p:nvPr/>
        </p:nvPicPr>
        <p:blipFill>
          <a:blip r:embed="rId2"/>
          <a:stretch/>
        </p:blipFill>
        <p:spPr>
          <a:xfrm>
            <a:off x="3059280" y="2060640"/>
            <a:ext cx="5184720" cy="42339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3" name="Picture 4" descr="rootxs3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362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Function of 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p light energy for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ing sugar from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hange of gases –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xygen and 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leaf ps"/>
          <p:cNvPicPr/>
          <p:nvPr/>
        </p:nvPicPr>
        <p:blipFill>
          <a:blip r:embed="rId1"/>
          <a:stretch/>
        </p:blipFill>
        <p:spPr>
          <a:xfrm>
            <a:off x="826920" y="260280"/>
            <a:ext cx="7848720" cy="63216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538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leaf ps"/>
          <p:cNvPicPr/>
          <p:nvPr/>
        </p:nvPicPr>
        <p:blipFill>
          <a:blip r:embed="rId1"/>
          <a:stretch/>
        </p:blipFill>
        <p:spPr>
          <a:xfrm>
            <a:off x="4572000" y="69228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395280" y="1484280"/>
            <a:ext cx="403236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s to catch more light ener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 get carbon dioxide from bottom to top of leaf for photosynthe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f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leaf x section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4895640"/>
          </a:xfrm>
          <a:prstGeom prst="rect">
            <a:avLst/>
          </a:prstGeom>
          <a:ln w="0">
            <a:noFill/>
          </a:ln>
        </p:spPr>
      </p:pic>
      <p:sp>
        <p:nvSpPr>
          <p:cNvPr id="126" name="Line 5"/>
          <p:cNvSpPr/>
          <p:nvPr/>
        </p:nvSpPr>
        <p:spPr>
          <a:xfrm flipH="1">
            <a:off x="6156000" y="1989000"/>
            <a:ext cx="647640" cy="115272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443640" y="148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er on 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6011640" y="5157360"/>
            <a:ext cx="647640" cy="57636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732720" y="544500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gets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palisade lay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5" descr="leaf section"/>
          <p:cNvPicPr/>
          <p:nvPr/>
        </p:nvPicPr>
        <p:blipFill>
          <a:blip r:embed="rId1"/>
          <a:stretch/>
        </p:blipFill>
        <p:spPr>
          <a:xfrm>
            <a:off x="838080" y="990720"/>
            <a:ext cx="7848720" cy="5216400"/>
          </a:xfrm>
          <a:prstGeom prst="rect">
            <a:avLst/>
          </a:prstGeom>
          <a:ln w="0">
            <a:noFill/>
          </a:ln>
        </p:spPr>
      </p:pic>
      <p:sp>
        <p:nvSpPr>
          <p:cNvPr id="133" name="Line 6"/>
          <p:cNvSpPr/>
          <p:nvPr/>
        </p:nvSpPr>
        <p:spPr>
          <a:xfrm>
            <a:off x="2484360" y="2205000"/>
            <a:ext cx="936720" cy="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5807160" y="4476600"/>
            <a:ext cx="841320" cy="1568520"/>
          </a:xfrm>
          <a:custGeom>
            <a:avLst/>
            <a:gdLst/>
            <a:ahLst/>
            <a:rect l="l" t="t" r="r" b="b"/>
            <a:pathLst>
              <a:path w="530" h="988">
                <a:moveTo>
                  <a:pt x="530" y="936"/>
                </a:moveTo>
                <a:cubicBezTo>
                  <a:pt x="452" y="988"/>
                  <a:pt x="438" y="970"/>
                  <a:pt x="326" y="960"/>
                </a:cubicBezTo>
                <a:cubicBezTo>
                  <a:pt x="314" y="956"/>
                  <a:pt x="302" y="951"/>
                  <a:pt x="290" y="948"/>
                </a:cubicBezTo>
                <a:cubicBezTo>
                  <a:pt x="274" y="943"/>
                  <a:pt x="258" y="941"/>
                  <a:pt x="242" y="936"/>
                </a:cubicBezTo>
                <a:cubicBezTo>
                  <a:pt x="218" y="929"/>
                  <a:pt x="170" y="912"/>
                  <a:pt x="170" y="912"/>
                </a:cubicBezTo>
                <a:cubicBezTo>
                  <a:pt x="132" y="855"/>
                  <a:pt x="151" y="890"/>
                  <a:pt x="122" y="804"/>
                </a:cubicBezTo>
                <a:cubicBezTo>
                  <a:pt x="118" y="792"/>
                  <a:pt x="114" y="780"/>
                  <a:pt x="110" y="768"/>
                </a:cubicBezTo>
                <a:cubicBezTo>
                  <a:pt x="106" y="756"/>
                  <a:pt x="98" y="732"/>
                  <a:pt x="98" y="732"/>
                </a:cubicBezTo>
                <a:cubicBezTo>
                  <a:pt x="102" y="688"/>
                  <a:pt x="102" y="644"/>
                  <a:pt x="110" y="600"/>
                </a:cubicBezTo>
                <a:cubicBezTo>
                  <a:pt x="114" y="575"/>
                  <a:pt x="134" y="528"/>
                  <a:pt x="134" y="528"/>
                </a:cubicBezTo>
                <a:cubicBezTo>
                  <a:pt x="130" y="456"/>
                  <a:pt x="131" y="384"/>
                  <a:pt x="122" y="312"/>
                </a:cubicBezTo>
                <a:cubicBezTo>
                  <a:pt x="106" y="181"/>
                  <a:pt x="93" y="297"/>
                  <a:pt x="50" y="168"/>
                </a:cubicBezTo>
                <a:cubicBezTo>
                  <a:pt x="33" y="118"/>
                  <a:pt x="45" y="143"/>
                  <a:pt x="14" y="96"/>
                </a:cubicBezTo>
                <a:cubicBezTo>
                  <a:pt x="0" y="24"/>
                  <a:pt x="2" y="56"/>
                  <a:pt x="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 flipV="1">
            <a:off x="5940000" y="4581000"/>
            <a:ext cx="144360" cy="1079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084720" y="5589720"/>
            <a:ext cx="17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826920" y="1844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st chlorophy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Leaf cell - palisad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3024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osi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pper surface of 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eat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ox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palisade cell"/>
          <p:cNvPicPr/>
          <p:nvPr/>
        </p:nvPicPr>
        <p:blipFill>
          <a:blip r:embed="rId1"/>
          <a:stretch/>
        </p:blipFill>
        <p:spPr>
          <a:xfrm>
            <a:off x="3505320" y="1219320"/>
            <a:ext cx="518148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ves are designed to allow carbon dioxide to get to the main chlorophyll layer at the top of the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small holes called stomata on the under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ch hole is open &amp; closed by 2 guard c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8:46:24Z</dcterms:created>
  <dc:creator>rik g</dc:creator>
  <dc:description/>
  <dc:language>en-US</dc:language>
  <cp:lastModifiedBy>LEGION2</cp:lastModifiedBy>
  <dcterms:modified xsi:type="dcterms:W3CDTF">2016-01-13T09:58:14Z</dcterms:modified>
  <cp:revision>24</cp:revision>
  <dc:subject/>
  <dc:title>Plants</dc:title>
</cp:coreProperties>
</file>