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9C60-77E5-4489-8C6A-40ABBE29697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DEE68-89F8-44A7-8937-FFF4E1022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D9C14-FF8D-4496-8FFC-BD984DDF2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65B03-21AA-4594-846D-5FF48E367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A3A78-5EFB-4EF5-839C-03AC20730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6F8CA-651F-4D70-97B4-8E794E699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F3293-CEFA-41F0-9EB4-B1C6AAF4C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A9D5B-CCC7-417C-8299-47BBEA8AF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C67F6-3FDD-4863-9F07-8A1B511B4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498A5-CE3B-41B4-A474-B99BF9792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5BA14-4F7A-4D25-822B-9B2B9DD22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9B6EF-77D0-4165-B225-DE2BBFFF4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2A604-9A77-4CE1-B5E0-3DBEEA58C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A9373-B906-46A9-8CDB-FED0A99F365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8731-042B-4957-A985-6FE17A0A4165}"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2</cp:lastModifiedBy>
  <dcterms:modified xsi:type="dcterms:W3CDTF">2016-01-13T10:13:34Z</dcterms:modified>
  <cp:revision>9</cp:revision>
  <dc:subject/>
  <dc:title>SUPPORT AND TRANSPORT IN PLANTS</dc:title>
</cp:coreProperties>
</file>