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4E63-84C4-42A2-955A-4AAAB042FE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827-BF7C-406A-8939-81C46DE9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D98-01C8-45DA-B358-60C27F57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412-223E-4A27-9F82-1E4D4018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138-DDC2-479A-A9E9-FB8B1FE5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FC0F-832A-4EDF-82D6-F2A8DD64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A4E3-CA8B-4E81-8D07-D5D8F254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C72A-2E1E-47C0-810B-FFED115D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5DE2-0B93-4205-9B1F-C5F68E97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9F42-B966-4BF3-9114-D1A992F4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081F-0E2C-4A05-8A87-CA02EBB3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EF9C-E963-4CFE-A4BD-730BCEAA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C7C-E90C-4363-90C7-A7A1C3E3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2BF3-B503-4322-AAC2-D9E59EFD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5D16-19CA-42D9-AF0C-5C9160E9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02A2-A9D1-455E-BC85-1848CF1E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74C3-00DC-4258-85F1-EE5E9A98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5237-26B0-4AD6-8500-8FAB0196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074-903E-4FE8-B809-F3584C09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702-416B-4B72-A6CF-03B1A4B5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23B-A248-45CA-877F-BA83ED9B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9E8-6F50-4F5F-85C8-06C54F0B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AD4-4DBD-49E1-9946-A41CD9C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26A-8C18-4383-95A2-2137B1A7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CD6-2544-46BB-BDEB-8ABB286F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BA16-400B-49F6-B8C8-48DFFEB4A36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3AC8-8E53-4BA6-B931-AE45C9016ACB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8f8f8"/>
                </a:solidFill>
                <a:latin typeface="Tahoma"/>
              </a:rPr>
              <a:t>Vertebrat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Tahoma"/>
              </a:rPr>
              <a:t>Animals with backbon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vertebra"/>
          <p:cNvPicPr/>
          <p:nvPr/>
        </p:nvPicPr>
        <p:blipFill>
          <a:blip r:embed="rId1"/>
          <a:stretch/>
        </p:blipFill>
        <p:spPr>
          <a:xfrm>
            <a:off x="6858000" y="205740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pinchar"/>
          <p:cNvPicPr/>
          <p:nvPr/>
        </p:nvPicPr>
        <p:blipFill>
          <a:blip r:embed="rId2"/>
          <a:stretch/>
        </p:blipFill>
        <p:spPr>
          <a:xfrm>
            <a:off x="533520" y="1981080"/>
            <a:ext cx="18586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god skel model"/>
          <p:cNvPicPr/>
          <p:nvPr/>
        </p:nvPicPr>
        <p:blipFill>
          <a:blip r:embed="rId1"/>
          <a:stretch/>
        </p:blipFill>
        <p:spPr>
          <a:xfrm>
            <a:off x="3581280" y="2286000"/>
            <a:ext cx="480060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labrador pic"/>
          <p:cNvPicPr/>
          <p:nvPr/>
        </p:nvPicPr>
        <p:blipFill>
          <a:blip r:embed="rId2"/>
          <a:stretch/>
        </p:blipFill>
        <p:spPr>
          <a:xfrm>
            <a:off x="533520" y="2590920"/>
            <a:ext cx="2895480" cy="2249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lphin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dolphin skel"/>
          <p:cNvPicPr/>
          <p:nvPr/>
        </p:nvPicPr>
        <p:blipFill>
          <a:blip r:embed="rId1"/>
          <a:stretch/>
        </p:blipFill>
        <p:spPr>
          <a:xfrm>
            <a:off x="533520" y="3429000"/>
            <a:ext cx="6248160" cy="289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dolfin -pic"/>
          <p:cNvPicPr/>
          <p:nvPr/>
        </p:nvPicPr>
        <p:blipFill>
          <a:blip r:embed="rId2"/>
          <a:stretch/>
        </p:blipFill>
        <p:spPr>
          <a:xfrm>
            <a:off x="5181480" y="457200"/>
            <a:ext cx="3314880" cy="2870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inosaur – fossil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1027" descr="allosr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7242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 – ray of r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rat xray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56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liz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lizard xray2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4575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- Fro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frogxray"/>
          <p:cNvPicPr/>
          <p:nvPr/>
        </p:nvPicPr>
        <p:blipFill>
          <a:blip r:embed="rId1"/>
          <a:stretch/>
        </p:blipFill>
        <p:spPr>
          <a:xfrm>
            <a:off x="4284720" y="549360"/>
            <a:ext cx="3673440" cy="5616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human sp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spine_xray"/>
          <p:cNvPicPr/>
          <p:nvPr/>
        </p:nvPicPr>
        <p:blipFill>
          <a:blip r:embed="rId1"/>
          <a:stretch/>
        </p:blipFill>
        <p:spPr>
          <a:xfrm>
            <a:off x="2971800" y="1676520"/>
            <a:ext cx="337644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-ray of f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porskele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5878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re are 5 vertebrate grou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Amphibians –   (frogs and newt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Reptiles      -     (lizards and snake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Bird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ammal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1905120"/>
            <a:ext cx="7632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f8f8"/>
                </a:solidFill>
                <a:latin typeface="Albertus Medium"/>
              </a:rPr>
              <a:t>Starting letters 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8f8f8"/>
                </a:solidFill>
                <a:latin typeface="Stencil"/>
              </a:rPr>
              <a:t>A       R      F       B       M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r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frog skel"/>
          <p:cNvPicPr/>
          <p:nvPr/>
        </p:nvPicPr>
        <p:blipFill>
          <a:blip r:embed="rId1"/>
          <a:stretch/>
        </p:blipFill>
        <p:spPr>
          <a:xfrm>
            <a:off x="4038480" y="685800"/>
            <a:ext cx="3719520" cy="556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rog anm"/>
          <p:cNvPicPr/>
          <p:nvPr/>
        </p:nvPicPr>
        <p:blipFill>
          <a:blip r:embed="rId2"/>
          <a:stretch/>
        </p:blipFill>
        <p:spPr>
          <a:xfrm>
            <a:off x="1066680" y="25909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nake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snake%20skeleton_JPG"/>
          <p:cNvPicPr/>
          <p:nvPr/>
        </p:nvPicPr>
        <p:blipFill>
          <a:blip r:embed="rId1"/>
          <a:stretch/>
        </p:blipFill>
        <p:spPr>
          <a:xfrm>
            <a:off x="1371600" y="2971800"/>
            <a:ext cx="64008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ake  pict"/>
          <p:cNvPicPr/>
          <p:nvPr/>
        </p:nvPicPr>
        <p:blipFill>
          <a:blip r:embed="rId2"/>
          <a:stretch/>
        </p:blipFill>
        <p:spPr>
          <a:xfrm>
            <a:off x="4572000" y="685800"/>
            <a:ext cx="3352680" cy="18223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iza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liz skel"/>
          <p:cNvPicPr/>
          <p:nvPr/>
        </p:nvPicPr>
        <p:blipFill>
          <a:blip r:embed="rId1"/>
          <a:stretch/>
        </p:blipFill>
        <p:spPr>
          <a:xfrm>
            <a:off x="914400" y="3251160"/>
            <a:ext cx="563868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liz pai"/>
          <p:cNvPicPr/>
          <p:nvPr/>
        </p:nvPicPr>
        <p:blipFill>
          <a:blip r:embed="rId2"/>
          <a:stretch/>
        </p:blipFill>
        <p:spPr>
          <a:xfrm>
            <a:off x="4724280" y="533520"/>
            <a:ext cx="3468960" cy="2566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886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i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bird skel"/>
          <p:cNvPicPr/>
          <p:nvPr/>
        </p:nvPicPr>
        <p:blipFill>
          <a:blip r:embed="rId1"/>
          <a:stretch/>
        </p:blipFill>
        <p:spPr>
          <a:xfrm>
            <a:off x="4343400" y="609480"/>
            <a:ext cx="3605040" cy="579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hiken pic"/>
          <p:cNvPicPr/>
          <p:nvPr/>
        </p:nvPicPr>
        <p:blipFill>
          <a:blip r:embed="rId2"/>
          <a:stretch/>
        </p:blipFill>
        <p:spPr>
          <a:xfrm>
            <a:off x="838080" y="2590920"/>
            <a:ext cx="3353040" cy="2438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ish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3" descr="fish skel"/>
          <p:cNvPicPr/>
          <p:nvPr/>
        </p:nvPicPr>
        <p:blipFill>
          <a:blip r:embed="rId1"/>
          <a:stretch/>
        </p:blipFill>
        <p:spPr>
          <a:xfrm>
            <a:off x="990720" y="2631960"/>
            <a:ext cx="5562360" cy="361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ish pic"/>
          <p:cNvPicPr/>
          <p:nvPr/>
        </p:nvPicPr>
        <p:blipFill>
          <a:blip r:embed="rId2"/>
          <a:stretch/>
        </p:blipFill>
        <p:spPr>
          <a:xfrm>
            <a:off x="5105520" y="380880"/>
            <a:ext cx="3236760" cy="2154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uman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skeleton1"/>
          <p:cNvPicPr/>
          <p:nvPr/>
        </p:nvPicPr>
        <p:blipFill>
          <a:blip r:embed="rId1"/>
          <a:stretch/>
        </p:blipFill>
        <p:spPr>
          <a:xfrm>
            <a:off x="826920" y="1989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ull_skeleton"/>
          <p:cNvPicPr/>
          <p:nvPr/>
        </p:nvPicPr>
        <p:blipFill>
          <a:blip r:embed="rId2"/>
          <a:stretch/>
        </p:blipFill>
        <p:spPr>
          <a:xfrm>
            <a:off x="5853240" y="2019240"/>
            <a:ext cx="147636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at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bat_skeleton"/>
          <p:cNvPicPr/>
          <p:nvPr/>
        </p:nvPicPr>
        <p:blipFill>
          <a:blip r:embed="rId1"/>
          <a:stretch/>
        </p:blipFill>
        <p:spPr>
          <a:xfrm>
            <a:off x="1219320" y="2895480"/>
            <a:ext cx="6400800" cy="337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bat pic"/>
          <p:cNvPicPr/>
          <p:nvPr/>
        </p:nvPicPr>
        <p:blipFill>
          <a:blip r:embed="rId2"/>
          <a:stretch/>
        </p:blipFill>
        <p:spPr>
          <a:xfrm>
            <a:off x="3962520" y="762120"/>
            <a:ext cx="3809880" cy="1820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56:15Z</dcterms:created>
  <dc:creator>R_Goldthorp</dc:creator>
  <dc:description/>
  <dc:language>en-US</dc:language>
  <cp:lastModifiedBy>LEGION2</cp:lastModifiedBy>
  <dcterms:modified xsi:type="dcterms:W3CDTF">2016-01-13T10:18:35Z</dcterms:modified>
  <cp:revision>13</cp:revision>
  <dc:subject/>
  <dc:title>PowerPoint Presentation</dc:title>
</cp:coreProperties>
</file>