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1D30-670D-4E4F-A33D-874E03057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th J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hould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eople will comple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eople might sta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ood in the alimentary canal is still outside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side the molecules of the food have to be able to pass through the wall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three main adaptations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vered with many finger-like projections called v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CC7-E533-4DA8-A3DD-C15195D0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A79-8348-4B4E-BC16-B6262D70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C11-6EDD-4B4F-AED2-B0B8560D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80C-727E-48D7-B231-27FE47EB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E81-8064-4910-9C1D-0A8B8302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470-AA5E-4580-8256-ABA42467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935-FE9A-4C2E-B60D-26DD5CAC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EF7-5784-4CAC-B84A-E9859853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53C-E168-45D1-9A10-EF93FB88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4D9-4630-46FC-9B5D-7C021D11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440-8A0B-4153-82CD-5979F95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609-A581-4069-9D5A-031F900E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A6EC-77D2-4741-B35B-6C02DC242F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9.6 – Absorp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mediate 2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image006"/>
          <p:cNvPicPr/>
          <p:nvPr/>
        </p:nvPicPr>
        <p:blipFill>
          <a:blip r:embed="rId1"/>
          <a:stretch/>
        </p:blipFill>
        <p:spPr>
          <a:xfrm>
            <a:off x="2843280" y="35053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finger-like folds in the surface of the small intestine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Singular – vil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villus_villi-intestinales"/>
          <p:cNvPicPr/>
          <p:nvPr/>
        </p:nvPicPr>
        <p:blipFill>
          <a:blip r:embed="rId1"/>
          <a:stretch/>
        </p:blipFill>
        <p:spPr>
          <a:xfrm>
            <a:off x="4761000" y="1413000"/>
            <a:ext cx="4383000" cy="544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Thin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has an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nly one cell th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rapid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  Good Blood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villus is supplied with blood vessels to receive the absorb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lucose/amino acids/vitamins/minerals are absorbed into blood 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ts of fat digestion absorbed into lact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w complete the ‘Notes’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Intentions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J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veryone should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-Absorp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-Visking Tub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-Small Intes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ost people will compl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eck Test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Home Practice for 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ome people might 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rrance Intermediate 2 Biology textbo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 240 ‘Applying Your Knowledg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-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alimentary canal (or gut) is a long tube inside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food in the alimentary canal is still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cells of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molecules of the food have to be able to pass through the wall of the alimentary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try the ‘Model Absorption’ k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does the piece of tube in the model re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can the food molecules inside the tube still be regarded as ‘outside’ th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food molecules in the model were able to pass through the wall of the tube most easily?  Why was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y were the protein molecules in the model unable to pass through the wall of the tu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w complete the ‘Notes’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digestprocess"/>
          <p:cNvPicPr/>
          <p:nvPr/>
        </p:nvPicPr>
        <p:blipFill>
          <a:blip r:embed="rId1"/>
          <a:stretch/>
        </p:blipFill>
        <p:spPr>
          <a:xfrm>
            <a:off x="0" y="2481120"/>
            <a:ext cx="8977320" cy="4376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passage of small food molecules through the wall of the alimentary canal and into vessels that can transport them within the bod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- Visking Tubing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iagram of the experiment when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the visking tubing was being us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you tested for starch and glucose and a table of your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explanation of the results in terms of size of the food molecule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 – 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, soluble food molecules ar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bsorb food molecules efficiently the small intestine ha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ain adaptations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3125smintestineapple"/>
          <p:cNvPicPr/>
          <p:nvPr/>
        </p:nvPicPr>
        <p:blipFill>
          <a:blip r:embed="rId1"/>
          <a:stretch/>
        </p:blipFill>
        <p:spPr>
          <a:xfrm>
            <a:off x="6372360" y="1628640"/>
            <a:ext cx="2771640" cy="23338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  A Large Surface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all intestine is very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6m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ner surface on the intestine is fol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vered with many finger-like projection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greatly increase the surface area in contact with digeste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013634fig8-24"/>
          <p:cNvPicPr/>
          <p:nvPr/>
        </p:nvPicPr>
        <p:blipFill>
          <a:blip r:embed="rId1"/>
          <a:stretch/>
        </p:blipFill>
        <p:spPr>
          <a:xfrm>
            <a:off x="0" y="0"/>
            <a:ext cx="6300720" cy="339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mallintestine1"/>
          <p:cNvPicPr/>
          <p:nvPr/>
        </p:nvPicPr>
        <p:blipFill>
          <a:blip r:embed="rId2"/>
          <a:stretch/>
        </p:blipFill>
        <p:spPr>
          <a:xfrm>
            <a:off x="4284720" y="3449520"/>
            <a:ext cx="4859280" cy="3243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0:28:57Z</dcterms:created>
  <dc:creator>CEC</dc:creator>
  <dc:description/>
  <dc:language>en-US</dc:language>
  <cp:lastModifiedBy>LEGION2</cp:lastModifiedBy>
  <dcterms:modified xsi:type="dcterms:W3CDTF">2016-01-13T10:21:28Z</dcterms:modified>
  <cp:revision>10</cp:revision>
  <dc:subject/>
  <dc:title>9.6 – Absorption Process</dc:title>
</cp:coreProperties>
</file>