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416D-0FDD-404B-8DDE-8FB2510C63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6 – Absorp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th 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hould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eople will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might st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th 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hould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eople will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might st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ood in the alimentary canal is still outside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side the molecules of the food have to be able to pass through the wall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ood in the alimentary canal is still outside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side the molecules of the food have to be able to pass through the wall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three main adaptations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three main adaptations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vered with many finger-like projections called 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vered with many finger-like projections called 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B26-5CA5-4584-AC23-CE2F6FE5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48F-0462-40F5-A8ED-91F57916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57B-6E27-4045-8B07-8622D9B5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19C-2E45-4873-9EE6-86EE9283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1250-A5CE-4A1D-8847-47BA56DD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B96-3EB9-45E1-9952-E55DED31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170-21BD-4D83-85B4-13A7170D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463-DA7C-490B-8A58-7DA44147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57F-C119-4890-A96C-0891D058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C45F-5055-4264-8CA2-02147B51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C92-1A61-4A3F-A3B7-D28CACD0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E08-93DF-4041-B0D8-4EDF0585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BAEF-DA11-4973-9471-FD330C4CB4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9.6 – Absorp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image006"/>
          <p:cNvPicPr/>
          <p:nvPr/>
        </p:nvPicPr>
        <p:blipFill>
          <a:blip r:embed="rId1"/>
          <a:stretch/>
        </p:blipFill>
        <p:spPr>
          <a:xfrm>
            <a:off x="2843280" y="3505320"/>
            <a:ext cx="4038480" cy="3352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villus_villi-intestinales"/>
          <p:cNvPicPr/>
          <p:nvPr/>
        </p:nvPicPr>
        <p:blipFill>
          <a:blip r:embed="rId1"/>
          <a:stretch/>
        </p:blipFill>
        <p:spPr>
          <a:xfrm>
            <a:off x="4761000" y="1413000"/>
            <a:ext cx="4383000" cy="544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J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veryone should compl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ost people will compl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ome people might 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food in the alimentary canal is still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cell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molecules of the food have to be able to pass through the wall of the alimentary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digestprocess"/>
          <p:cNvPicPr/>
          <p:nvPr/>
        </p:nvPicPr>
        <p:blipFill>
          <a:blip r:embed="rId1"/>
          <a:stretch/>
        </p:blipFill>
        <p:spPr>
          <a:xfrm>
            <a:off x="0" y="2481120"/>
            <a:ext cx="8977320" cy="4376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ain adaptations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3125smintestineapple"/>
          <p:cNvPicPr/>
          <p:nvPr/>
        </p:nvPicPr>
        <p:blipFill>
          <a:blip r:embed="rId1"/>
          <a:stretch/>
        </p:blipFill>
        <p:spPr>
          <a:xfrm>
            <a:off x="6372360" y="1628640"/>
            <a:ext cx="2771640" cy="233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overed with many finger-like projection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013634fig8-24"/>
          <p:cNvPicPr/>
          <p:nvPr/>
        </p:nvPicPr>
        <p:blipFill>
          <a:blip r:embed="rId1"/>
          <a:stretch/>
        </p:blipFill>
        <p:spPr>
          <a:xfrm>
            <a:off x="0" y="0"/>
            <a:ext cx="6300720" cy="3394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smallintestine1"/>
          <p:cNvPicPr/>
          <p:nvPr/>
        </p:nvPicPr>
        <p:blipFill>
          <a:blip r:embed="rId2"/>
          <a:stretch/>
        </p:blipFill>
        <p:spPr>
          <a:xfrm>
            <a:off x="4284720" y="3449520"/>
            <a:ext cx="4859280" cy="3243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0:28:57Z</dcterms:created>
  <dc:creator>CEC</dc:creator>
  <dc:description/>
  <dc:language>en-US</dc:language>
  <cp:lastModifiedBy>LEGION2</cp:lastModifiedBy>
  <dcterms:modified xsi:type="dcterms:W3CDTF">2016-01-13T10:21:28Z</dcterms:modified>
  <cp:revision>10</cp:revision>
  <dc:subject/>
  <dc:title>9.6 – Absorption Process</dc:title>
</cp:coreProperties>
</file>