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EB39-F1E1-4BD9-BF22-A58BCFBC0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POP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Da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IRRHOSI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carring of the 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 blood flow in scarred are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cannot fun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ymptoms: high blood pressure, abdominal swelling, jaundi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RREVERSIB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Da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RH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rring of the l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blood flow in scarred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cannot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: high blood pressure, abdominal swelling, jaund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EVERSI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ic 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est of Alcohol Eff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omach/Pancre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omach acids increase, which often results in nausea and vomit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rritation occurs in the stomach lining, causing open sores called ulcers; pancreas becomes inflam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inge Drink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 or more drinks in a sitting for m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or more drinks in a sitting for wom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y lead to Alcohol Poison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y lead to unplanned unprotected se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y lead to drug u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ny high school/college students die from alcohol poisoning from binge drinking on the weekend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ge D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or more drinks in a sitting for 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or more drinks in a sitting for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Alcohol Poi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unplanned unprotected s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drug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high school/college students die from alcohol poisoning from binge drinking on the weeke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ngers of Binge Drink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intentional injuries (e.g. car crash, falls, burns, drowning)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tentional injuries (e.g. firearm injuries, sexual assault, domestic violence)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poisoning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D’s and/or Unintended pregnancy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igh blood pressure, stroke, and other cardiovascular disease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Disea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angers of Binge D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ntentional injuries (e.g. car crash, falls, burns, drowning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ntional injuries (e.g. firearm injuries, sexual assault, domestic violenc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cohol poison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D’s and/or Unintended pregnan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 blood pressure, stroke, and other cardiovascular diseas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ver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ctors affecting the amount of alcohol in a person’s bloo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end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tabolis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mount of Alcohol (not # of drinks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much they weig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much time elapses after or between drink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the amount of alcohol in a person’s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b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Alcohol (not # of drink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they we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time elapses after or between dr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ing and Driv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ing alcohol impairs vision, reaction time, and coordination.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WI and DUI –leading cause of death among tee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gns of intoxication can begin to appear as low as 0.0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re is no acceptable BAC level for anyone under 2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FEST AMOUNT OF DRINKS  = 0!!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at any age!!!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ST AMOUNT OF DRINKS  = 0!!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t any age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sequences of teen DUI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arm to the driver and oth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everely restricted driving privileg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related injuries, property damage, and dea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ing with remors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Alcohol Concent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mount of alcohol in a person’s bloodstrea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gal limit for IL is .08%  for people 21 years old and old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gal limit for IL is zero for people under 2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Alcohol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alcohol in a person’s blood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limit for IL is .08%  for people 21 years old and o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limit for IL is zero for people under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5% of High School Students report having tried alcohol at least on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8% reported having an alcoholic beverage in the last mon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le students more likely than female students to report episodic heavy drink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% of High School Students report having tried alcohol at least o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% reported having an alcoholic beverage in the last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students more likely than female students to report episodic heavy d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Poison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ngerous to just “sleep it off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g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ntal confusion, stupor, coma, inability to be excited, vomiting, and seizur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ow Respiration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*Hypothermia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*Dehydration *Irregular heartbea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LL 911 immediately if suspicious of poison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are some things that people do to ‘sober up’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things that people do to ‘sober up’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SOBERS A PERSON UP THE FASTEST???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ME!!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is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disease in which a person has a physical or psychological dependence on drinks that contain alcoho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haracterized as an impaired ability to study, work, or socialize normall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3 Stages of Alcoholis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rly Stage (Stage 1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relax, relieve str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ds to necessity to manage str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gins to become intoxicated regularl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kes excuses and tries to rationalize drinking behavi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Stages of Alcoh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Stage (Stage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lax, relieve st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necessity to manage st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to become intoxicated regula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s excuses and tries to rationalize drinking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ddle Stage (Stage 2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er denies or tries to hide probl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develops tolera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equently absent from school or wor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ing is central event in a persons lif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s when alo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s first thing in the morn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s dail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Stage (Stage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er denies or tries to hid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develops tole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tly absent from school or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 is central event in a persons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s when al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s first thing in the mo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s da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Stage (Stage 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rson becomes aggressive &amp; isolate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lnutrition occurs because drinker consumes alcohol and does not worry about foo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is addic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y to quit=WITHDRAWA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lirium Tremens-hot/cold flashes, tremors, nightmares, hallucinations, fear of people and anima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*****NO CURE---ONLY RECOVERY*****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Stage (Stage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 becomes aggressive &amp; isola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nutrition occurs because drinker consumes alcohol and does not worry about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is addi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quit=WITHDRAW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irium Tremens-hot/cold flashes, tremors, nightmares, hallucinations, fear of people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***NO CURE---ONLY RECOVERY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n Family and Socie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0% of violent crimes annually are alcohol rela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½ of all homicide victims have alcohol in their bloodstrea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n Family and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% of violent crimes annually are alcohol re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½ of all homicide victims have alcohol in their blood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lcohol?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pressa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tains intoxicating substance called ethyl alcohol or ethan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ows down the functions of the brain and other parts of the nervous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lcohol?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ress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intoxicating substance called ethyl alcohol or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s down the functions of the brain and other parts of 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eatme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not be cur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be trea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unseling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dic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be c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tr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sel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re to go for hel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ics Anonymo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tional Association for children of alcoholic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tional drug and treatment referral routing servi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o go for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ics Anonym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Association for children of alcohol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drug and treatment referral routing serv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lcohol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duced by a fermentation proces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of is the amount of alcohol in the substance (ex. 100 proof bottle of vodka is 50% alcohol)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 oz. Beer = 4 oz. Wine = 1 oz. liqu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lcoh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by a fermentation pro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 is the amount of alcohol in the substance (ex. 100 proof bottle of vodka is 50% alcohol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oz. Beer = 4 oz. Wine = 1 oz. liqu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Alcoh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/Blood Vesse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ter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rspiration increases and skin becomes flush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igh blood pressure and damage to the heart muscle; blood vessels harden and become less flexib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Alcoh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/Blood Ve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piration increases and skin becomes flu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blood pressure and damage to the heart muscle; blood vessels harden and become less flex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re Eff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ain/Nervous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eech is slurred and difficulty walk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ain cells are destroyed and unable to be replaced; damage to nerves in body resulting in numbness in hands and fee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/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ch is slurred and difficulty wal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cells are destroyed and unable to be replaced; damage to nerves in body resulting in numbness in hands and f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est of Alcohol Eff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changes alcohol into water and carbon dioxid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is damaged possibly resulting in cirrhosis (scarring and destruction of the liver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only oxidize about 1 serving of alcohol an hou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 WAY to speed up this proc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til liver has had time to oxidize all of the alcohol ingested, it keeps circulating through the bloodstrea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only oxidize about 1 serving of alcohol an h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WAY to speed up this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liver has had time to oxidize all of the alcohol ingested, it keeps circulating through the blood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Da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TTY 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interferes with body’s ability to break down fa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cess fat blocks flow in liver resulting in reduced oxygen and cell dea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be REVERSED when drinking stop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Da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L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interferes with body’s ability to break down f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 fat blocks flow in liver resulting in reduced oxygen and cell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REVERSED when drinking s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60F2-08F1-42BC-B433-DA380147E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D155-0725-4CEA-9A7C-F64B6FF5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79FC-D1B4-4539-8E34-58D0D683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A99B-BA16-4488-AA9C-EB82B7687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9775-0698-4D13-8193-211E81A39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0C00-10AF-4E46-8BE3-8024D07A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EFEB-8F8A-4285-AA20-D8CCAA2F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FBE2-5521-4C36-9B65-F50D9190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378E-7BAD-4574-B60C-7E010114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3B3E-CF21-44B9-A345-23FC3406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BFA2-0D40-4210-91DE-E2910C91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EE53-39DF-4BE2-B45B-BF51943B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0D4E-5497-4A17-9340-28B75E84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595F-1A2A-4BE4-AF77-52B8D031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D4A4-3F31-47AF-ADD6-4BE949E6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04D2-853E-405F-9615-54DEB0017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9F37-53F0-4E2B-9DAA-9B8D699A7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0A83-CD1A-479C-B47C-0077F714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3729-A1D5-4106-9B49-6CC1C950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46DD-4195-4112-A1BD-0DE4C990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5F3D-0460-4E31-B2FB-77BFEF44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52D8-D789-4A5F-941A-6F03C1AF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EF0C-9CC5-4B59-B467-FC74100D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6661-1C77-4A40-9D53-CCD7092B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D18C-67C5-493A-AC87-A8B82ED490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812E-1727-4110-867F-EE77B802C6C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00"/>
                </a:solidFill>
                <a:latin typeface="Times New Roman"/>
              </a:rPr>
              <a:t>ALCOHOL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6" name="Picture 3" descr="23035392"/>
          <p:cNvPicPr/>
          <p:nvPr/>
        </p:nvPicPr>
        <p:blipFill>
          <a:blip r:embed="rId1"/>
          <a:stretch/>
        </p:blipFill>
        <p:spPr>
          <a:xfrm>
            <a:off x="380880" y="2895480"/>
            <a:ext cx="3094200" cy="3810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A5MRD5"/>
          <p:cNvPicPr/>
          <p:nvPr/>
        </p:nvPicPr>
        <p:blipFill>
          <a:blip r:embed="rId2"/>
          <a:stretch/>
        </p:blipFill>
        <p:spPr>
          <a:xfrm>
            <a:off x="762120" y="152280"/>
            <a:ext cx="1819080" cy="2667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main1"/>
          <p:cNvPicPr/>
          <p:nvPr/>
        </p:nvPicPr>
        <p:blipFill>
          <a:blip r:embed="rId3"/>
          <a:stretch/>
        </p:blipFill>
        <p:spPr>
          <a:xfrm>
            <a:off x="5105520" y="1752480"/>
            <a:ext cx="3355920" cy="41911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4800600" y="601992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ALCOPOP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Liver Damage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IRRHOSI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carring of the liv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o blood flow in scarred are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iver cannot fun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ymptoms: high blood pressure, abdominal swelling, jaundi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RREVERSIBLE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ealthy liver"/>
          <p:cNvPicPr/>
          <p:nvPr/>
        </p:nvPicPr>
        <p:blipFill>
          <a:blip r:embed="rId1"/>
          <a:stretch/>
        </p:blipFill>
        <p:spPr>
          <a:xfrm>
            <a:off x="304920" y="838080"/>
            <a:ext cx="4876560" cy="3195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alcoholicliver"/>
          <p:cNvPicPr/>
          <p:nvPr/>
        </p:nvPicPr>
        <p:blipFill>
          <a:blip r:embed="rId2"/>
          <a:stretch/>
        </p:blipFill>
        <p:spPr>
          <a:xfrm>
            <a:off x="5257800" y="380880"/>
            <a:ext cx="3679920" cy="55627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457200" y="41911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Healthy 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5486400" y="609588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Alcoholic 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…</a:t>
            </a: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The Rest of Alcohol Effect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tomach/Pancre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tomach acids increase, which often results in nausea and vomit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ong Ter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Irritation occurs in the stomach lining, causing open sores called ulcers; pancreas becomes inflame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Binge Drinking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5 or more drinks in a sitting for me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4 or more drinks in a sitting for wome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y lead to Alcohol Poison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y lead to unplanned unprotected sex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y lead to drug us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ny high school/college students die from alcohol poisoning from binge drinking on the weekends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angers of Binge Drink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nintentional injuries (e.g. car crash, falls, burns, drowning)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Intentional injuries (e.g. firearm injuries, sexual assault, domestic violence)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lcohol poisoning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TD’s and/or Unintended pregnancy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igh blood pressure, stroke, and other cardiovascular diseases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iver Diseas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Factors affecting the amount of alcohol in a person’s blood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Gende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etabolis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mount of Alcohol (not # of drinks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ow much they weigh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ow much time elapses after or between drink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Drinking and Driving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rinking alcohol impairs vision, reaction time, and coordination.  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WI and DUI –leading cause of death among tee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igns of intoxication can begin to appear as low as 0.0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re is no acceptable BAC level for anyone under 2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438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cc00"/>
                </a:solidFill>
                <a:latin typeface="Times New Roman"/>
              </a:rPr>
              <a:t>SAFEST AMOUNT OF DRINKS  = 0!!!</a:t>
            </a:r>
            <a:br>
              <a:rPr sz="8800"/>
            </a:br>
            <a:br>
              <a:rPr sz="8800"/>
            </a:b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This is at any age!!!!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Consequences of teen DUI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Harm to the driver and other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everely restricted driving privileg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lcohol related injuries, property damage, and death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iving with remorse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Blood Alcohol Concentration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mount of alcohol in a person’s 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bloodstrea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egal limit for IL is .08%  for people 21 years old and olde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egal limit for IL is zero for people under 21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0"/>
            <a:ext cx="7238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75% of High School Students report having tried alcohol at least onc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685800" y="2362320"/>
            <a:ext cx="8153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Comic Sans MS"/>
              </a:rPr>
              <a:t>28% reported having an alcoholic beverage in the last month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0" y="457056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cc"/>
                </a:solidFill>
                <a:latin typeface="Tahoma"/>
              </a:rPr>
              <a:t>Male students more likely than female students to report episodic heavy drinking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ac_(female)3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700236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bac_(male)3"/>
          <p:cNvPicPr/>
          <p:nvPr/>
        </p:nvPicPr>
        <p:blipFill>
          <a:blip r:embed="rId1"/>
          <a:stretch/>
        </p:blipFill>
        <p:spPr>
          <a:xfrm>
            <a:off x="0" y="0"/>
            <a:ext cx="9144000" cy="700236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Alcohol Poisoning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angerous to just “sleep it off”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ental confusion, stupor, coma, inability to be excited, vomiting, and seizur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low Respiration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*Hypothermia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*Dehydration *Irregular heartbe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ALL 911 immediately if suspicious of poison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are some things that people do to ‘sober up’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SOBERS A PERSON UP THE FASTEST???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TIME!!!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Alcoholism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 disease in which a person has a physical or psychological dependence on drinks that contain alcohol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haracterized as an impaired ability to study, work, or socialize normally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The 3 Stages of Alcoholism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arly Stage (Stage 1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o relax, relieve stres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eads to necessity to manage stres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begins to become intoxicated regularl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kes excuses and tries to rationalize drinking behavio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iddle Stage (Stage 2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er denies or tries to hide proble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body develops toleranc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frequently absent from school or work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ing is central event in a persons lif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s when alon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s first thing in the morn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s dail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Final Stage (Stage 3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erson becomes aggressive &amp; isolated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malnutrition occurs because drinker consumes alcohol and does not worry about foo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body is addicte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ry to quit=WITHDRAW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Delirium Tremens-hot/cold flashes, tremors, nightmares, hallucinations, fear of people and animal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*****NO CURE---ONLY RECOVERY*****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Effects on Family and Society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40% of violent crimes annually are alcohol related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½ of all homicide victims have alcohol in their bloodstrea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is Alcohol?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Depressant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ontains intoxicating substance called ethyl alcohol or ethanol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lows down the functions of the brain and other parts of the nervous syste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Picture 4" descr="j0195872"/>
          <p:cNvPicPr/>
          <p:nvPr/>
        </p:nvPicPr>
        <p:blipFill>
          <a:blip r:embed="rId1"/>
          <a:stretch/>
        </p:blipFill>
        <p:spPr>
          <a:xfrm>
            <a:off x="6477120" y="914400"/>
            <a:ext cx="2438280" cy="350532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ffcc00"/>
                </a:solidFill>
                <a:latin typeface="Times New Roman"/>
              </a:rPr>
              <a:t>Treatment</a:t>
            </a:r>
            <a:endParaRPr b="0" lang="en-US" sz="69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annot be cured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an be treated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ounseling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Medication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Where to go for help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Alcoholics Anonymou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National Association for children of alcoholic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National drug and treatment referral routing service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is Alcohol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152640" y="1447920"/>
            <a:ext cx="9296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Produced by a fermentation proces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Proof is the amount of alcohol in the substance (ex. 100 proof bottle of vodka is 50% alcohol) 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2 oz. Beer = 4 oz. Wine = 1 oz. liquo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Effects of Alcohol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eart/Blood Vessel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hort ter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Perspiration increases and skin becomes flushe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ong Ter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igh blood pressure and damage to the heart muscle; blood vessels harden and become less flexibl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More Effect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rain/Nervous Syste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Speech is slurred and difficulty walk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ong Term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Brain cells are destroyed and unable to be replaced; damage to nerves in body resulting in numbness in hands and fee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Picture 4" descr="j0305551"/>
          <p:cNvPicPr/>
          <p:nvPr/>
        </p:nvPicPr>
        <p:blipFill>
          <a:blip r:embed="rId1"/>
          <a:stretch/>
        </p:blipFill>
        <p:spPr>
          <a:xfrm>
            <a:off x="7086600" y="1295280"/>
            <a:ext cx="1797120" cy="232596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…</a:t>
            </a: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The Rest of Alcohol Effect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925560" indent="-1850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iver changes alcohol into water and carbon dioxid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ong Term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925560" indent="-1850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iver is damaged possibly resulting in cirrhosis (scarring and destruction of the liver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Liver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an only oxidize about 1 serving of alcohol an hou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NO WAY to speed up this proces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ntil liver has had time to oxidize all of the alcohol ingested, it keeps circulating through the bloodstrea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Liver Damage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FATTY 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lcohol interferes with body’s ability to break down fat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Excess fat blocks flow in liver resulting in reduced oxygen and cell death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an be REVERSED when drinking stop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17:46:11Z</dcterms:created>
  <dc:creator>Nancy</dc:creator>
  <dc:description/>
  <dc:language>en-US</dc:language>
  <cp:lastModifiedBy>LEGION2</cp:lastModifiedBy>
  <cp:lastPrinted>2008-06-19T00:55:33Z</cp:lastPrinted>
  <dcterms:modified xsi:type="dcterms:W3CDTF">2016-01-13T12:49:45Z</dcterms:modified>
  <cp:revision>10</cp:revision>
  <dc:subject/>
  <dc:title>ALCOHOL</dc:title>
</cp:coreProperties>
</file>