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216C-6D6E-4045-82D9-6B010D6A97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IC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psin (prote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STINAL JU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glucose later by other amyl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amyl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n down into amino acids later by other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p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tic li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is a large carbohydrate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ts are made up of smaller units called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made up of one or more glucose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ch molecules can be broken down by amyl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s are important for the growth and repair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imentary canal (or gut) is the tube within the body through which food passes and is processed in various w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esopha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is mixed with food during che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eth assist the mechanical breakdow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the enzyme amylase which starts the digestion of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va contains mucus that keeps the mouth moist and lubricates food for easier swallow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2A7-703A-4A08-9D5E-AACFC32F5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AA0-D930-4F97-9C56-2A28DFA5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C957-E21D-4BB8-846A-A125AEFCD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E5F3-423A-4303-9B1E-5611E82F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9A83-F7D0-4638-BCB1-D507B166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C359-4FCB-418E-AED6-EEB4447F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0F42-5954-491D-BE92-DC5C4442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D1F9-9FE8-4BFC-AA63-CF7CE8EF8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3A4-8DCE-4742-8EE1-0DAC7ECD1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82B2-7D26-4CC8-BE0A-D044102B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6A18-6F35-49AB-9254-E8484C7E2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89CF-B3C5-4CBB-A460-018EA42D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EBCDF-34F2-43C6-A183-B0C3F3121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Alimentary Ca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breakdown of large insoluble molecules into soluble molecules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1992-11-23"/>
          <p:cNvPicPr/>
          <p:nvPr/>
        </p:nvPicPr>
        <p:blipFill>
          <a:blip r:embed="rId1"/>
          <a:srcRect l="0" t="5114" r="0" b="5114"/>
          <a:stretch/>
        </p:blipFill>
        <p:spPr>
          <a:xfrm>
            <a:off x="2700360" y="2637000"/>
            <a:ext cx="3525840" cy="42210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788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1042920" y="4653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859280" y="3429000"/>
            <a:ext cx="22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tes of production of main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600200"/>
          <a:ext cx="8229600" cy="5332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 of digestive juice produ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digestive juice produc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u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iv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ma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tr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1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le (breaks down big fat droplets into little fat drople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ncreatic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 Intesti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stinal jui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Human-Digestive-System-Picture"/>
          <p:cNvPicPr/>
          <p:nvPr/>
        </p:nvPicPr>
        <p:blipFill>
          <a:blip r:embed="rId1"/>
          <a:stretch/>
        </p:blipFill>
        <p:spPr>
          <a:xfrm>
            <a:off x="1760400" y="765000"/>
            <a:ext cx="3621240" cy="6093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igestion and Digestive Ju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788000" y="184464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042920" y="4653000"/>
            <a:ext cx="2160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4859280" y="3429000"/>
            <a:ext cx="2233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STRIC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Hydrochloric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 (protease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700360" y="364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87640" y="486900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NTESTINAL JU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Mout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c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glucose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amy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1908000" y="249228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050920" y="191628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Salivary amyl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mouth-open-huge307x379"/>
          <p:cNvPicPr/>
          <p:nvPr/>
        </p:nvPicPr>
        <p:blipFill>
          <a:blip r:embed="rId1"/>
          <a:stretch/>
        </p:blipFill>
        <p:spPr>
          <a:xfrm>
            <a:off x="6775560" y="0"/>
            <a:ext cx="2368440" cy="292428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stom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ep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ken down into amino acid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l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by other prot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1979640" y="3141720"/>
            <a:ext cx="29512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26836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ep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7" descr="stomach"/>
          <p:cNvPicPr/>
          <p:nvPr/>
        </p:nvPicPr>
        <p:blipFill>
          <a:blip r:embed="rId1"/>
          <a:stretch/>
        </p:blipFill>
        <p:spPr>
          <a:xfrm>
            <a:off x="6276960" y="0"/>
            <a:ext cx="2867040" cy="239076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 the pancr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and 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1403280" y="3141720"/>
            <a:ext cx="25923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03280" y="2565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ancreatic lip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7" descr="50312108"/>
          <p:cNvPicPr/>
          <p:nvPr/>
        </p:nvPicPr>
        <p:blipFill>
          <a:blip r:embed="rId1"/>
          <a:stretch/>
        </p:blipFill>
        <p:spPr>
          <a:xfrm>
            <a:off x="5076720" y="0"/>
            <a:ext cx="4067280" cy="19717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fter all the digestive enzymes have done their work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tty ac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lyce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inish the sentence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new I learnt today wa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thing I found difficult to understand wa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thing I need to revise from today’s lesson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sort out the statements into True and Fal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68360" y="1989000"/>
            <a:ext cx="2736720" cy="1465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66ff66"/>
                </a:solidFill>
                <a:latin typeface="Arial"/>
              </a:rPr>
              <a:t>Carbohydrates, proteins and fats are all made up of carbon, hydrogen, nitrogen and oxy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3635280" y="3284640"/>
            <a:ext cx="27370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Starch is a large carbohydrate 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580000" y="198900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Fats are made up of smaller units called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395280" y="414972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Proteins are made up of one or more glucose molecu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5651640" y="4581360"/>
            <a:ext cx="27367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00"/>
                </a:solidFill>
                <a:latin typeface="Arial"/>
              </a:rPr>
              <a:t>Starch molecules can be broken down by amyla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908000" y="5516640"/>
            <a:ext cx="2737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900ff"/>
                </a:solidFill>
                <a:latin typeface="Arial"/>
              </a:rPr>
              <a:t>Proteins are important for the growth and repair of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an you name the 2 different ways we breakdown food in our bod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chan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tee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emical Di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b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stomach ac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1.  Part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alimentary canal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(or gut) is the tube within the body through which food passes and is processed in various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CDA40_1"/>
          <p:cNvPicPr/>
          <p:nvPr/>
        </p:nvPicPr>
        <p:blipFill>
          <a:blip r:embed="rId1"/>
          <a:stretch/>
        </p:blipFill>
        <p:spPr>
          <a:xfrm>
            <a:off x="1547640" y="0"/>
            <a:ext cx="676764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Line 6"/>
          <p:cNvSpPr/>
          <p:nvPr/>
        </p:nvSpPr>
        <p:spPr>
          <a:xfrm flipV="1">
            <a:off x="3059280" y="1557000"/>
            <a:ext cx="1441440" cy="576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2771640" y="981000"/>
            <a:ext cx="1370160" cy="432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 flipV="1">
            <a:off x="2771640" y="2637000"/>
            <a:ext cx="201780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2556000" y="3789360"/>
            <a:ext cx="1512720" cy="7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V="1">
            <a:off x="3132000" y="4292640"/>
            <a:ext cx="144144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1"/>
          <p:cNvSpPr/>
          <p:nvPr/>
        </p:nvSpPr>
        <p:spPr>
          <a:xfrm flipV="1">
            <a:off x="2627280" y="4076280"/>
            <a:ext cx="252108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 flipV="1">
            <a:off x="3348000" y="472392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3"/>
          <p:cNvSpPr/>
          <p:nvPr/>
        </p:nvSpPr>
        <p:spPr>
          <a:xfrm flipV="1">
            <a:off x="3419640" y="5300280"/>
            <a:ext cx="144144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4"/>
          <p:cNvSpPr/>
          <p:nvPr/>
        </p:nvSpPr>
        <p:spPr>
          <a:xfrm flipV="1">
            <a:off x="3419640" y="6237360"/>
            <a:ext cx="144144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1835280" y="549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1187280" y="191628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alivary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1332000" y="270828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esophag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1763640" y="364500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i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1476360" y="4221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0"/>
          <p:cNvSpPr/>
          <p:nvPr/>
        </p:nvSpPr>
        <p:spPr>
          <a:xfrm>
            <a:off x="2050920" y="4508640"/>
            <a:ext cx="13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nc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1"/>
          <p:cNvSpPr/>
          <p:nvPr/>
        </p:nvSpPr>
        <p:spPr>
          <a:xfrm>
            <a:off x="1476360" y="4941720"/>
            <a:ext cx="237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arge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1619280" y="5445000"/>
            <a:ext cx="20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mall intest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2627280" y="6237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2.  Role of the M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10357m30355344-9190-45c7-9cdc-c591f8b17bb5"/>
          <p:cNvPicPr/>
          <p:nvPr/>
        </p:nvPicPr>
        <p:blipFill>
          <a:blip r:embed="rId1"/>
          <a:stretch/>
        </p:blipFill>
        <p:spPr>
          <a:xfrm>
            <a:off x="539640" y="1197000"/>
            <a:ext cx="5226120" cy="5400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7"/>
          <p:cNvSpPr/>
          <p:nvPr/>
        </p:nvSpPr>
        <p:spPr>
          <a:xfrm>
            <a:off x="1116000" y="5805360"/>
            <a:ext cx="1655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708360" y="5877000"/>
            <a:ext cx="1943280" cy="98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716360" y="5084640"/>
            <a:ext cx="1943280" cy="98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971640" y="5805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4284720" y="5084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3564000" y="59500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alivary 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227640" y="2708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Comic Sans MS"/>
              </a:rPr>
              <a:t>Saliva is mixed with food during che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227640" y="1484280"/>
            <a:ext cx="273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eeth assist the mechanical breakdow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5"/>
          <p:cNvSpPr/>
          <p:nvPr/>
        </p:nvSpPr>
        <p:spPr>
          <a:xfrm>
            <a:off x="6156360" y="3716280"/>
            <a:ext cx="273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Comic Sans MS"/>
              </a:rPr>
              <a:t>Saliva contains the enzyme amylase which starts the digestion of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6"/>
          <p:cNvSpPr/>
          <p:nvPr/>
        </p:nvSpPr>
        <p:spPr>
          <a:xfrm>
            <a:off x="6156360" y="522936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Comic Sans MS"/>
              </a:rPr>
              <a:t>Saliva contains mucus that keeps the mouth moist and lubricates food for easier swallow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7"/>
          <p:cNvSpPr/>
          <p:nvPr/>
        </p:nvSpPr>
        <p:spPr>
          <a:xfrm>
            <a:off x="7380360" y="227664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8"/>
          <p:cNvSpPr/>
          <p:nvPr/>
        </p:nvSpPr>
        <p:spPr>
          <a:xfrm>
            <a:off x="7380360" y="335772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9"/>
          <p:cNvSpPr/>
          <p:nvPr/>
        </p:nvSpPr>
        <p:spPr>
          <a:xfrm>
            <a:off x="7380360" y="4653000"/>
            <a:ext cx="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3.  Muscles of the Alimentary Ca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od has to be kept moving along the alimentary canal whilst being mixed with various ju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se actions are brought about by muscles in the walls of the canal over which a person has little or no conscious contro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eristal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The squeezing action of muscles that is used to move food along the alimentary can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ttp://www.lionden.com/peristalsis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gestive Enzy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 following enzymes breakd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they break the large moleculs down i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ly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8T20:46:45Z</dcterms:created>
  <dc:creator>Carol Crawford</dc:creator>
  <dc:description/>
  <dc:language>en-US</dc:language>
  <cp:lastModifiedBy>LEGION2</cp:lastModifiedBy>
  <dcterms:modified xsi:type="dcterms:W3CDTF">2016-01-13T13:13:02Z</dcterms:modified>
  <cp:revision>17</cp:revision>
  <dc:subject/>
  <dc:title>Alimentary Canal</dc:title>
</cp:coreProperties>
</file>