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10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D35B-BD1C-4229-9803-597B70091D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Health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thing and the lun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Heal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ing and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ring inhaled and exhaled 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the big differences between inhaled and exhaled air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ould you test for thes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is another difference……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…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vapou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ng inhaled and exhaled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big differences between inhaled and exhaled ai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uld you test for th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nother difference…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vap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ts take a closer look (avi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take a closer look (av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ckup of as wmv fil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up of as wmv fi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v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m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sk 1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 a partne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ner A – explain the process of breathing in and what gases exchan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ner B – explain the process of breathing out and what gases exchan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 prepared to share your answers with the clas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a partn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ner A – explain the process of breathing in and what gase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ner B – explain the process of breathing out and what gase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prepared to share your answers with the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sk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bel diagram of lungs and indicate where oxygen and carbon dioxide exchange in the lung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diagram of lungs and indicate where oxygen and carbon dioxide exchange in the lu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en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jective: Develop understanding of the structure of the lungs and gas exchan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com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: Explain the process of breathing (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: Describe the difference between inhaled and exhaled air (5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: Describe how alveoli are adapted for their purpose (6/7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tension: Describe how damaged alveoli can result in less gas exchange (7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Develop understanding of the structure of the lungs and gas ex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com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: Explain the process of breathing (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: Describe the difference between inhaled and exhaled air (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: Describe how alveoli are adapted for their purpose (6/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: Describe how damaged alveoli can result in less gas exchange (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jectives &amp; Outco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jective: Develop understanding of the structure of the lungs and gas exchan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com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: Explain the process of breathing (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: Describe the difference between inhaled and exhaled air (5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: Describe how alveoli are adapted for their purpose (6/7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tension: Describe how damaged alveoli can result in less gas exchange (7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 &amp;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Develop understanding of the structure of the lungs and gas ex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com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: Explain the process of breathing (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: Describe the difference between inhaled and exhaled air (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: Describe how alveoli are adapted for their purpose (6/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: Describe how damaged alveoli can result in less gas exchange (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spiratory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s exchange happens in the lung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have 2 lungs, situated in your upper thorax / ch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, oxygen and carbon dioxide are exchanged – oxygen is needed for life and carbon dioxide is got rid of when we breathe ou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pir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exchange happens in the lu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2 lungs, situated in your upper thorax / ch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, oxygen and carbon dioxide are exchanged – oxygen is needed for life and carbon dioxide is got rid of when we breathe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ow do we breath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uth 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indpipe/trachea 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onchi 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onchioles 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veoli 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breath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 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pipe/trachea 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chi 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chioles 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veoli 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ha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When we breathe in we inhal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ha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hen we breathe in we inh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ha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When we breathe out we exhal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a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hen we breathe out we exh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changing ga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hanging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lveol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utside of the alveoli is covered with tiny blood vessel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xygen makes its way into thousands of special air sacs collectively called the ALVEOL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ve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utside of the alveoli is covered with tiny blood vess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makes its way into thousands of special air sacs collectively called the ALVEO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lveol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of these alveoli is called the ALVEOLU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where the oxygen is transferred into the blood and carbon dioxide moves out of the bloo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all these alveoli flattened and spread out onto the floor, they would cover an area the size of a tennis court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veo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se alveoli is called the ALVEOL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where the oxygen is transferred into the blood and carbon dioxide moves out of the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ll these alveoli flattened and spread out onto the floor, they would cover an area the size of a tennis cour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33C6-6A43-43CF-91D1-3F145140D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B64C-1FD1-4880-9A3D-E615D1F5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ABFE-9FE1-404B-A2D2-DED710E9E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3254-58C4-473F-A988-3258519A7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25EE-0A2A-421E-947D-1E83D0A01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B8E2-DB7C-4B0B-84EA-4275467C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418D-76A4-4ECA-A36F-07C449A3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2DD92-F786-46CF-8289-C26DA32C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A7488-5C0E-418F-90DB-5D95FDEE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515E-3723-4E15-9088-BE06051F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6961-09B5-4728-8292-3AD54BF3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0847-4D66-43E5-B5D4-AC72977F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1A40-53F6-4F75-8A8A-5C6A715B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3B89-C71B-446E-A53F-D4DDE982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758C3-AD6F-421D-A81F-31309DE4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898B-E39F-4A89-9E6B-B10C81A7B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6133-BAE2-4764-8CCC-953301338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3E4B-42E5-4A2D-8FD8-0A039E4C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B67E-9C6C-40BB-81F7-FD9A11F3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E9A9-6FB3-4409-BCCD-B70B4241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0C83-3ED8-4BFF-939D-4C9D8376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3E34-B80A-4FB1-9ADD-453DE04D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FC14-977B-42F4-8D51-4AA4E3FF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2BE3-DC87-46D5-B5F4-57273D1C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6C0D-40A1-466F-9D70-25A1118C8C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AB85-83B1-487F-9960-7C22EB94EBD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ecff"/>
                </a:solidFill>
                <a:latin typeface="Arial"/>
              </a:rPr>
              <a:t>Being Healthy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reathing and the lu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0" y="0"/>
            <a:ext cx="647712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paring inhaled and exhaled 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0" y="74772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are the big differences between inhaled and exhaled air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could you test for the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457200" y="5715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 is another difference…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4800600" y="5700600"/>
            <a:ext cx="29718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……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er vapou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Group 6"/>
          <p:cNvGrpSpPr/>
          <p:nvPr/>
        </p:nvGrpSpPr>
        <p:grpSpPr>
          <a:xfrm>
            <a:off x="385560" y="1905120"/>
            <a:ext cx="3500640" cy="3690360"/>
            <a:chOff x="385560" y="1905120"/>
            <a:chExt cx="3500640" cy="3690360"/>
          </a:xfrm>
        </p:grpSpPr>
        <p:sp>
          <p:nvSpPr>
            <p:cNvPr id="267" name="Rectangle 7"/>
            <p:cNvSpPr/>
            <p:nvPr/>
          </p:nvSpPr>
          <p:spPr>
            <a:xfrm>
              <a:off x="465480" y="1905120"/>
              <a:ext cx="1636200" cy="459720"/>
            </a:xfrm>
            <a:prstGeom prst="rect">
              <a:avLst/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Inhaled Ai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8"/>
            <p:cNvSpPr/>
            <p:nvPr/>
          </p:nvSpPr>
          <p:spPr>
            <a:xfrm>
              <a:off x="385560" y="4038480"/>
              <a:ext cx="3262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Nitrogen (78%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Oxygen (20.71%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Carbon Dioxide (0.1%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Oth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9"/>
            <p:cNvSpPr/>
            <p:nvPr/>
          </p:nvSpPr>
          <p:spPr>
            <a:xfrm>
              <a:off x="2666880" y="4191120"/>
              <a:ext cx="228600" cy="15228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0"/>
            <p:cNvSpPr/>
            <p:nvPr/>
          </p:nvSpPr>
          <p:spPr>
            <a:xfrm>
              <a:off x="2971800" y="4572000"/>
              <a:ext cx="228600" cy="1522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1"/>
            <p:cNvSpPr/>
            <p:nvPr/>
          </p:nvSpPr>
          <p:spPr>
            <a:xfrm>
              <a:off x="3657600" y="4952880"/>
              <a:ext cx="22860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72" name="Picture 12" descr="pie chart 1"/>
            <p:cNvPicPr/>
            <p:nvPr/>
          </p:nvPicPr>
          <p:blipFill>
            <a:blip r:embed="rId1"/>
            <a:stretch/>
          </p:blipFill>
          <p:spPr>
            <a:xfrm>
              <a:off x="457200" y="2438280"/>
              <a:ext cx="289548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Rectangle 13"/>
            <p:cNvSpPr/>
            <p:nvPr/>
          </p:nvSpPr>
          <p:spPr>
            <a:xfrm>
              <a:off x="1371600" y="5334120"/>
              <a:ext cx="2286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4" name="Group 14"/>
          <p:cNvGrpSpPr/>
          <p:nvPr/>
        </p:nvGrpSpPr>
        <p:grpSpPr>
          <a:xfrm>
            <a:off x="4805640" y="1905120"/>
            <a:ext cx="3195360" cy="3690360"/>
            <a:chOff x="4805640" y="1905120"/>
            <a:chExt cx="3195360" cy="3690360"/>
          </a:xfrm>
        </p:grpSpPr>
        <p:sp>
          <p:nvSpPr>
            <p:cNvPr id="275" name="Rectangle 15"/>
            <p:cNvSpPr/>
            <p:nvPr/>
          </p:nvSpPr>
          <p:spPr>
            <a:xfrm>
              <a:off x="4885560" y="1905120"/>
              <a:ext cx="1736640" cy="4597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Exhaled Ai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16"/>
            <p:cNvSpPr/>
            <p:nvPr/>
          </p:nvSpPr>
          <p:spPr>
            <a:xfrm>
              <a:off x="4805640" y="4038480"/>
              <a:ext cx="3007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Nitrogen (75.5%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Oxygen (14.6%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Carbon Dioxide (4%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Oth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17"/>
            <p:cNvSpPr/>
            <p:nvPr/>
          </p:nvSpPr>
          <p:spPr>
            <a:xfrm>
              <a:off x="7315200" y="4191120"/>
              <a:ext cx="228600" cy="15228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18"/>
            <p:cNvSpPr/>
            <p:nvPr/>
          </p:nvSpPr>
          <p:spPr>
            <a:xfrm>
              <a:off x="7319880" y="4572000"/>
              <a:ext cx="228600" cy="1522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19"/>
            <p:cNvSpPr/>
            <p:nvPr/>
          </p:nvSpPr>
          <p:spPr>
            <a:xfrm>
              <a:off x="7772400" y="4952880"/>
              <a:ext cx="22860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0"/>
            <p:cNvSpPr/>
            <p:nvPr/>
          </p:nvSpPr>
          <p:spPr>
            <a:xfrm>
              <a:off x="5791320" y="5334120"/>
              <a:ext cx="2286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81" name="Picture 21" descr="pie chart 2"/>
            <p:cNvPicPr/>
            <p:nvPr/>
          </p:nvPicPr>
          <p:blipFill>
            <a:blip r:embed="rId2"/>
            <a:stretch/>
          </p:blipFill>
          <p:spPr>
            <a:xfrm>
              <a:off x="4876920" y="2438280"/>
              <a:ext cx="2895480" cy="158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Lets take a closer look (avi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4" name="respiratory systemmp4.AVI" descr=""/>
          <p:cNvPicPr/>
          <p:nvPr/>
        </p:nvPicPr>
        <p:blipFill>
          <a:blip r:embed="rId1"/>
          <a:stretch/>
        </p:blipFill>
        <p:spPr>
          <a:xfrm>
            <a:off x="1042920" y="1644480"/>
            <a:ext cx="6553440" cy="480564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" dur="1" fill="hold"/>
                                        <p:tgtEl>
                                          <p:spTgt spid="2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Backup of as wmv file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7" name="respiratory systemmp4.WMV" descr=""/>
          <p:cNvPicPr/>
          <p:nvPr/>
        </p:nvPicPr>
        <p:blipFill>
          <a:blip r:embed="rId1"/>
          <a:stretch/>
        </p:blipFill>
        <p:spPr>
          <a:xfrm>
            <a:off x="1332000" y="1442880"/>
            <a:ext cx="6264360" cy="5011920"/>
          </a:xfrm>
          <a:prstGeom prst="rect">
            <a:avLst/>
          </a:prstGeom>
          <a:ln w="0">
            <a:noFill/>
          </a:ln>
        </p:spPr>
      </p:pic>
      <p:sp>
        <p:nvSpPr>
          <p:cNvPr id="2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av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0" name="lungs and breathing.AVI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6192720" cy="4645080"/>
          </a:xfrm>
          <a:prstGeom prst="rect">
            <a:avLst/>
          </a:prstGeom>
          <a:ln w="0">
            <a:noFill/>
          </a:ln>
        </p:spPr>
      </p:pic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" dur="1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wmv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3" name="lungs and breathing.WMV" descr=""/>
          <p:cNvPicPr/>
          <p:nvPr/>
        </p:nvPicPr>
        <p:blipFill>
          <a:blip r:embed="rId1"/>
          <a:stretch/>
        </p:blipFill>
        <p:spPr>
          <a:xfrm>
            <a:off x="1116000" y="1324080"/>
            <a:ext cx="6840720" cy="5130720"/>
          </a:xfrm>
          <a:prstGeom prst="rect">
            <a:avLst/>
          </a:prstGeom>
          <a:ln w="0">
            <a:noFill/>
          </a:ln>
        </p:spPr>
      </p:pic>
      <p:sp>
        <p:nvSpPr>
          <p:cNvPr id="2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Task 1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ith a partn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ner A – explain the process of breathing in and what gases ex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ner B – explain the process of breathing out and what gases ex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 prepared to share your answers with the cla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Task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bel diagram of lungs and indicate where oxygen and carbon dioxide exchange in the lu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len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bjective: Develop understanding of the structure of the lungs and gas exch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utcom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: Explain the process of breathing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: Describe the difference between inhaled and exhaled air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: Describe how alveoli are adapted for their purpose (6/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tension: Describe how damaged alveoli can result in less gas exchange (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Objectives &amp; Outcom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bjective: Develop understanding of the structure of the lungs and gas exch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utcom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: Explain the process of breathing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: Describe the difference between inhaled and exhaled air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: Describe how alveoli are adapted for their purpose (6/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tension: Describe how damaged alveoli can result in less gas exchange (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The Respiratory Syst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as exchange happens in the lu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You have 2 lungs, situated in your upper thorax / ch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ere, oxygen and carbon dioxide are exchanged – oxygen is needed for life and carbon dioxide is got rid of when we breathe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How do we breath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outh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indpipe/trachea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ronchi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ronchioles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lveoli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lungs5c"/>
          <p:cNvPicPr/>
          <p:nvPr/>
        </p:nvPicPr>
        <p:blipFill>
          <a:blip r:embed="rId1"/>
          <a:stretch/>
        </p:blipFill>
        <p:spPr>
          <a:xfrm>
            <a:off x="3924360" y="1341360"/>
            <a:ext cx="4776840" cy="529128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0" y="0"/>
            <a:ext cx="205740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8ae"/>
                </a:solidFill>
                <a:latin typeface="Arial"/>
                <a:ea typeface="Times New Roman"/>
              </a:rPr>
              <a:t>Inha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2443320" y="380880"/>
            <a:ext cx="44647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8ae"/>
                </a:solidFill>
                <a:latin typeface="Arial"/>
                <a:ea typeface="Times New Roman"/>
              </a:rPr>
              <a:t>(When we breathe in we inha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5" descr="flash icon"/>
          <p:cNvPicPr/>
          <p:nvPr/>
        </p:nvPicPr>
        <p:blipFill>
          <a:blip r:embed="rId1"/>
          <a:stretch/>
        </p:blipFill>
        <p:spPr>
          <a:xfrm>
            <a:off x="7315200" y="228600"/>
            <a:ext cx="44784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5" name="ShockwaveFlash1"/>
          <p:cNvGraphicFramePr/>
          <p:nvPr/>
        </p:nvGraphicFramePr>
        <p:xfrm>
          <a:off x="838080" y="1066680"/>
          <a:ext cx="739008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6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066680"/>
                    <a:ext cx="7390080" cy="54864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0" y="0"/>
            <a:ext cx="266688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8ae"/>
                </a:solidFill>
                <a:latin typeface="Arial"/>
                <a:ea typeface="Times New Roman"/>
              </a:rPr>
              <a:t>Exha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2061000" y="609480"/>
            <a:ext cx="47376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8ae"/>
                </a:solidFill>
                <a:latin typeface="Arial"/>
                <a:ea typeface="Times New Roman"/>
              </a:rPr>
              <a:t>(When we breathe out we exha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5" descr="flash icon"/>
          <p:cNvPicPr/>
          <p:nvPr/>
        </p:nvPicPr>
        <p:blipFill>
          <a:blip r:embed="rId1"/>
          <a:stretch/>
        </p:blipFill>
        <p:spPr>
          <a:xfrm>
            <a:off x="7315200" y="228600"/>
            <a:ext cx="447840" cy="457200"/>
          </a:xfrm>
          <a:prstGeom prst="rect">
            <a:avLst/>
          </a:prstGeom>
          <a:ln w="0">
            <a:noFill/>
          </a:ln>
        </p:spPr>
      </p:pic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1" name="ShockwaveFlash1"/>
          <p:cNvGraphicFramePr/>
          <p:nvPr/>
        </p:nvGraphicFramePr>
        <p:xfrm>
          <a:off x="914400" y="1143000"/>
          <a:ext cx="7315200" cy="541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2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143000"/>
                    <a:ext cx="7315200" cy="541008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Exchanging gas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5" descr="lungs"/>
          <p:cNvPicPr/>
          <p:nvPr/>
        </p:nvPicPr>
        <p:blipFill>
          <a:blip r:embed="rId1"/>
          <a:stretch/>
        </p:blipFill>
        <p:spPr>
          <a:xfrm>
            <a:off x="179280" y="1484280"/>
            <a:ext cx="4337280" cy="4608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3D_Model_Anat_Alveoli2_web"/>
          <p:cNvPicPr/>
          <p:nvPr/>
        </p:nvPicPr>
        <p:blipFill>
          <a:blip r:embed="rId2"/>
          <a:stretch/>
        </p:blipFill>
        <p:spPr>
          <a:xfrm>
            <a:off x="4500720" y="1484280"/>
            <a:ext cx="4464000" cy="468144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0" y="0"/>
            <a:ext cx="2590920" cy="520560"/>
          </a:xfrm>
          <a:prstGeom prst="rect">
            <a:avLst/>
          </a:prstGeom>
          <a:solidFill>
            <a:srgbClr val="800080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8ae"/>
                </a:solidFill>
                <a:latin typeface="Arial"/>
              </a:rPr>
              <a:t>The Alveo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914400" y="580716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outside of the alveoli is covered with tiny blood vesse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1066680" y="77796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8ae"/>
                </a:solidFill>
                <a:latin typeface="Arial"/>
              </a:rPr>
              <a:t>Oxygen makes its way into thousands of special air sacs collectively called the ALVEOL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5" descr="flash icon"/>
          <p:cNvPicPr/>
          <p:nvPr/>
        </p:nvPicPr>
        <p:blipFill>
          <a:blip r:embed="rId1"/>
          <a:stretch/>
        </p:blipFill>
        <p:spPr>
          <a:xfrm>
            <a:off x="7315200" y="228600"/>
            <a:ext cx="447840" cy="45720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" name="ShockwaveFlash1"/>
          <p:cNvGraphicFramePr/>
          <p:nvPr/>
        </p:nvGraphicFramePr>
        <p:xfrm>
          <a:off x="990720" y="1600200"/>
          <a:ext cx="7162560" cy="40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600200"/>
                    <a:ext cx="7162560" cy="403848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0" y="0"/>
            <a:ext cx="2819520" cy="520560"/>
          </a:xfrm>
          <a:prstGeom prst="rect">
            <a:avLst/>
          </a:prstGeom>
          <a:solidFill>
            <a:srgbClr val="800080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8ae"/>
                </a:solidFill>
                <a:latin typeface="Arial"/>
              </a:rPr>
              <a:t>The Alveo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380880" y="6858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e of these alveoli is called the ALVEOLU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is where the oxygen is transferred into the blood and carbon dioxide moves out of the blo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4" descr="flash icon"/>
          <p:cNvPicPr/>
          <p:nvPr/>
        </p:nvPicPr>
        <p:blipFill>
          <a:blip r:embed="rId1"/>
          <a:stretch/>
        </p:blipFill>
        <p:spPr>
          <a:xfrm>
            <a:off x="7315200" y="228600"/>
            <a:ext cx="447840" cy="4572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6"/>
          <p:cNvSpPr/>
          <p:nvPr/>
        </p:nvSpPr>
        <p:spPr>
          <a:xfrm>
            <a:off x="380880" y="2362320"/>
            <a:ext cx="2438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f all these alveoli flattened and spread out onto the floor, they would cover an area the size of a tennis cour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0" name="ShockwaveFlash1"/>
          <p:cNvGraphicFramePr/>
          <p:nvPr/>
        </p:nvGraphicFramePr>
        <p:xfrm>
          <a:off x="2819520" y="1905120"/>
          <a:ext cx="5715000" cy="434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1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1905120"/>
                    <a:ext cx="5715000" cy="43434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18:21:04Z</dcterms:created>
  <dc:creator>Tony Blakie</dc:creator>
  <dc:description/>
  <dc:language>en-US</dc:language>
  <cp:lastModifiedBy>LEGION2</cp:lastModifiedBy>
  <dcterms:modified xsi:type="dcterms:W3CDTF">2016-01-13T13:38:47Z</dcterms:modified>
  <cp:revision>8</cp:revision>
  <dc:subject/>
  <dc:title>Being Healthy- Breathing and the lungs</dc:title>
</cp:coreProperties>
</file>