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10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2E33-A6E8-4C39-AE60-1955990ACD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Health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thing and the lun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Heal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ing and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ing inhaled and exhaled 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the big differences between inhaled and exhaled air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ould you test for thes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is another difference…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…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vapou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ng inhaled and exhaled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big differences between inhaled and exhaled ai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uld you test for th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nother difference…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vap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ts take a closer look (avi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take a closer look (av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ckup of as wmv fil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up of as wmv f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v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m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 1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a partn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ner A – explain the process of breathing in and what gases exchan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ner B – explain the process of breathing out and what gases exchan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 prepared to share your answers with the clas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 partn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ner A – explain the process of breathing in and what gase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ner B – explain the process of breathing out and what gase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prepared to share your answers with the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el diagram of lungs and indicate where oxygen and carbon dioxide exchange in the lung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diagram of lungs and indicate where oxygen and carbon dioxide exchange in the lu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en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ive: Develop understanding of the structure of the lungs and gas exchan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com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: Explain the process of breathing (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: Describe the difference between inhaled and exhaled air (5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: Describe how alveoli are adapted for their purpose (6/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ension: Describe how damaged alveoli can result in less gas exchange (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Develop understanding of the structure of the lungs and gas ex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com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: Explain the process of breathing (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: Describe the difference between inhaled and exhaled air (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: Describe how alveoli are adapted for their purpose (6/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: Describe how damaged alveoli can result in less gas exchange (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ives &amp; Outco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ive: Develop understanding of the structure of the lungs and gas exchan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com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: Explain the process of breathing (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: Describe the difference between inhaled and exhaled air (5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: Describe how alveoli are adapted for their purpose (6/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ension: Describe how damaged alveoli can result in less gas exchange (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 &amp;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Develop understanding of the structure of the lungs and gas ex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com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: Explain the process of breathing (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: Describe the difference between inhaled and exhaled air (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: Describe how alveoli are adapted for their purpose (6/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: Describe how damaged alveoli can result in less gas exchange (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spiratory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 exchange happens in the lung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have 2 lungs, situated in your upper thorax / ch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, oxygen and carbon dioxide are exchanged – oxygen is needed for life and carbon dioxide is got rid of when we breathe ou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pir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exchange happens in the lu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2 lungs, situated in your upper thorax / c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, oxygen and carbon dioxide are exchanged – oxygen is needed for life and carbon dioxide is got rid of when we breathe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ow do we breath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uth 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indpipe/trachea 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onchi 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onchioles 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veoli 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breath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 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pipe/trachea 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chi 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chioles 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veoli 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ha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When we breathe in we inha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ha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hen we breathe in we inh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ha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When we breathe out we exha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a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hen we breathe out we exh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changing ga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hanging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lveol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utside of the alveoli is covered with tiny blood vessel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xygen makes its way into thousands of special air sacs collectively called the ALVEOL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ve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utside of the alveoli is covered with tiny blood vess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makes its way into thousands of special air sacs collectively called the ALVEO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lveol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of these alveoli is called the ALVEOLU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where the oxygen is transferred into the blood and carbon dioxide moves out of the bloo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all these alveoli flattened and spread out onto the floor, they would cover an area the size of a tennis court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veo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se alveoli is called the ALVEOL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ere the oxygen is transferred into the blood and carbon dioxide moves out of the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ll these alveoli flattened and spread out onto the floor, they would cover an area the size of a tennis cour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B92F-2E97-4DFE-A60E-357C5BF3A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E6E4-370C-4370-8515-40055330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0FD0-9946-44FB-8D84-298025A7A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35C8-215C-44F0-8F15-30239180F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8B4F-581B-4B48-97ED-D76B07477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A84E-8121-4C9A-8DCB-DEC1EDD4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36CB-0177-4BC3-BFE6-B96237C2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7AA8-C514-4E20-9F2D-385FEE13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8F1A2-2C45-4653-AEF5-973DEB11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5A1F-4F52-4E74-8F4E-4FD4466D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1C07-1E2B-4099-BF86-C3769F6A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47FD-BC3D-49F1-BDC4-1C3B8574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1DF3-C950-4B46-A7E4-6924FE7C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77E1-939F-47F8-A9C6-46AA71F5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534F-4ECC-488C-B365-91D3041A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29B4-8995-452B-A8AB-17506FC97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7CF4-BD4B-4450-BCBD-A9AFD3350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6405-0E9C-4311-AD72-E506B0ED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9AF7-3BAB-417F-B03D-32507C91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7C23-9D19-41D6-9FCE-DA06EF86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3E14-4494-4A58-B4C3-C5211D4C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A75D-570E-4DFA-A31A-AFC7E0AB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5FBD-7C25-4CD0-AFEE-E2454C54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0798-A15A-41BF-BB72-DD85FAF1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46D0-1EAB-48BE-8AA5-02DE2111DD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E45D-D929-4949-8A52-F7844AEFEDD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Arial"/>
              </a:rPr>
              <a:t>Being Healthy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reathing and the lu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0" y="0"/>
            <a:ext cx="647712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paring inhaled and exhaled 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0" y="74772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are the big differences between inhaled and exhaled air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could you test for the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457200" y="5715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is another difference…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4800600" y="5700600"/>
            <a:ext cx="29718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……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er vapou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6"/>
          <p:cNvGrpSpPr/>
          <p:nvPr/>
        </p:nvGrpSpPr>
        <p:grpSpPr>
          <a:xfrm>
            <a:off x="385560" y="1905120"/>
            <a:ext cx="3500640" cy="3690360"/>
            <a:chOff x="385560" y="1905120"/>
            <a:chExt cx="3500640" cy="3690360"/>
          </a:xfrm>
        </p:grpSpPr>
        <p:sp>
          <p:nvSpPr>
            <p:cNvPr id="267" name="Rectangle 7"/>
            <p:cNvSpPr/>
            <p:nvPr/>
          </p:nvSpPr>
          <p:spPr>
            <a:xfrm>
              <a:off x="465480" y="1905120"/>
              <a:ext cx="1636200" cy="459720"/>
            </a:xfrm>
            <a:prstGeom prst="rect">
              <a:avLst/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Inhaled Ai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8"/>
            <p:cNvSpPr/>
            <p:nvPr/>
          </p:nvSpPr>
          <p:spPr>
            <a:xfrm>
              <a:off x="385560" y="4038480"/>
              <a:ext cx="3262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Nitrogen (78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Oxygen (20.71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Carbon Dioxide (0.1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Oth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9"/>
            <p:cNvSpPr/>
            <p:nvPr/>
          </p:nvSpPr>
          <p:spPr>
            <a:xfrm>
              <a:off x="2666880" y="4191120"/>
              <a:ext cx="228600" cy="15228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0"/>
            <p:cNvSpPr/>
            <p:nvPr/>
          </p:nvSpPr>
          <p:spPr>
            <a:xfrm>
              <a:off x="2971800" y="4572000"/>
              <a:ext cx="228600" cy="152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1"/>
            <p:cNvSpPr/>
            <p:nvPr/>
          </p:nvSpPr>
          <p:spPr>
            <a:xfrm>
              <a:off x="3657600" y="4952880"/>
              <a:ext cx="22860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2" name="Picture 12" descr="pie chart 1"/>
            <p:cNvPicPr/>
            <p:nvPr/>
          </p:nvPicPr>
          <p:blipFill>
            <a:blip r:embed="rId1"/>
            <a:stretch/>
          </p:blipFill>
          <p:spPr>
            <a:xfrm>
              <a:off x="457200" y="2438280"/>
              <a:ext cx="289548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Rectangle 13"/>
            <p:cNvSpPr/>
            <p:nvPr/>
          </p:nvSpPr>
          <p:spPr>
            <a:xfrm>
              <a:off x="1371600" y="5334120"/>
              <a:ext cx="228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4" name="Group 14"/>
          <p:cNvGrpSpPr/>
          <p:nvPr/>
        </p:nvGrpSpPr>
        <p:grpSpPr>
          <a:xfrm>
            <a:off x="4805640" y="1905120"/>
            <a:ext cx="3195360" cy="3690360"/>
            <a:chOff x="4805640" y="1905120"/>
            <a:chExt cx="3195360" cy="3690360"/>
          </a:xfrm>
        </p:grpSpPr>
        <p:sp>
          <p:nvSpPr>
            <p:cNvPr id="275" name="Rectangle 15"/>
            <p:cNvSpPr/>
            <p:nvPr/>
          </p:nvSpPr>
          <p:spPr>
            <a:xfrm>
              <a:off x="4885560" y="1905120"/>
              <a:ext cx="1736640" cy="4597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Exhaled Ai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16"/>
            <p:cNvSpPr/>
            <p:nvPr/>
          </p:nvSpPr>
          <p:spPr>
            <a:xfrm>
              <a:off x="4805640" y="4038480"/>
              <a:ext cx="3007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Nitrogen (75.5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Oxygen (14.6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Carbon Dioxide (4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Oth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17"/>
            <p:cNvSpPr/>
            <p:nvPr/>
          </p:nvSpPr>
          <p:spPr>
            <a:xfrm>
              <a:off x="7315200" y="4191120"/>
              <a:ext cx="228600" cy="15228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18"/>
            <p:cNvSpPr/>
            <p:nvPr/>
          </p:nvSpPr>
          <p:spPr>
            <a:xfrm>
              <a:off x="7319880" y="4572000"/>
              <a:ext cx="228600" cy="152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19"/>
            <p:cNvSpPr/>
            <p:nvPr/>
          </p:nvSpPr>
          <p:spPr>
            <a:xfrm>
              <a:off x="7772400" y="4952880"/>
              <a:ext cx="22860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0"/>
            <p:cNvSpPr/>
            <p:nvPr/>
          </p:nvSpPr>
          <p:spPr>
            <a:xfrm>
              <a:off x="5791320" y="5334120"/>
              <a:ext cx="228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1" name="Picture 21" descr="pie chart 2"/>
            <p:cNvPicPr/>
            <p:nvPr/>
          </p:nvPicPr>
          <p:blipFill>
            <a:blip r:embed="rId2"/>
            <a:stretch/>
          </p:blipFill>
          <p:spPr>
            <a:xfrm>
              <a:off x="4876920" y="2438280"/>
              <a:ext cx="2895480" cy="158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Lets take a closer look (avi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4" name="respiratory systemmp4.AVI" descr=""/>
          <p:cNvPicPr/>
          <p:nvPr/>
        </p:nvPicPr>
        <p:blipFill>
          <a:blip r:embed="rId1"/>
          <a:stretch/>
        </p:blipFill>
        <p:spPr>
          <a:xfrm>
            <a:off x="1042920" y="1644480"/>
            <a:ext cx="6553440" cy="480564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" dur="1" fill="hold"/>
                                        <p:tgtEl>
                                          <p:spTgt spid="2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Backup of as wmv file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7" name="respiratory systemmp4.WMV" descr=""/>
          <p:cNvPicPr/>
          <p:nvPr/>
        </p:nvPicPr>
        <p:blipFill>
          <a:blip r:embed="rId1"/>
          <a:stretch/>
        </p:blipFill>
        <p:spPr>
          <a:xfrm>
            <a:off x="1332000" y="1442880"/>
            <a:ext cx="6264360" cy="5011920"/>
          </a:xfrm>
          <a:prstGeom prst="rect">
            <a:avLst/>
          </a:prstGeom>
          <a:ln w="0">
            <a:noFill/>
          </a:ln>
        </p:spPr>
      </p:pic>
      <p:sp>
        <p:nvSpPr>
          <p:cNvPr id="2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av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0" name="lungs and breathing.AVI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6192720" cy="4645080"/>
          </a:xfrm>
          <a:prstGeom prst="rect">
            <a:avLst/>
          </a:prstGeom>
          <a:ln w="0">
            <a:noFill/>
          </a:ln>
        </p:spPr>
      </p:pic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" dur="1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wm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3" name="lungs and breathing.WMV" descr=""/>
          <p:cNvPicPr/>
          <p:nvPr/>
        </p:nvPicPr>
        <p:blipFill>
          <a:blip r:embed="rId1"/>
          <a:stretch/>
        </p:blipFill>
        <p:spPr>
          <a:xfrm>
            <a:off x="1116000" y="1324080"/>
            <a:ext cx="6840720" cy="513072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Task 1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th a partn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ner A – explain the process of breathing in and what gases ex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ner B – explain the process of breathing out and what gases ex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 prepared to share your answers with the cla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Task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bel diagram of lungs and indicate where oxygen and carbon dioxide exchange in the lu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len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bjective: Develop understanding of the structure of the lungs and gas exch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utcom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: Explain the process of breathing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: Describe the difference between inhaled and exhaled air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: Describe how alveoli are adapted for their purpose (6/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tension: Describe how damaged alveoli can result in less gas exchange (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Objectives &amp; Outco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bjective: Develop understanding of the structure of the lungs and gas exch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utcom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: Explain the process of breathing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: Describe the difference between inhaled and exhaled air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: Describe how alveoli are adapted for their purpose (6/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tension: Describe how damaged alveoli can result in less gas exchange (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The Respiratory Syst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as exchange happens in the lu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ou have 2 lungs, situated in your upper thorax / ch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ere, oxygen and carbon dioxide are exchanged – oxygen is needed for life and carbon dioxide is got rid of when we breathe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How do we breath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outh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ndpipe/trachea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ronchi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ronchioles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lveoli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lungs5c"/>
          <p:cNvPicPr/>
          <p:nvPr/>
        </p:nvPicPr>
        <p:blipFill>
          <a:blip r:embed="rId1"/>
          <a:stretch/>
        </p:blipFill>
        <p:spPr>
          <a:xfrm>
            <a:off x="3924360" y="1341360"/>
            <a:ext cx="4776840" cy="529128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0" y="0"/>
            <a:ext cx="205740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8ae"/>
                </a:solidFill>
                <a:latin typeface="Arial"/>
                <a:ea typeface="Times New Roman"/>
              </a:rPr>
              <a:t>Inha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2443320" y="380880"/>
            <a:ext cx="44647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8ae"/>
                </a:solidFill>
                <a:latin typeface="Arial"/>
                <a:ea typeface="Times New Roman"/>
              </a:rPr>
              <a:t>(When we breathe in we inha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5" descr="flash icon"/>
          <p:cNvPicPr/>
          <p:nvPr/>
        </p:nvPicPr>
        <p:blipFill>
          <a:blip r:embed="rId1"/>
          <a:stretch/>
        </p:blipFill>
        <p:spPr>
          <a:xfrm>
            <a:off x="7315200" y="228600"/>
            <a:ext cx="44784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5" name="ShockwaveFlash1"/>
          <p:cNvGraphicFramePr/>
          <p:nvPr/>
        </p:nvGraphicFramePr>
        <p:xfrm>
          <a:off x="838080" y="1066680"/>
          <a:ext cx="739008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066680"/>
                    <a:ext cx="7390080" cy="54864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0" y="0"/>
            <a:ext cx="266688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8ae"/>
                </a:solidFill>
                <a:latin typeface="Arial"/>
                <a:ea typeface="Times New Roman"/>
              </a:rPr>
              <a:t>Exha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2061000" y="609480"/>
            <a:ext cx="47376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8ae"/>
                </a:solidFill>
                <a:latin typeface="Arial"/>
                <a:ea typeface="Times New Roman"/>
              </a:rPr>
              <a:t>(When we breathe out we exha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5" descr="flash icon"/>
          <p:cNvPicPr/>
          <p:nvPr/>
        </p:nvPicPr>
        <p:blipFill>
          <a:blip r:embed="rId1"/>
          <a:stretch/>
        </p:blipFill>
        <p:spPr>
          <a:xfrm>
            <a:off x="7315200" y="228600"/>
            <a:ext cx="447840" cy="457200"/>
          </a:xfrm>
          <a:prstGeom prst="rect">
            <a:avLst/>
          </a:prstGeom>
          <a:ln w="0">
            <a:noFill/>
          </a:ln>
        </p:spPr>
      </p:pic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1" name="ShockwaveFlash1"/>
          <p:cNvGraphicFramePr/>
          <p:nvPr/>
        </p:nvGraphicFramePr>
        <p:xfrm>
          <a:off x="914400" y="1143000"/>
          <a:ext cx="7315200" cy="541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2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143000"/>
                    <a:ext cx="7315200" cy="541008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Exchanging gas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5" descr="lungs"/>
          <p:cNvPicPr/>
          <p:nvPr/>
        </p:nvPicPr>
        <p:blipFill>
          <a:blip r:embed="rId1"/>
          <a:stretch/>
        </p:blipFill>
        <p:spPr>
          <a:xfrm>
            <a:off x="179280" y="1484280"/>
            <a:ext cx="4337280" cy="4608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3D_Model_Anat_Alveoli2_web"/>
          <p:cNvPicPr/>
          <p:nvPr/>
        </p:nvPicPr>
        <p:blipFill>
          <a:blip r:embed="rId2"/>
          <a:stretch/>
        </p:blipFill>
        <p:spPr>
          <a:xfrm>
            <a:off x="4500720" y="1484280"/>
            <a:ext cx="4464000" cy="468144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0" y="0"/>
            <a:ext cx="2590920" cy="520560"/>
          </a:xfrm>
          <a:prstGeom prst="rect">
            <a:avLst/>
          </a:prstGeom>
          <a:solidFill>
            <a:srgbClr val="800080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8ae"/>
                </a:solidFill>
                <a:latin typeface="Arial"/>
              </a:rPr>
              <a:t>The Alveo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914400" y="580716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outside of the alveoli is covered with tiny blood vess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1066680" y="77796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8ae"/>
                </a:solidFill>
                <a:latin typeface="Arial"/>
              </a:rPr>
              <a:t>Oxygen makes its way into thousands of special air sacs collectively called the ALVEOL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5" descr="flash icon"/>
          <p:cNvPicPr/>
          <p:nvPr/>
        </p:nvPicPr>
        <p:blipFill>
          <a:blip r:embed="rId1"/>
          <a:stretch/>
        </p:blipFill>
        <p:spPr>
          <a:xfrm>
            <a:off x="7315200" y="228600"/>
            <a:ext cx="447840" cy="45720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ShockwaveFlash1"/>
          <p:cNvGraphicFramePr/>
          <p:nvPr/>
        </p:nvGraphicFramePr>
        <p:xfrm>
          <a:off x="990720" y="1600200"/>
          <a:ext cx="7162560" cy="40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600200"/>
                    <a:ext cx="7162560" cy="403848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0" y="0"/>
            <a:ext cx="2819520" cy="520560"/>
          </a:xfrm>
          <a:prstGeom prst="rect">
            <a:avLst/>
          </a:prstGeom>
          <a:solidFill>
            <a:srgbClr val="800080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8ae"/>
                </a:solidFill>
                <a:latin typeface="Arial"/>
              </a:rPr>
              <a:t>The Alveo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380880" y="6858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e of these alveoli is called the ALVEOLU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is where the oxygen is transferred into the blood and carbon dioxide moves out of the blo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4" descr="flash icon"/>
          <p:cNvPicPr/>
          <p:nvPr/>
        </p:nvPicPr>
        <p:blipFill>
          <a:blip r:embed="rId1"/>
          <a:stretch/>
        </p:blipFill>
        <p:spPr>
          <a:xfrm>
            <a:off x="7315200" y="228600"/>
            <a:ext cx="447840" cy="4572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6"/>
          <p:cNvSpPr/>
          <p:nvPr/>
        </p:nvSpPr>
        <p:spPr>
          <a:xfrm>
            <a:off x="380880" y="2362320"/>
            <a:ext cx="2438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f all these alveoli flattened and spread out onto the floor, they would cover an area the size of a tennis cour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0" name="ShockwaveFlash1"/>
          <p:cNvGraphicFramePr/>
          <p:nvPr/>
        </p:nvGraphicFramePr>
        <p:xfrm>
          <a:off x="2819520" y="1905120"/>
          <a:ext cx="5715000" cy="434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1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1905120"/>
                    <a:ext cx="5715000" cy="43434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18:21:04Z</dcterms:created>
  <dc:creator>Tony Blakie</dc:creator>
  <dc:description/>
  <dc:language>en-US</dc:language>
  <cp:lastModifiedBy>LEGION2</cp:lastModifiedBy>
  <dcterms:modified xsi:type="dcterms:W3CDTF">2016-01-13T13:38:47Z</dcterms:modified>
  <cp:revision>8</cp:revision>
  <dc:subject/>
  <dc:title>Being Healthy- Breathing and the lungs</dc:title>
</cp:coreProperties>
</file>