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7547-8AE2-440A-BA23-C2FB05646A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9C2-8BA2-4579-98AF-692FBA8C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2CD-5191-4627-A6BA-4DA25B83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545-A4A1-4187-9A63-26FB2214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EF2-7F26-4CB2-B017-29D698ED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C3B2-3837-4838-A89B-BDD58B1C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2700-F564-4EEF-873D-E9905AA4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D540-5209-4A08-A932-0DDB1587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FE10-E5F5-4426-8ADB-8B44C511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C232-24AA-48D6-A65D-ACA24F28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7D55-ED28-4016-8921-3CF0DD84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E474-4B0D-4211-8B3D-3F9C120B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6EA-4C68-44C1-BB3F-A00BA69D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FCAE-EE28-4C9F-B07A-D5396B76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9D8A-F1A1-4CB3-93AF-0F59756A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A808-C47D-43B1-AA44-48C8D92B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82FB-DC10-4B3F-9628-FC0F56BA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F78B-5701-4A4B-A245-7842186A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50B-D9C5-4E93-96A7-E0517631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53B-58E2-495E-9C3A-26707725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017-28B6-450D-9221-A35C226B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BE6-094D-4297-B9CE-3846ABE5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8D1-99AD-45A6-92D3-6FED3928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54C9-C7F4-4E23-9B8F-3D806B8D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B56-5045-47A2-B6BB-91304C87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738B-ECA2-4498-A4C9-DF84556F46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2A24-24E1-4194-9EF9-060871F4DE64}" type="slidenum">
              <a:rPr b="0" lang="en-US" sz="1200" spc="-1" strike="noStrike">
                <a:solidFill>
                  <a:srgbClr val="cc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gfl.skoool.co.uk/viewdetails_ks3.aspx?id=61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By the end of the lesson you should be able to: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Red blood cells specialisa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)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extra space insid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3) contain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haemoglobi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oxygen carrying molecul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50million molecules / cel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5" name="Picture 4" descr="blood%20cell"/>
          <p:cNvPicPr/>
          <p:nvPr/>
        </p:nvPicPr>
        <p:blipFill>
          <a:blip r:embed="rId1"/>
          <a:stretch/>
        </p:blipFill>
        <p:spPr>
          <a:xfrm>
            <a:off x="857160" y="2322360"/>
            <a:ext cx="335916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55640" y="1557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1)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biconcave shape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5640" y="486900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increases the surface area so more oxygen can be carried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gives red blood cells their colour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an carry up to 4 molecules of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associates and dissociates with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ontains ir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0" name="Picture 4" descr="Hemoglobin"/>
          <p:cNvPicPr/>
          <p:nvPr/>
        </p:nvPicPr>
        <p:blipFill>
          <a:blip r:embed="rId1"/>
          <a:srcRect l="0" t="13215" r="0" b="13215"/>
          <a:stretch/>
        </p:blipFill>
        <p:spPr>
          <a:xfrm>
            <a:off x="533520" y="1981080"/>
            <a:ext cx="3889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erns0100"/>
          <p:cNvPicPr/>
          <p:nvPr/>
        </p:nvPicPr>
        <p:blipFill>
          <a:blip r:embed="rId1"/>
          <a:srcRect l="2815" t="35648" r="19365" b="37265"/>
          <a:stretch/>
        </p:blipFill>
        <p:spPr>
          <a:xfrm>
            <a:off x="380880" y="1295280"/>
            <a:ext cx="8763120" cy="2616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0" y="39625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-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Function of 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Mon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5" name="Picture 3" descr="Monocytes-2"/>
          <p:cNvPicPr/>
          <p:nvPr/>
        </p:nvPicPr>
        <p:blipFill>
          <a:blip r:embed="rId1"/>
          <a:stretch/>
        </p:blipFill>
        <p:spPr>
          <a:xfrm>
            <a:off x="1403280" y="1905120"/>
            <a:ext cx="59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onocytes and macrophag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non-specific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response to infecti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ttp://www.microbelibrary.org/images/tterry/anim/phago053.htm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8" name="Picture 4" descr="Phagocytose"/>
          <p:cNvPicPr/>
          <p:nvPr/>
        </p:nvPicPr>
        <p:blipFill>
          <a:blip r:embed="rId1"/>
          <a:stretch/>
        </p:blipFill>
        <p:spPr>
          <a:xfrm>
            <a:off x="5057640" y="2865600"/>
            <a:ext cx="2482920" cy="25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303087"/>
          <p:cNvPicPr/>
          <p:nvPr/>
        </p:nvPicPr>
        <p:blipFill>
          <a:blip r:embed="rId2"/>
          <a:stretch/>
        </p:blipFill>
        <p:spPr>
          <a:xfrm>
            <a:off x="996840" y="3137040"/>
            <a:ext cx="3291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Verdana"/>
              </a:rPr>
              <a:t>Lymphocyt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1" name="Picture 3" descr="Lymphocyte"/>
          <p:cNvPicPr/>
          <p:nvPr/>
        </p:nvPicPr>
        <p:blipFill>
          <a:blip r:embed="rId1"/>
          <a:stretch/>
        </p:blipFill>
        <p:spPr>
          <a:xfrm>
            <a:off x="1836720" y="1846440"/>
            <a:ext cx="5319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Comic Sans MS"/>
              </a:rPr>
              <a:t>Lymphocytes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44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Can you?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the average human has 5 litres of bloo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is a transporting flui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carries vital substances to all parts of the body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uman blood smea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3" descr="humanbloodsmear2"/>
          <p:cNvPicPr/>
          <p:nvPr/>
        </p:nvPicPr>
        <p:blipFill>
          <a:blip r:embed="rId1"/>
          <a:stretch/>
        </p:blipFill>
        <p:spPr>
          <a:xfrm>
            <a:off x="838080" y="1676520"/>
            <a:ext cx="441324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3272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10080" y="1066320"/>
            <a:ext cx="353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(55%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-6-million 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000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0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89088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 flipV="1">
            <a:off x="3492000" y="1196640"/>
            <a:ext cx="189252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059280" y="1844640"/>
            <a:ext cx="238752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24360" y="2852640"/>
            <a:ext cx="148104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195640" y="3573360"/>
            <a:ext cx="3375000" cy="503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268360" y="4149360"/>
            <a:ext cx="3292560" cy="3589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916360" y="4797360"/>
            <a:ext cx="255096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0400" y="304920"/>
            <a:ext cx="226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6699"/>
                </a:solidFill>
                <a:uFillTx/>
                <a:latin typeface="Comic Sans MS"/>
                <a:hlinkClick r:id="rId2"/>
              </a:rPr>
              <a:t>skool blood plasma</a:t>
            </a: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Verdana"/>
              </a:rPr>
              <a:t>x 1000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3" descr="MISCFIG04"/>
          <p:cNvPicPr/>
          <p:nvPr/>
        </p:nvPicPr>
        <p:blipFill>
          <a:blip r:embed="rId1"/>
          <a:stretch/>
        </p:blipFill>
        <p:spPr>
          <a:xfrm>
            <a:off x="1600200" y="1981080"/>
            <a:ext cx="52862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Plasma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liquid part of blood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transports:-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oluble food molecul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aste produc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hormones 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1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21120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3348000" y="1197000"/>
            <a:ext cx="1152720" cy="71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Red blood cells</a:t>
            </a: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 (RBCs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transport </a:t>
            </a: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oxygen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pecialised to do thi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lso carry some CO</a:t>
            </a:r>
            <a:r>
              <a:rPr b="0" lang="en-GB" sz="32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4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125360"/>
            <a:ext cx="2959200" cy="4445280"/>
          </a:xfrm>
          <a:prstGeom prst="rect">
            <a:avLst/>
          </a:prstGeom>
          <a:ln w="0">
            <a:noFill/>
          </a:ln>
        </p:spPr>
      </p:pic>
      <p:sp>
        <p:nvSpPr>
          <p:cNvPr id="115" name="Line 4"/>
          <p:cNvSpPr/>
          <p:nvPr/>
        </p:nvSpPr>
        <p:spPr>
          <a:xfrm>
            <a:off x="3635280" y="1341360"/>
            <a:ext cx="792360" cy="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91120" y="609120"/>
            <a:ext cx="4952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White blood cell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bodies “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defence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art of the immune system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uch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larger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than RBC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far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fewer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ave a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4000-13000 per mm</a:t>
            </a:r>
            <a:r>
              <a:rPr b="0" lang="en-GB" sz="28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 types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hagocytes and lymphocyt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7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826920" y="119700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 flipV="1">
            <a:off x="1763640" y="1125000"/>
            <a:ext cx="2664000" cy="863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0" y="105264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Platelets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if you get cut:-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platelets produc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iny </a:t>
            </a:r>
            <a:r>
              <a:rPr b="0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fibrin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threads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form a web-lik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mesh that traps blood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cells.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harden forming a clot, or "scab."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150,000 to 400,000 per mm</a:t>
            </a:r>
            <a:r>
              <a:rPr b="0" lang="en-GB" sz="26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05264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3492360" y="1197000"/>
            <a:ext cx="1150920" cy="216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979640" y="1413000"/>
            <a:ext cx="2663640" cy="792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3T13:59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