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F208-87AC-451C-9856-574034331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829-CB8F-454D-B45D-1205E1DC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655-30DA-4048-BAFA-CFE45021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797-7A8B-452E-A6BF-9F5DE849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066-1114-4C09-B4E5-71127AAB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128B-19A1-4C51-9D74-BB925046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5729-DF20-4594-83DB-DE0003C5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44B9-E5B9-4F52-BE99-3F7B144B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4CBF-7503-4F5C-84E6-BE50D836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81E1-AF2D-4399-9CC3-22C14E20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F81F-B595-491F-8AAE-FFB35692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2003-2CAF-4DB1-A8AF-1BBF71B1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3BE-771C-439B-B3E9-9F46549F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0950-A391-4EF4-895C-6A59005C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F3A0-A9BA-41A2-8007-13CDC5CA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35A6-1421-4675-81A3-3B5B9B5D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D9B5-F6CB-4460-850C-06021316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077C-CF99-4FDA-96FF-A9863851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EEA-12B2-4AA6-AF71-CC410CDB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8F0-36AC-49EE-B0D6-43DE2E00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D65-A9A4-4428-A2E6-7EC16831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AA5-C6E7-4182-B681-CDC992E0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34C-D783-47E7-AC0D-3755A875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DF6-2B50-4A72-8AF5-A696B687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A2C-18FE-4FC9-B5A0-3C5E318B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D541-B8B7-4784-B38A-8E184DA693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D0E2-0581-40D6-86EE-AAAC11FB0DAC}" type="slidenum">
              <a:rPr b="0" lang="en-US" sz="1200" spc="-1" strike="noStrike">
                <a:solidFill>
                  <a:srgbClr val="cc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gfl.skoool.co.uk/viewdetails_ks3.aspx?id=61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By the end of the lesson you should be able to: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Red blood cells specialisat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)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extra space insid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3) contain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haemoglobi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oxygen carrying molecul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50million molecules / cel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5" name="Picture 4" descr="blood%20cell"/>
          <p:cNvPicPr/>
          <p:nvPr/>
        </p:nvPicPr>
        <p:blipFill>
          <a:blip r:embed="rId1"/>
          <a:stretch/>
        </p:blipFill>
        <p:spPr>
          <a:xfrm>
            <a:off x="857160" y="2322360"/>
            <a:ext cx="335916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55640" y="1557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1)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biconcave shape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55640" y="486900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increases the surface area so more oxygen can be carried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925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gives red blood cells their colour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an carry up to 4 molecules of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associates and dissociates with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ontains ir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0" name="Picture 4" descr="Hemoglobin"/>
          <p:cNvPicPr/>
          <p:nvPr/>
        </p:nvPicPr>
        <p:blipFill>
          <a:blip r:embed="rId1"/>
          <a:srcRect l="0" t="13215" r="0" b="13215"/>
          <a:stretch/>
        </p:blipFill>
        <p:spPr>
          <a:xfrm>
            <a:off x="533520" y="1981080"/>
            <a:ext cx="3889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erns0100"/>
          <p:cNvPicPr/>
          <p:nvPr/>
        </p:nvPicPr>
        <p:blipFill>
          <a:blip r:embed="rId1"/>
          <a:srcRect l="2815" t="35648" r="19365" b="37265"/>
          <a:stretch/>
        </p:blipFill>
        <p:spPr>
          <a:xfrm>
            <a:off x="380880" y="1295280"/>
            <a:ext cx="8763120" cy="2616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0" y="39625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-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Function of 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Mon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5" name="Picture 3" descr="Monocytes-2"/>
          <p:cNvPicPr/>
          <p:nvPr/>
        </p:nvPicPr>
        <p:blipFill>
          <a:blip r:embed="rId1"/>
          <a:stretch/>
        </p:blipFill>
        <p:spPr>
          <a:xfrm>
            <a:off x="1403280" y="1905120"/>
            <a:ext cx="59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onocytes and macrophag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non-specific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response to infecti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ttp://www.microbelibrary.org/images/tterry/anim/phago053.htm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8" name="Picture 4" descr="Phagocytose"/>
          <p:cNvPicPr/>
          <p:nvPr/>
        </p:nvPicPr>
        <p:blipFill>
          <a:blip r:embed="rId1"/>
          <a:stretch/>
        </p:blipFill>
        <p:spPr>
          <a:xfrm>
            <a:off x="5057640" y="2865600"/>
            <a:ext cx="2482920" cy="2579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4303087"/>
          <p:cNvPicPr/>
          <p:nvPr/>
        </p:nvPicPr>
        <p:blipFill>
          <a:blip r:embed="rId2"/>
          <a:stretch/>
        </p:blipFill>
        <p:spPr>
          <a:xfrm>
            <a:off x="996840" y="3137040"/>
            <a:ext cx="32911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Verdana"/>
              </a:rPr>
              <a:t>Lymphocyt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1" name="Picture 3" descr="Lymphocyte"/>
          <p:cNvPicPr/>
          <p:nvPr/>
        </p:nvPicPr>
        <p:blipFill>
          <a:blip r:embed="rId1"/>
          <a:stretch/>
        </p:blipFill>
        <p:spPr>
          <a:xfrm>
            <a:off x="1836720" y="1846440"/>
            <a:ext cx="5319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Comic Sans MS"/>
              </a:rPr>
              <a:t>Lymphocytes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44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Can you?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the average human has 5 litres of bloo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is a transporting flui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carries vital substances to all parts of the body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uman blood smea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7" name="Picture 3" descr="humanbloodsmear2"/>
          <p:cNvPicPr/>
          <p:nvPr/>
        </p:nvPicPr>
        <p:blipFill>
          <a:blip r:embed="rId1"/>
          <a:stretch/>
        </p:blipFill>
        <p:spPr>
          <a:xfrm>
            <a:off x="838080" y="1676520"/>
            <a:ext cx="4413240" cy="4647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732720" y="558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10080" y="1066320"/>
            <a:ext cx="353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(55%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-6-million 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000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0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89088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 flipV="1">
            <a:off x="3492000" y="1196640"/>
            <a:ext cx="189252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059280" y="1844640"/>
            <a:ext cx="238752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924360" y="2852640"/>
            <a:ext cx="148104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195640" y="3573360"/>
            <a:ext cx="3375000" cy="503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268360" y="4149360"/>
            <a:ext cx="3292560" cy="3589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2916360" y="4797360"/>
            <a:ext cx="255096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300400" y="304920"/>
            <a:ext cx="226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6699"/>
                </a:solidFill>
                <a:uFillTx/>
                <a:latin typeface="Comic Sans MS"/>
                <a:hlinkClick r:id="rId2"/>
              </a:rPr>
              <a:t>skool blood plasma</a:t>
            </a: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Verdana"/>
              </a:rPr>
              <a:t>x 1000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3" descr="MISCFIG04"/>
          <p:cNvPicPr/>
          <p:nvPr/>
        </p:nvPicPr>
        <p:blipFill>
          <a:blip r:embed="rId1"/>
          <a:stretch/>
        </p:blipFill>
        <p:spPr>
          <a:xfrm>
            <a:off x="1600200" y="1981080"/>
            <a:ext cx="52862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Plasma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liquid part of blood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transports:-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oluble food molecul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aste produc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hormones 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1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211200" cy="482436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3348000" y="1197000"/>
            <a:ext cx="1152720" cy="71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00720" y="112500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Red blood cells</a:t>
            </a: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 (RBCs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transport </a:t>
            </a: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oxygen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pecialised to do thi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lso carry some CO</a:t>
            </a:r>
            <a:r>
              <a:rPr b="0" lang="en-GB" sz="32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4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125360"/>
            <a:ext cx="2959200" cy="4445280"/>
          </a:xfrm>
          <a:prstGeom prst="rect">
            <a:avLst/>
          </a:prstGeom>
          <a:ln w="0">
            <a:noFill/>
          </a:ln>
        </p:spPr>
      </p:pic>
      <p:sp>
        <p:nvSpPr>
          <p:cNvPr id="115" name="Line 4"/>
          <p:cNvSpPr/>
          <p:nvPr/>
        </p:nvSpPr>
        <p:spPr>
          <a:xfrm>
            <a:off x="3635280" y="1341360"/>
            <a:ext cx="792360" cy="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191120" y="609120"/>
            <a:ext cx="4952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White blood cell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bodies “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defence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art of the immune system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uch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larger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than RBC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far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fewer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ave a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4000-13000 per mm</a:t>
            </a:r>
            <a:r>
              <a:rPr b="0" lang="en-GB" sz="28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 types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hagocytes and lymphocyt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7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826920" y="119700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 flipV="1">
            <a:off x="1763640" y="1125000"/>
            <a:ext cx="2664000" cy="863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0" y="105264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Platelets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if you get cut:-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platelets produc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iny </a:t>
            </a:r>
            <a:r>
              <a:rPr b="0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fibrin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threads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form a web-lik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mesh that traps blood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cells.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harden forming a clot, or "scab."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150,000 to 400,000 per mm</a:t>
            </a:r>
            <a:r>
              <a:rPr b="0" lang="en-GB" sz="26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05264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3492360" y="1197000"/>
            <a:ext cx="1150920" cy="216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979640" y="1413000"/>
            <a:ext cx="2663640" cy="792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3T13:59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