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gunshot.wav" ContentType="audio/x-wav"/>
  <Override PartName="/ppt/media/chimes.wav" ContentType="audio/x-wav"/>
  <Override PartName="/ppt/media/cashreg.wav" ContentType="audio/x-wav"/>
  <Override PartName="/ppt/media/driveby.wav" ContentType="audio/x-wav"/>
  <Override PartName="/ppt/media/laser.wav" ContentType="audio/x-wav"/>
  <Override PartName="/ppt/media/image4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projctor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E7C6-E856-4432-9467-A51559C870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garette Smoke and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pidemiologic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ly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 Smoke and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emiologic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ends of Smo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ed worl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ing worl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nds of Sm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wor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wor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 cardiovascular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diovascular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artery to the heart is blocked a heart attack could occ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artery to the brain is blocked then a stroke could occ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rtery to the heart is blocked a heart attack could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rtery to the brain is blocked then a stroke could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olesterol travels in packages called lipoprotei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low density lipoproteins that deliver cholesterol around the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high density lipoproteins that remove cholesterol from the blood strea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olesterol is essential but in the right amount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sterol travels in packages called lipoprot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low density lipoproteins that deliver cholesterol a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high density lipoproteins that remove cholesterol from the blood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sterol is essential but in the right amoun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’ve done enough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onary Heart Disease (CHD) – What are the three form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ke – Why do they occur? What happens to a person having a strok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Q 14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done enoug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ry Heart Disease (CHD) – What are the three fo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ke – Why do they occur? What happens to a person having a stro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Q 1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ving the links between smoking and lung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rious widespread smoking did not start until the second half of the 20th centur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1950’s there was a lung cancer epidem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now over 35,000 deaths per year from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general, 50% of smokers die from a smoking related diseas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ng the links between smoking and lung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ous widespread smoking did not start until the second half of the 20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 there was a lung cancer epide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w over 35,000 deaths per year from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50% of smokers die from a smoking relate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nic Obstructive Pulmonary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chronic bronchitis and emphysema occur at the same tim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ease is responsible for 30,000+ deaths a year in the U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very rare in non-smok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8% of people with emphysema are smokers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Obstructive Pulmonary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chronic bronchitis and emphysema occur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ease is responsible for 30,000+ deaths a year in the U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very rare in non-smo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8% of people with emphysema are smoker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more stat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okers are 18 time more likely to develop lung cancer than non-smok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% of smokers die of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takes ten years for lungs to recover after a long period of smok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third of all cancer deaths are a direct result of smok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rs are 18 time more likely to develop lung cancer than non-smo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% of smokers die of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ten years for lungs to recover after a long period of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hird of all cancer deaths are a direct result of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aQ 14.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Q 14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gs were use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ce were use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tal research that should save lots of human liv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s were us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were us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l research that should save lots of human liv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g Experi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group of dogs were made to smoke filtered cigaret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group of dogs were made to smoke filter-less cigaret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id get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g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group of dogs were made to smoke filtered cigaret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group of dogs were made to smoke filter-less cigaret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get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moking Machine Experi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oking machines extracted the chemicals in smok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cinogens and co-carcinogens were found in the ta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oking Machin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machines extracted the chemicals in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cinogens and co-carcinogens were found in the t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8F1-3F04-4877-992D-3A186040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1F7-1452-4768-A274-9972C914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71C-CD3B-4E8B-AE7D-F8634909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808-D86A-4901-9302-61B26FDB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9935-DDF6-43D3-AB26-A3F9BA10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2734-0DE0-420E-A42C-470934C3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3533-607F-4401-8CF7-7F97E274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8AE1-F7B2-46AE-BD09-8EE26042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636A-930F-4F54-9AE8-B4E42528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971E-E6E1-41CD-AC75-04B1F149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323F-15AD-4DB4-BAB0-ABF3041B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8BE-E453-4692-8CF0-A8A3CBFA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1AA6-9BA1-442D-9718-332B16C1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DE7E-453F-4DB5-9E02-649E0E21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DBDE-7824-47A5-B48E-BA2EBE81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06C2-A97B-47FD-ABEE-AE7E0308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170D-5223-4B55-AFB9-AF1F1CE5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6D2-3042-4063-BAC6-B322C3CD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E18-BF3D-4B65-B74F-14B21CFE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16B-1020-43E0-9173-E4B05F89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E8ED-3EF9-4C95-8047-B2ABFED3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EE1-1D04-4250-ABBE-6839B0D4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470-EE93-4227-BC43-DCEF429D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DF4-B4B5-4172-BF7A-73824E96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4EA1-D08A-4C13-96F5-9C107B5A495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3443-EFB7-401A-96FA-AD4460A9715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igarette Smoke and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idemiological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rly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Trends of Smok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veloped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veloping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theroscler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ardiovascular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theroscler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artery to the heart is blocked a heart attack could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artery to the brain is blocked then a stroke could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…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olesterol travels in packages called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ow density 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at deliver cholesterol around the bod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high density 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at remove cholesterol from the blood stre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olesterol is essential but in the right amounts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therosclerosis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therosclerosis1"/>
          <p:cNvPicPr/>
          <p:nvPr/>
        </p:nvPicPr>
        <p:blipFill>
          <a:blip r:embed="rId1"/>
          <a:stretch/>
        </p:blipFill>
        <p:spPr>
          <a:xfrm>
            <a:off x="533520" y="228600"/>
            <a:ext cx="8076960" cy="6172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’ve done enough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ronary Heart Disease (CHD) – What are the three form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ke – Why do they occur? What happens to a person having a strok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Q 14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roving the links between smoking and lung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ious widespread smoking did not start until the second half of the 2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e 1950’s there was a lung cancer epidem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now over 35,000 deaths per year from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general, 50% of smokers die from a smoking related dis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ronic Obstructive Pulmonar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is where chronic bronchitis and emphysema occur at the same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disease is responsible for 30,000+ deaths a year in the U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very rare in non-smok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98% of people with emphysema are smoker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ome more stat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mokers are 18 time more likely to develop lung cancer than non-smok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25% of smokers die of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takes ten years for lungs to recover after a long period of smo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third of all cancer deaths are a direct result of smo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lungcancer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aQ 14.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695160" y="3125880"/>
          <a:ext cx="7753680" cy="18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3125880"/>
                    <a:ext cx="775368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gs were us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ce were us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tal research that should save lots of human liv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Dog Experi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group of dogs were made to smoke filtered cigaret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group of dogs were made to smoke filter-less cigaret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did get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Smoking Machine Experi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moking machines extracted the chemicals in smo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rcinogens and co-carcinogens were found in the t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0:42:54Z</dcterms:created>
  <dc:creator>Chalfonts Community College</dc:creator>
  <dc:description>Cigarette Smoke and Disease</dc:description>
  <cp:keywords>Cigarette Smoke and Disease</cp:keywords>
  <dc:language>en-US</dc:language>
  <cp:lastModifiedBy>LEGION2</cp:lastModifiedBy>
  <dcterms:modified xsi:type="dcterms:W3CDTF">2016-01-14T08:10:00Z</dcterms:modified>
  <cp:revision>25</cp:revision>
  <dc:subject>Cigarette Smoke and Disease</dc:subject>
  <dc:title>Cigarette Smoke and Disease</dc:title>
</cp:coreProperties>
</file>