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gunshot.wav" ContentType="audio/x-wav"/>
  <Override PartName="/ppt/media/chimes.wav" ContentType="audio/x-wav"/>
  <Override PartName="/ppt/media/cashreg.wav" ContentType="audio/x-wav"/>
  <Override PartName="/ppt/media/driveby.wav" ContentType="audio/x-wav"/>
  <Override PartName="/ppt/media/laser.wav" ContentType="audio/x-wav"/>
  <Override PartName="/ppt/media/image4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projctor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9EE9-5787-43B1-B09D-B40995369C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garette Smoke and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pidemiological Evi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ly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 Smoke and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emiologic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ends of Smo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veloped worl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veloping worl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nds of Sm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wor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wor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 cardiovascular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rdiovascular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too much cholesterol has been taken and is stored in the arteries causing them to narro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artery to the heart is blocked a heart attack could occ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artery to the brain is blocked then a stroke could occ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too much cholesterol has been taken and is stored in the arteries causing them to n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rtery to the heart is blocked a heart attack could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rtery to the brain is blocked then a stroke could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olesterol travels in packages called lipoprotei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low density lipoproteins that deliver cholesterol around the bo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high density lipoproteins that remove cholesterol from the blood strea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olesterol is essential but in the right amounts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sterol travels in packages called lipoprot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low density lipoproteins that deliver cholesterol a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high density lipoproteins that remove cholesterol from the blood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sterol is essential but in the right amoun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’ve done enough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onary Heart Disease (CHD) – What are the three form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oke – Why do they occur? What happens to a person having a strok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Q 14.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done enoug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ry Heart Disease (CHD) – What are the three fo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ke – Why do they occur? What happens to a person having a stro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Q 1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ving the links between smoking and lung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rious widespread smoking did not start until the second half of the 20th centur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1950’s there was a lung cancer epidem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now over 35,000 deaths per year from lung canc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general, 50% of smokers die from a smoking related diseas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ng the links between smoking and lung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ous widespread smoking did not start until the second half of the 20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50’s there was a lung cancer epide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w over 35,000 deaths per year from lung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50% of smokers die from a smoking relate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nic Obstructive Pulmonary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chronic bronchitis and emphysema occur at the same tim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ease is responsible for 30,000+ deaths a year in the U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very rare in non-smok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8% of people with emphysema are smokers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Obstructive Pulmonary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chronic bronchitis and emphysema occur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ease is responsible for 30,000+ deaths a year in the U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very rare in non-smo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8% of people with emphysema are smoker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more stat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okers are 18 time more likely to develop lung cancer than non-smok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5% of smokers die of lung canc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takes ten years for lungs to recover after a long period of smok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third of all cancer deaths are a direct result of smok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rs are 18 time more likely to develop lung cancer than non-smo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% of smokers die of lung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ten years for lungs to recover after a long period of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hird of all cancer deaths are a direct result of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aQ 14.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Q 14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gs were use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ce were use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tal research that should save lots of human liv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gs were us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were us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al research that should save lots of human liv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g Experi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group of dogs were made to smoke filtered cigaret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id not get lung cancer but did produce cancerous cells in the lining of their airways and mout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group of dogs were made to smoke filter-less cigaret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id get lung canc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g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group of dogs were made to smoke filtered cigaret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get lung cancer but did produce cancerous cells in the lining of their airways and mou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group of dogs were made to smoke filter-less cigaret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get lung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moking Machine Experi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oking machines extracted the chemicals in smok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cinogens and co-carcinogens were found in the ta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e tar was rubbed on the back of a mouse. The skin formed cancerous cells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oking Machin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machines extracted the chemicals in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cinogens and co-carcinogens were found in the t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tar was rubbed on the back of a mouse. The skin formed cancerous cell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5F86-7A72-4521-8D35-F40A1B3B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FEF9-8AC2-485E-B5EE-2BA8ABA6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2034-A450-43D3-80E6-9E04CFC8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7B13-2462-4B7C-9FF2-772600C7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900A-6F34-4ABF-B704-DEAFDDB0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EA34-60E9-44FF-B97B-84D917BE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B738-1BCD-4226-A3C8-0981FB00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81F7-F1A9-4D7B-B3F9-8F8EDA25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921E-2153-489E-8584-DBBF256C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F784-5B28-468F-AE13-69EEDA32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DEF8-5142-4AE4-86A6-1B77B851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0E9-3DD3-4D94-BD89-9CBC2DE6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958F-336B-40A0-BA42-1BBE59E6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68C4-2CB0-4C19-A4EA-6589CF6F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0AFD-091C-4A8F-8B34-0AF474EC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D932-E479-40E7-B15A-F9676B44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CA86-38A6-4CC7-91AD-52231AC1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E7E-39B2-4602-83B8-26FC8C94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A22B-7389-4389-89B9-40DE89EA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724-D754-4E3B-AD68-51700328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4D4F-BAC4-4564-82DC-643301CD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A69-391C-4E21-93EF-3E14A13A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6BFE-D1F8-40A2-9782-27E20994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29A-5F7F-41EE-93E0-5AB327C3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FD80-8F2F-4CCA-A64D-639192FEC83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5BCB-0B47-4048-91D2-1CB1DB86D57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whoosh.wav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igarette Smoke and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idemiological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erimental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rly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Trends of Smok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veloped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veloping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theroscler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ardiovascular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theroscler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is where too much cholesterol has been taken and is stored in the arteries causing them to narr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artery to the heart is blocked a heart attack could occ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artery to the brain is blocked then a stroke could occ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…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ore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olesterol travels in packages called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lipoprotei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low density lipoprotei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at deliver cholesterol around the bod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high density lipoprotei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at remove cholesterol from the blood stre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olesterol is essential but in the right amounts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therosclerosis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64008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therosclerosis1"/>
          <p:cNvPicPr/>
          <p:nvPr/>
        </p:nvPicPr>
        <p:blipFill>
          <a:blip r:embed="rId1"/>
          <a:stretch/>
        </p:blipFill>
        <p:spPr>
          <a:xfrm>
            <a:off x="533520" y="228600"/>
            <a:ext cx="8076960" cy="6172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’ve done enough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ronary Heart Disease (CHD) – What are the three form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ke – Why do they occur? What happens to a person having a strok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aQ 14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Proving the links between smoking and lung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rious widespread smoking did not start until the second half of the 20</a:t>
            </a:r>
            <a:r>
              <a:rPr b="0" lang="en-GB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entu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e 1950’s there was a lung cancer epidem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now over 35,000 deaths per year from lung can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general, 50% of smokers die from a smoking related dis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ronic Obstructive Pulmonary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is where chronic bronchitis and emphysema occur at the same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disease is responsible for 30,000+ deaths a year in the U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very rare in non-smok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98% of people with emphysema are smoker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ome more stat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mokers are 18 time more likely to develop lung cancer than non-smok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25% of smokers die of lung can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takes ten years for lungs to recover after a long period of smo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third of all cancer deaths are a direct result of smo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lungcancer1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aQ 14.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695160" y="3125880"/>
          <a:ext cx="7753680" cy="18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3125880"/>
                    <a:ext cx="775368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xperimental Evid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gs were us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ce were us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tal research that should save lots of human liv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Dog Experi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group of dogs were made to smoke filtered cigaret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y did not get lung cancer but did produce cancerous cells in the lining of their airways and mou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group of dogs were made to smoke filter-less cigaret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y did get lung can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Smoking Machine Experi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moking machines extracted the chemicals in smo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rcinogens and co-carcinogens were found in the t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the tar was rubbed on the back of a mouse. The skin formed cancerous cell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0:42:54Z</dcterms:created>
  <dc:creator>Chalfonts Community College</dc:creator>
  <dc:description>Cigarette Smoke and Disease</dc:description>
  <cp:keywords>Cigarette Smoke and Disease</cp:keywords>
  <dc:language>en-US</dc:language>
  <cp:lastModifiedBy>LEGION2</cp:lastModifiedBy>
  <dcterms:modified xsi:type="dcterms:W3CDTF">2016-01-14T08:10:00Z</dcterms:modified>
  <cp:revision>25</cp:revision>
  <dc:subject>Cigarette Smoke and Disease</dc:subject>
  <dc:title>Cigarette Smoke and Disease</dc:title>
</cp:coreProperties>
</file>