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gunshot.wav" ContentType="audio/x-wav"/>
  <Override PartName="/ppt/media/chimes.wav" ContentType="audio/x-wav"/>
  <Override PartName="/ppt/media/cashreg.wav" ContentType="audio/x-wav"/>
  <Override PartName="/ppt/media/driveby.wav" ContentType="audio/x-wav"/>
  <Override PartName="/ppt/media/laser.wav" ContentType="audio/x-wav"/>
  <Override PartName="/ppt/media/image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projcto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E93E-0F50-4E4F-A712-14E6CCEFFB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6D0-5A4B-4A45-B56B-8960EEB5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DF9-872B-4EE8-B1FE-38CC0727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6E7-2DFF-4BA8-8176-848CF0A2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363-3885-4999-9784-C916F141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2D9D-742C-4194-B002-D63C7C66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5A6E-C10E-402B-A3A4-AA688E1E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537B-DB1F-4093-A16B-B6F03C41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1F71-53E0-4DC6-8541-431C2B98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9431-69F4-48BB-9E02-A47075B9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259E-8503-469F-80D9-D0854F46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52F8-C624-4801-AB68-80A8886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0DE-F7F4-44AB-9CD7-2BC29283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9E53-C8F8-4518-A41D-884EDFE1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B6C6-1CE1-4A38-8EF8-29B5CB45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F2D6-A673-4D57-BE84-0207BE76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995B-2D7B-4D86-8D6B-7011EE2F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9C40-389A-4CCF-9977-889D8D37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B67-C837-45BD-BF07-666D1A75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ECD-095C-407F-B9C4-D0545475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0E6-682B-4B2E-9E66-470729EE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824-8706-49BA-BD1A-D6CF64B6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DC3-B260-474C-97A9-7C7413BC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C36-D681-4B10-825B-23FF623C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2B1-A034-46F6-BBFC-C72F5AB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05FF-E27A-4C76-B6A9-409F6FC3343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F0D7-7CDC-434C-AABC-434DD811F90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igarette Smoke and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Trends of Smo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travels in packages called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ow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deliver cholesterol arou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high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remove cholesterol from the blood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herosclerosis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herosclerosis1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’ve done enoug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oving the links between smoking and lung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ronic Obstructive Pulmona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ome more stat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ungcancer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aQ 14.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695160" y="3125880"/>
          <a:ext cx="775368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3125880"/>
                    <a:ext cx="775368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Dog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Smoking Machine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0:42:54Z</dcterms:created>
  <dc:creator>Chalfonts Community College</dc:creator>
  <dc:description>Cigarette Smoke and Disease</dc:description>
  <cp:keywords>Cigarette Smoke and Disease</cp:keywords>
  <dc:language>en-US</dc:language>
  <cp:lastModifiedBy>LEGION2</cp:lastModifiedBy>
  <dcterms:modified xsi:type="dcterms:W3CDTF">2016-01-14T08:10:00Z</dcterms:modified>
  <cp:revision>25</cp:revision>
  <dc:subject>Cigarette Smoke and Disease</dc:subject>
  <dc:title>Cigarette Smoke and Disease</dc:title>
</cp:coreProperties>
</file>