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4676-E6F6-4C14-B3BD-4885AF7EF9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069-C558-4286-9A79-F08847FD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CCD-ACAA-4068-9FCB-7AFE69AD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BE4-5691-4C42-94F9-EA7B4D49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E54-776C-4B9A-8DB8-D7C33203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F7A6-AE11-41D8-A2CA-EA9D8191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0146-FCEB-4C55-A0C4-2C831543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446C-0D2C-4237-9457-C9CB8E64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00B4-3823-4D39-908F-F143D811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6622-3A4E-45C8-9B67-9B993907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6F87-96A5-461F-AEE1-73D9B13A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B04C-90A3-4385-B6CE-4FB6CA4B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D3B-BF7E-438E-AA56-90515943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504F-93F3-48CF-87BE-E9C203AE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CE60-D5ED-4F1C-AAA8-3D4A767F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D831-86C0-4B3F-94C4-51FD71A4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979E-0F91-4C3E-97F1-236CCA60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DEC6-3D74-47AD-AE17-9EE692D3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DD5-07E4-4595-A436-DD934864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FD5-AF54-4CA1-B784-6CF86D0F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C682-CC91-4C9B-8287-8B4F2FFF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E66-EEAF-4ED7-9D08-829A97B4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7E3-C2BF-4AEC-9E16-92AEE13A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FA24-07E3-44FA-A93C-615DAD6B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550D-0065-432C-BFD9-BDB4C87B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AC9D-98DF-4BB7-9CBC-4D6843BA38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305E-CE57-40A6-BE7B-6A1B388357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428472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8" name="Picture 5" descr="blood"/>
          <p:cNvPicPr/>
          <p:nvPr/>
        </p:nvPicPr>
        <p:blipFill>
          <a:blip r:embed="rId1"/>
          <a:stretch/>
        </p:blipFill>
        <p:spPr>
          <a:xfrm>
            <a:off x="826920" y="1628640"/>
            <a:ext cx="7993080" cy="460872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red_blood_cells"/>
          <p:cNvPicPr/>
          <p:nvPr/>
        </p:nvPicPr>
        <p:blipFill>
          <a:blip r:embed="rId1"/>
          <a:stretch/>
        </p:blipFill>
        <p:spPr>
          <a:xfrm>
            <a:off x="900000" y="1628640"/>
            <a:ext cx="7775640" cy="447696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 the 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emoglob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the centre of the haemoglobin molecule is an iro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1-2-6-4-0-0-0-0-0-0-0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he Circulatory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rcul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every cell in the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imgSS-bloodCirculation"/>
          <p:cNvPicPr/>
          <p:nvPr/>
        </p:nvPicPr>
        <p:blipFill>
          <a:blip r:embed="rId1"/>
          <a:stretch/>
        </p:blipFill>
        <p:spPr>
          <a:xfrm>
            <a:off x="971640" y="1628640"/>
            <a:ext cx="3671640" cy="44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58920" y="2924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851280" y="148428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78560" y="292428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284720" y="515772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284720" y="515772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24000" y="5013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haemoglobin in the red cell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es back to the lungs to pick up more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yg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r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bon diox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230px-Lungs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gested food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Cat_Health_Problems-Intestines"/>
          <p:cNvPicPr/>
          <p:nvPr/>
        </p:nvPicPr>
        <p:blipFill>
          <a:blip r:embed="rId1"/>
          <a:stretch/>
        </p:blipFill>
        <p:spPr>
          <a:xfrm>
            <a:off x="971640" y="1628640"/>
            <a:ext cx="3752640" cy="447696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aste substanc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 from the liver to the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fatty_liver"/>
          <p:cNvPicPr/>
          <p:nvPr/>
        </p:nvPicPr>
        <p:blipFill>
          <a:blip r:embed="rId1"/>
          <a:stretch/>
        </p:blipFill>
        <p:spPr>
          <a:xfrm>
            <a:off x="900000" y="1700280"/>
            <a:ext cx="3888000" cy="4392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rmon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hyp-bodyf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4643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7155163395116838"/>
          <p:cNvPicPr/>
          <p:nvPr/>
        </p:nvPicPr>
        <p:blipFill>
          <a:blip r:embed="rId1"/>
          <a:stretch/>
        </p:blipFill>
        <p:spPr>
          <a:xfrm>
            <a:off x="1258920" y="1628640"/>
            <a:ext cx="2665440" cy="43927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IOLOGY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8:14:46Z</dcterms:modified>
  <cp:revision>11</cp:revision>
  <dc:subject/>
  <dc:title>Exercise and Health</dc:title>
</cp:coreProperties>
</file>