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BB96-3694-4D65-922D-2B7EC7136F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7C5-A4F8-4F9A-BDA7-DEA1ECDC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9BC9-ECAA-4539-90EC-B7310039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62D-8045-4643-9E43-78E91B73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709-3DF5-48ED-A6AD-269AB737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E925-34DA-403A-B1C5-D65D053E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93BF-00C0-487F-8B46-7A30F540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5930-9DA2-41D5-AFBC-CFD69B1D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8998-E85E-46E3-AA67-4DCA9BF1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A6BB-4DFA-44A4-8C2F-18150177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E047-0C7B-4638-98E0-A8592896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6CBB-3DA3-449B-9EC2-B2C6A5C3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6DB-ABC2-4C79-9BC3-145CE236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59EB-3F9A-4595-90AD-120F5964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9ECD-BEE7-43CB-9C64-637B6B9C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F0B4-0EED-4BFB-B70C-FB661C46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055D-B25E-4B88-9843-EBBF71C7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4E3D-4C49-4BEF-8FB1-09BBDAA0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99B-10EF-4427-8241-FA628AE1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A27-82B4-4941-9A0E-4A8F61CE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0E6-0281-499D-A655-48F0880C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AAA-8CDE-4667-B601-E0FBA51C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89D-C123-4ABB-B076-891AA197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2A3-D7A7-4788-ABD1-388F394C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BFB-F59D-4862-98A4-A41633A8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F39A-8975-44EE-A9A8-3868703DC3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D120-6657-4FD5-B280-C185C6274A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Exercise and Healt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6"/>
          <p:cNvSpPr/>
          <p:nvPr/>
        </p:nvSpPr>
        <p:spPr>
          <a:xfrm>
            <a:off x="4284720" y="602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8" name="Picture 5" descr="blood"/>
          <p:cNvPicPr/>
          <p:nvPr/>
        </p:nvPicPr>
        <p:blipFill>
          <a:blip r:embed="rId1"/>
          <a:stretch/>
        </p:blipFill>
        <p:spPr>
          <a:xfrm>
            <a:off x="826920" y="1628640"/>
            <a:ext cx="7993080" cy="460872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red_blood_cells"/>
          <p:cNvPicPr/>
          <p:nvPr/>
        </p:nvPicPr>
        <p:blipFill>
          <a:blip r:embed="rId1"/>
          <a:stretch/>
        </p:blipFill>
        <p:spPr>
          <a:xfrm>
            <a:off x="900000" y="1628640"/>
            <a:ext cx="7775640" cy="447696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 the 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emoglob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t the centre of the haemoglobin molecule is an iro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1" descr="1-2-6-4-0-0-0-0-0-0-0"/>
          <p:cNvPicPr/>
          <p:nvPr/>
        </p:nvPicPr>
        <p:blipFill>
          <a:blip r:embed="rId1"/>
          <a:stretch/>
        </p:blipFill>
        <p:spPr>
          <a:xfrm>
            <a:off x="900000" y="1628640"/>
            <a:ext cx="3816360" cy="446436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he Circulatory Syst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rcula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every cell in the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imgSS-bloodCirculation"/>
          <p:cNvPicPr/>
          <p:nvPr/>
        </p:nvPicPr>
        <p:blipFill>
          <a:blip r:embed="rId1"/>
          <a:stretch/>
        </p:blipFill>
        <p:spPr>
          <a:xfrm>
            <a:off x="971640" y="1628640"/>
            <a:ext cx="3671640" cy="446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58920" y="292428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3851280" y="148428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78560" y="2924280"/>
            <a:ext cx="26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4284720" y="5157720"/>
            <a:ext cx="38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284720" y="5157720"/>
            <a:ext cx="3816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24000" y="50133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haemoglobin in the red cell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es back to the lungs to pick up more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yg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r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rbon dioxi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8" descr="230px-Lungs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gested food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Cat_Health_Problems-Intestines"/>
          <p:cNvPicPr/>
          <p:nvPr/>
        </p:nvPicPr>
        <p:blipFill>
          <a:blip r:embed="rId1"/>
          <a:stretch/>
        </p:blipFill>
        <p:spPr>
          <a:xfrm>
            <a:off x="971640" y="1628640"/>
            <a:ext cx="3752640" cy="447696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waste substance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 from the liver to the kidn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fatty_liver"/>
          <p:cNvPicPr/>
          <p:nvPr/>
        </p:nvPicPr>
        <p:blipFill>
          <a:blip r:embed="rId1"/>
          <a:stretch/>
        </p:blipFill>
        <p:spPr>
          <a:xfrm>
            <a:off x="900000" y="1700280"/>
            <a:ext cx="3888000" cy="4392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rmon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hyp-bodyf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4643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7155163395116838"/>
          <p:cNvPicPr/>
          <p:nvPr/>
        </p:nvPicPr>
        <p:blipFill>
          <a:blip r:embed="rId1"/>
          <a:stretch/>
        </p:blipFill>
        <p:spPr>
          <a:xfrm>
            <a:off x="1258920" y="1628640"/>
            <a:ext cx="2665440" cy="439272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IOLOGY TEX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9:51:23Z</dcterms:created>
  <dc:creator>Keith Hicks</dc:creator>
  <dc:description/>
  <dc:language>en-US</dc:language>
  <cp:lastModifiedBy>LEGION2</cp:lastModifiedBy>
  <dcterms:modified xsi:type="dcterms:W3CDTF">2016-01-14T08:14:46Z</dcterms:modified>
  <cp:revision>11</cp:revision>
  <dc:subject/>
  <dc:title>Exercise and Health</dc:title>
</cp:coreProperties>
</file>