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8C07-EA5C-48B9-8A3C-ABB58CCF2F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the chemical haemoglob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re of the haemoglobin molecule is an iro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the chemical haemoglob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re of the haemoglobin molecule is an iro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es to every cell in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es to every cell in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he haemoglobin in the red cells goes back to the lungs to pick up mo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he haemoglobin in the red cells goes back to the lungs to pick up mo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carried in the 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is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carried in the 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is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 (waste substance) is carried in the plasma from the liver to the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 (waste substance) is carried in the plasma from the liver to the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is carried in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is carried in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2B28-0BAE-47DB-91CC-BAA207E4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C8E6-B65E-4418-B0CA-074DD42B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F3B-BC8F-4991-962A-87DE38A1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A10-8C47-4E55-B2B5-9623089E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CC81-1DDD-402A-9413-FE8DB508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CD3A-72D5-48C6-8642-B3CBD111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96E0-79B5-4111-BAF1-4724FB13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0C31-BEDD-4246-992F-6D6BAE78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D020-C80D-41E6-8AC0-C134C81B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383E-CCC3-46ED-9360-67F19901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1B55-8814-471A-ADC1-854CFB21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B365-CD05-401C-BF1D-D7072589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80AC-B1F5-4464-95FB-655812C0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E658-9991-48D6-9FE4-2B6ED186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5F1A-BC94-4169-A504-012D874B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E35E-3A66-43C3-BA58-C9B510E9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ACEE-663F-462E-A5AC-EA59CF9F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8ECD-6599-4FCE-B2D1-3E5B2F93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16E-8783-44E3-A850-C31B432C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C48-4DDF-45BA-A239-72494734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E50-12B9-4C9C-883F-2317E49B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119D-7930-4272-8599-347F346F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359D-66F2-44E5-BE44-371B1D40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94A-D9A3-416B-9B20-89CFDB2C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A36A-01EC-4354-A288-A397B3275E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3856-283B-43DF-AA23-8D3DA1C671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Exercise and Healt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730872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3"/>
          <p:cNvSpPr/>
          <p:nvPr/>
        </p:nvSpPr>
        <p:spPr>
          <a:xfrm flipH="1">
            <a:off x="5866920" y="4869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468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5"/>
          <p:cNvSpPr/>
          <p:nvPr/>
        </p:nvSpPr>
        <p:spPr>
          <a:xfrm>
            <a:off x="1619280" y="4724280"/>
            <a:ext cx="1297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2"/>
          <p:cNvSpPr/>
          <p:nvPr/>
        </p:nvSpPr>
        <p:spPr>
          <a:xfrm>
            <a:off x="730872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3"/>
          <p:cNvSpPr/>
          <p:nvPr/>
        </p:nvSpPr>
        <p:spPr>
          <a:xfrm flipH="1">
            <a:off x="5866920" y="4869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4"/>
          <p:cNvSpPr/>
          <p:nvPr/>
        </p:nvSpPr>
        <p:spPr>
          <a:xfrm>
            <a:off x="468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5"/>
          <p:cNvSpPr/>
          <p:nvPr/>
        </p:nvSpPr>
        <p:spPr>
          <a:xfrm>
            <a:off x="1619280" y="4724280"/>
            <a:ext cx="1297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6"/>
          <p:cNvSpPr/>
          <p:nvPr/>
        </p:nvSpPr>
        <p:spPr>
          <a:xfrm>
            <a:off x="4284720" y="602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8" name="Picture 5" descr="blood"/>
          <p:cNvPicPr/>
          <p:nvPr/>
        </p:nvPicPr>
        <p:blipFill>
          <a:blip r:embed="rId1"/>
          <a:stretch/>
        </p:blipFill>
        <p:spPr>
          <a:xfrm>
            <a:off x="826920" y="1628640"/>
            <a:ext cx="7993080" cy="460872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red_blood_cells"/>
          <p:cNvPicPr/>
          <p:nvPr/>
        </p:nvPicPr>
        <p:blipFill>
          <a:blip r:embed="rId1"/>
          <a:stretch/>
        </p:blipFill>
        <p:spPr>
          <a:xfrm>
            <a:off x="900000" y="1628640"/>
            <a:ext cx="7775640" cy="447696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 the 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emoglob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t the centre of the haemoglobin molecule is an iro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1" descr="1-2-6-4-0-0-0-0-0-0-0"/>
          <p:cNvPicPr/>
          <p:nvPr/>
        </p:nvPicPr>
        <p:blipFill>
          <a:blip r:embed="rId1"/>
          <a:stretch/>
        </p:blipFill>
        <p:spPr>
          <a:xfrm>
            <a:off x="900000" y="1628640"/>
            <a:ext cx="3816360" cy="446436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he Circulatory Syst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rcula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every cell in the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imgSS-bloodCirculation"/>
          <p:cNvPicPr/>
          <p:nvPr/>
        </p:nvPicPr>
        <p:blipFill>
          <a:blip r:embed="rId1"/>
          <a:stretch/>
        </p:blipFill>
        <p:spPr>
          <a:xfrm>
            <a:off x="971640" y="1628640"/>
            <a:ext cx="3671640" cy="446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58920" y="292428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3851280" y="148428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78560" y="2924280"/>
            <a:ext cx="26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6478560" y="2637000"/>
            <a:ext cx="266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4284720" y="5157720"/>
            <a:ext cx="38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ffuses into the cells of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6478560" y="2637000"/>
            <a:ext cx="266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284720" y="5157720"/>
            <a:ext cx="3816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ffuses into the cells of the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324000" y="501336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haemoglobin in the red cell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es back to the lungs to pick up more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yg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r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rbon dioxi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8" descr="230px-Lungs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39272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gested food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Cat_Health_Problems-Intestines"/>
          <p:cNvPicPr/>
          <p:nvPr/>
        </p:nvPicPr>
        <p:blipFill>
          <a:blip r:embed="rId1"/>
          <a:stretch/>
        </p:blipFill>
        <p:spPr>
          <a:xfrm>
            <a:off x="971640" y="1628640"/>
            <a:ext cx="3752640" cy="447696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waste substance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plasma from the liver to the kidn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fatty_liver"/>
          <p:cNvPicPr/>
          <p:nvPr/>
        </p:nvPicPr>
        <p:blipFill>
          <a:blip r:embed="rId1"/>
          <a:stretch/>
        </p:blipFill>
        <p:spPr>
          <a:xfrm>
            <a:off x="900000" y="1700280"/>
            <a:ext cx="3888000" cy="4392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rmon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hyp-bodyf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4643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7155163395116838"/>
          <p:cNvPicPr/>
          <p:nvPr/>
        </p:nvPicPr>
        <p:blipFill>
          <a:blip r:embed="rId1"/>
          <a:stretch/>
        </p:blipFill>
        <p:spPr>
          <a:xfrm>
            <a:off x="1258920" y="1628640"/>
            <a:ext cx="2665440" cy="439272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IOLOGY TEX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9:51:23Z</dcterms:created>
  <dc:creator>Keith Hicks</dc:creator>
  <dc:description/>
  <dc:language>en-US</dc:language>
  <cp:lastModifiedBy>LEGION2</cp:lastModifiedBy>
  <dcterms:modified xsi:type="dcterms:W3CDTF">2016-01-14T08:14:46Z</dcterms:modified>
  <cp:revision>11</cp:revision>
  <dc:subject/>
  <dc:title>Exercise and Health</dc:title>
</cp:coreProperties>
</file>