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applause.wav" ContentType="audio/x-wav"/>
  <Override PartName="/ppt/media/drumroll.wav" ContentType="audio/x-wav"/>
  <Override PartName="/ppt/media/image7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B904-DF08-4621-A4DF-1A79367F09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s 10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2D8-CE72-4DC8-B04C-172C56622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2B3E-38B9-4857-9B4E-12A4681D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685-98A1-419C-8A37-8E8DD439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9EF-2507-48C0-BC5F-8BC19054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CDCE-80A8-430D-BFB9-2B1C2A80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418-5C7C-4360-BAC2-0845EC40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675-2966-4AA6-8726-9FCD0880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EC5-FE2B-4CD6-B4B6-1F32CB7A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155-8288-4174-86B4-FBB2AA58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46C1-5001-4800-8415-36F1B3AA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E4D-5235-40C4-BEE6-D20E74FA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3F2-A064-497E-A673-D1F7DB49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72B-76A2-40CB-B6E0-7870E7B86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457200"/>
            <a:ext cx="8458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ggy Colson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inical Terminolog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des 10-12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loopclock"/>
          <p:cNvPicPr/>
          <p:nvPr/>
        </p:nvPicPr>
        <p:blipFill>
          <a:blip r:embed="rId1"/>
          <a:stretch/>
        </p:blipFill>
        <p:spPr>
          <a:xfrm>
            <a:off x="3124080" y="1523880"/>
            <a:ext cx="2514600" cy="243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6668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q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447920" y="403848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very h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1447920" y="5562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Quaque hora - L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685800" y="380880"/>
            <a:ext cx="792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.i.d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 times daily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838080" y="5334120"/>
            <a:ext cx="7467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ter in die -Lati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wb01330_"/>
          <p:cNvPicPr/>
          <p:nvPr/>
        </p:nvPicPr>
        <p:blipFill>
          <a:blip r:embed="rId1"/>
          <a:stretch/>
        </p:blipFill>
        <p:spPr>
          <a:xfrm>
            <a:off x="29718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wb01330_"/>
          <p:cNvPicPr/>
          <p:nvPr/>
        </p:nvPicPr>
        <p:blipFill>
          <a:blip r:embed="rId2"/>
          <a:stretch/>
        </p:blipFill>
        <p:spPr>
          <a:xfrm>
            <a:off x="68580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wb01330_"/>
          <p:cNvPicPr/>
          <p:nvPr/>
        </p:nvPicPr>
        <p:blipFill>
          <a:blip r:embed="rId3"/>
          <a:stretch/>
        </p:blipFill>
        <p:spPr>
          <a:xfrm>
            <a:off x="48769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wb01330_"/>
          <p:cNvPicPr/>
          <p:nvPr/>
        </p:nvPicPr>
        <p:blipFill>
          <a:blip r:embed="rId4"/>
          <a:stretch/>
        </p:blipFill>
        <p:spPr>
          <a:xfrm>
            <a:off x="1066680" y="2514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22860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o.d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other da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219320" y="5410080"/>
            <a:ext cx="6324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 otro die - 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4" descr="wb01330_"/>
          <p:cNvPicPr/>
          <p:nvPr/>
        </p:nvPicPr>
        <p:blipFill>
          <a:blip r:embed="rId1"/>
          <a:stretch/>
        </p:blipFill>
        <p:spPr>
          <a:xfrm>
            <a:off x="380880" y="2362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b01330_"/>
          <p:cNvPicPr/>
          <p:nvPr/>
        </p:nvPicPr>
        <p:blipFill>
          <a:blip r:embed="rId2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na00494_"/>
          <p:cNvPicPr/>
          <p:nvPr/>
        </p:nvPicPr>
        <p:blipFill>
          <a:blip r:embed="rId3"/>
          <a:stretch/>
        </p:blipFill>
        <p:spPr>
          <a:xfrm>
            <a:off x="2209680" y="259092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00494_"/>
          <p:cNvPicPr/>
          <p:nvPr/>
        </p:nvPicPr>
        <p:blipFill>
          <a:blip r:embed="rId4"/>
          <a:stretch/>
        </p:blipFill>
        <p:spPr>
          <a:xfrm>
            <a:off x="5867280" y="25146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wb01330_"/>
          <p:cNvPicPr/>
          <p:nvPr/>
        </p:nvPicPr>
        <p:blipFill>
          <a:blip r:embed="rId5"/>
          <a:stretch/>
        </p:blipFill>
        <p:spPr>
          <a:xfrm>
            <a:off x="7391520" y="23623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38080" y="304920"/>
            <a:ext cx="7086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ufficient quantit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609480" y="4267080"/>
            <a:ext cx="7543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uantum sufficiat 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838080" y="1371600"/>
            <a:ext cx="65534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uar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557360" y="2570040"/>
            <a:ext cx="6029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#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e02716_"/>
          <p:cNvPicPr/>
          <p:nvPr/>
        </p:nvPicPr>
        <p:blipFill>
          <a:blip r:embed="rId1"/>
          <a:stretch/>
        </p:blipFill>
        <p:spPr>
          <a:xfrm>
            <a:off x="304920" y="3733920"/>
            <a:ext cx="3581280" cy="270648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838080" y="533520"/>
            <a:ext cx="73915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t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tien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04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16002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143000" y="1523880"/>
            <a:ext cx="7315200" cy="308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ulv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owder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>
            <a:off x="914400" y="1447920"/>
            <a:ext cx="72388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vt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riv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990720" y="762120"/>
            <a:ext cx="7010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5" name="Picture 4" descr="pe02364_"/>
          <p:cNvPicPr/>
          <p:nvPr/>
        </p:nvPicPr>
        <p:blipFill>
          <a:blip r:embed="rId1"/>
          <a:stretch/>
        </p:blipFill>
        <p:spPr>
          <a:xfrm>
            <a:off x="1143000" y="4114800"/>
            <a:ext cx="655308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143000"/>
            <a:ext cx="7848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-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447920" y="1143000"/>
            <a:ext cx="6329160" cy="44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A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ality assuranc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38080" y="5335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d 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 da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914400" y="3886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aque die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9:13:21Z</dcterms:created>
  <dc:creator>Graves County High School</dc:creator>
  <dc:description/>
  <dc:language>en-US</dc:language>
  <cp:lastModifiedBy>LEGION2</cp:lastModifiedBy>
  <dcterms:modified xsi:type="dcterms:W3CDTF">2016-01-14T08:34:39Z</dcterms:modified>
  <cp:revision>22</cp:revision>
  <dc:subject/>
  <dc:title>PowerPoint Presentation</dc:title>
</cp:coreProperties>
</file>