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AD28-9C94-4A6C-B81C-0B86A94ECC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DA78B-0B10-4BBF-A968-4CDDD6DFB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87F82-AEDD-4DED-A101-202590119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7E677-681F-4D3F-8DF3-C675DD6BA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0FAC3-6659-4CF5-B252-612085958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C3860-5BF9-41CF-826E-86805CCAC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263C3-6C5C-47DC-A8B5-B5B6F034E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05612-F2DB-45EB-8D14-525E27DE3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C3D25-673D-4CD3-8B6F-7490A36B5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3DE6A-39D3-4C37-8002-028EBBA62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40720-9552-4842-A285-61AA00475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39E9C-7E58-4FEF-9A4A-6246C3019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C81F9-0FC0-4F29-A570-E8B3C5BC9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7B943-8F4B-4921-A5C1-5059D96B0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6B48B-74C3-4D63-B653-B43A4435C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CFF22-4EF2-470A-8C8C-81891206D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BFA16-38BB-4D33-8963-CEDC6C10C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449C5-C909-4A13-9567-379FF6AF3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97163-E08A-4FA7-8F50-E47FD6829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225B0-46D2-441D-9C7E-F96ECCE7E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498D2-1206-44EC-B99C-4EAA78DD2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99CF7-046F-47B3-AEED-50F19C295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455DB-47A6-48F3-8555-278177721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3817A-4736-4A26-A0B6-B9004BEF9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A4B63-1201-4032-B754-35D3D1971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7686-FAD5-4A2A-B905-518305D0D064}"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9EC3-6DB3-4E94-96DD-E4F6160E7F30}"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2</cp:lastModifiedBy>
  <dcterms:modified xsi:type="dcterms:W3CDTF">2016-01-14T08:45:41Z</dcterms:modified>
  <cp:revision>18</cp:revision>
  <dc:subject>control of Heart beat</dc:subject>
  <dc:title>control of Heart beat</dc:title>
</cp:coreProperties>
</file>