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A385-BF0E-4130-8E2D-8599E6ED23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703-2B15-4341-BBEC-A2CE1EA8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6B9-EFEC-4F35-90F0-1EE94A60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5B6-30A1-4AFC-814D-CD6EEE89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D9F-90BA-42C2-8BD7-C6CC8AD2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7088-3B81-4D63-B7F0-62D58FFD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1725-CF25-41A5-8BDF-E5F8B308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1D3E-80BC-4B51-A065-4F8E20E1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AB12-8E60-4DA9-AE2E-D7053DC2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4003-BF8B-4E8E-8677-931BF28D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361A-2862-412F-A44E-C4D58563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FD11-20C5-4CD4-A211-99E8760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E62-B889-4CCC-929B-E3993CFE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A865-7841-4476-B49F-7058742B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84DB-92C7-42B7-9087-39C0AA2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384D-0E15-495F-A366-FB0A9FA0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F839-DEE6-4D79-A42F-EF748C57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962D-F48B-4A74-9ED7-8A48F510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FBC-A2E2-411C-84CC-E12B6C0F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4BF-3E49-43F1-9229-A0E08B57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D46-DBE8-4F68-8FCB-354B4E1D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172-0159-41A4-818A-522CDDF8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4C5-EEE9-4A53-B8BA-225D4676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134-85AE-414B-B88D-9824CB44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005-AF1B-40E8-B846-787B581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11D8-D28B-4D87-86E0-00C51DFD28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5282-4019-4BC1-BBC1-81D79A268C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Controlling Diseas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6" descr="300px-Tableau_Louis_Pasteur"/>
          <p:cNvPicPr/>
          <p:nvPr/>
        </p:nvPicPr>
        <p:blipFill>
          <a:blip r:embed="rId1"/>
          <a:stretch/>
        </p:blipFill>
        <p:spPr>
          <a:xfrm>
            <a:off x="2335320" y="1219320"/>
            <a:ext cx="4122720" cy="4876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steur’s Experi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66"/>
                </a:solidFill>
                <a:latin typeface="Arial"/>
              </a:rPr>
              <a:t>Which went off?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1_6"/>
          <p:cNvPicPr/>
          <p:nvPr/>
        </p:nvPicPr>
        <p:blipFill>
          <a:blip r:embed="rId1"/>
          <a:stretch/>
        </p:blipFill>
        <p:spPr>
          <a:xfrm>
            <a:off x="457200" y="1631880"/>
            <a:ext cx="403848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thogens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33"/>
                </a:solidFill>
                <a:latin typeface="Arial"/>
              </a:rPr>
              <a:t>= microorganisms which caus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Painkiller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relieve the symptoms without cur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Antibiotic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chemicals which kill bacteria, but not viruses. Viruses develop in cells and are hard to ki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Bacteria Drug Resist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180px-Antibiotic_resistanc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90720" y="1447920"/>
            <a:ext cx="2874960" cy="4647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Testing for Antibiotic Resistance in Bacteri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6" descr="resist2"/>
          <p:cNvPicPr/>
          <p:nvPr/>
        </p:nvPicPr>
        <p:blipFill>
          <a:blip r:embed="rId1"/>
          <a:stretch/>
        </p:blipFill>
        <p:spPr>
          <a:xfrm>
            <a:off x="914400" y="2058840"/>
            <a:ext cx="7315200" cy="3613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124080" y="1295280"/>
            <a:ext cx="1447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124080" y="1981080"/>
            <a:ext cx="15264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200400" y="5867280"/>
            <a:ext cx="2438280" cy="91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V="1">
            <a:off x="5181480" y="4495320"/>
            <a:ext cx="4572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4920" y="5791320"/>
            <a:ext cx="205740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1523880" y="4724280"/>
            <a:ext cx="457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1523880" y="502884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ntibiotic Resistance in Bac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s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715000" y="4729320"/>
            <a:ext cx="2133720" cy="1809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4T08:47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