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5450-1A85-4D86-9DFB-2563A76239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ing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an attractive dish for microb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ing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an attractive dish for microb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uis Pas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thought that food went off because it was in contact with air. They though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+ food                microorganisms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teur said that microbes come from microb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did som experiments to prove this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uis Pas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thought that food went off because it was in contact with air. They though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+ food                microorganisms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teur said that microbes come from microb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did som experiments to prove this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uis Pas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uis Pas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teur’s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poured some grape juice in 2 fl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hen produced a ‘swan neck’ in the g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eated the flasks to bo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flask was 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ther had its neck broken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went off?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teur’s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poured some grape juice in 2 fl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hen produced a ‘swan neck’ in the g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eated the flasks to bo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flask was 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ther had its neck broken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went off?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microorganisms which caus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are used to help people with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nkillers – relieve the symptoms without curing th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s – chemicals which kill bacteria, but not viruses. Viruses develop in cells and are hard to k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microorganisms which caus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are used to help people with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nkillers – relieve the symptoms without curing th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s – chemicals which kill bacteria, but not viruses. Viruses develop in cells and are hard to k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Drug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in nature are varied. A few have the resistance to antibi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antibiotic is used there is a natural selection for the bacteria with the most drug resi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urvive and breed and become more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Drug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in nature are varied. A few have the resistance to antibi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antibiotic is used there is a natural selection for the bacteria with the most drug resi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urvive and breed and become more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for Antibiotic Resistance in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 of bacte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olonies growing near disc of antibi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s of different antibiotic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for Antibiotic Resistance in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 of bacte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olonies growing near disc of antibi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s of different antibiotic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 Resistance in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rains of bacteria have resistance to antibiotic due to natur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e need a range of antibiotics to fight disease with the best one for the 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low down more antibiotic resistance developing in pathogenic bacteria we need to avoid over using antibio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 Resistance in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rains of bacteria have resistance to antibiotic due to natur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e need a range of antibiotics to fight disease with the best one for the 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low down more antibiotic resistance developing in pathogenic bacteria we need to avoid over using antibio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045A-AC6D-4D0F-B11E-49A81068C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4E48-EFE1-4A7B-9BE4-5FB3B733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4486-D23F-42B8-B0FE-F86B322DE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59A3-864A-466C-AA2D-3109026A7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DF27-B73C-4BF3-9886-EB45DDAD0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8875-D09B-409C-9A56-0D357253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AE56-CE4F-4804-9995-147586A6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762D-B3B1-481A-B3C7-0469FC4E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07C5-45F9-4C65-9F73-02C74C40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DF63-2CD3-41DB-B64C-F2DCB77F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8EBA-1BA7-4D40-A4EE-0ADDFF5C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3E47-69CB-4FFC-88AE-F9096018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BFB7-D61C-4509-B11D-2E509FB2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F801-9CEA-4BA5-915A-F90BA3FD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126B-8A11-4B23-BF88-21DB9133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EBAF-8452-44AF-87F9-024B08421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86E7-F195-4413-975C-BB5A5B8C5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3580-2ACC-45EB-83B5-2D2B0210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0F33-175A-4B35-8C71-F0CE461A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ACFA-ADE8-4276-A7FD-340D3482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6ECC-A520-498C-B66A-DE605C49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7B17-9C3B-4999-93B6-3CF645FF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09D3-0776-46E5-BEBB-4C61A8D5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76B8-D1A3-4C3B-AE24-8B396857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3F0A-3067-41A7-A3B6-AFDFFE635CB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C69F-E153-410E-B4F9-446C9929D63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6633"/>
                </a:solidFill>
                <a:latin typeface="Garamond"/>
              </a:rPr>
              <a:t>Controlling Diseas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are an attractive dish for microb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Louis Pasteu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eople thought that food went off because it was in contact with air. They though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 + food                microorganisms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asteur said that microbes come from microb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e did som experiments to prove this 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Louis Pasteu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Picture 6" descr="300px-Tableau_Louis_Pasteur"/>
          <p:cNvPicPr/>
          <p:nvPr/>
        </p:nvPicPr>
        <p:blipFill>
          <a:blip r:embed="rId1"/>
          <a:stretch/>
        </p:blipFill>
        <p:spPr>
          <a:xfrm>
            <a:off x="2335320" y="1219320"/>
            <a:ext cx="4122720" cy="487656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Pasteur’s Experime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e poured some grape juice in 2 flas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e then produced a ‘swan neck’ in the gl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e heated the flasks to boi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ne flask was lef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other had its neck broken o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66"/>
                </a:solidFill>
                <a:latin typeface="Arial"/>
              </a:rPr>
              <a:t>Which went off? Wh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1_6"/>
          <p:cNvPicPr/>
          <p:nvPr/>
        </p:nvPicPr>
        <p:blipFill>
          <a:blip r:embed="rId1"/>
          <a:stretch/>
        </p:blipFill>
        <p:spPr>
          <a:xfrm>
            <a:off x="457200" y="1631880"/>
            <a:ext cx="4038480" cy="44672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Pathogens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33"/>
                </a:solidFill>
                <a:latin typeface="Arial"/>
              </a:rPr>
              <a:t>= microorganisms which cause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rugs are used to help people with dise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99"/>
                </a:solidFill>
                <a:latin typeface="Arial"/>
              </a:rPr>
              <a:t>Painkiller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– relieve the symptoms without curing the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99"/>
                </a:solidFill>
                <a:latin typeface="Arial"/>
              </a:rPr>
              <a:t>Antibiotic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– chemicals which kill bacteria, but not viruses. Viruses develop in cells and are hard to kil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Bacteria Drug Resistan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14800" y="1599840"/>
            <a:ext cx="4572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acteria in nature are varied. A few have the resistance to antibiot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en the antibiotic is used there is a natural selection for the bacteria with the most drug resista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se survive and breed and become more comm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180px-Antibiotic_resistance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990720" y="1447920"/>
            <a:ext cx="2874960" cy="46479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33"/>
                </a:solidFill>
                <a:latin typeface="Garamond"/>
              </a:rPr>
              <a:t>Testing for Antibiotic Resistance in Bacteri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6" name="Picture 6" descr="resist2"/>
          <p:cNvPicPr/>
          <p:nvPr/>
        </p:nvPicPr>
        <p:blipFill>
          <a:blip r:embed="rId1"/>
          <a:stretch/>
        </p:blipFill>
        <p:spPr>
          <a:xfrm>
            <a:off x="914400" y="2058840"/>
            <a:ext cx="7315200" cy="36133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3124080" y="1295280"/>
            <a:ext cx="144792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ear of bacte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8"/>
          <p:cNvSpPr/>
          <p:nvPr/>
        </p:nvSpPr>
        <p:spPr>
          <a:xfrm flipH="1">
            <a:off x="3124080" y="1981080"/>
            <a:ext cx="15264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3200400" y="5867280"/>
            <a:ext cx="2438280" cy="91692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teria colonies growing near disc of antibio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0"/>
          <p:cNvSpPr/>
          <p:nvPr/>
        </p:nvSpPr>
        <p:spPr>
          <a:xfrm flipV="1">
            <a:off x="5181480" y="4495320"/>
            <a:ext cx="45720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304920" y="5791320"/>
            <a:ext cx="2057400" cy="6426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s of different antibiotic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2"/>
          <p:cNvSpPr/>
          <p:nvPr/>
        </p:nvSpPr>
        <p:spPr>
          <a:xfrm flipV="1">
            <a:off x="1523880" y="4724280"/>
            <a:ext cx="45720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3"/>
          <p:cNvSpPr/>
          <p:nvPr/>
        </p:nvSpPr>
        <p:spPr>
          <a:xfrm flipV="1">
            <a:off x="1523880" y="5028840"/>
            <a:ext cx="114300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Antibiotic Resistance in Bacter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ny strains of bacteria have resistance to antibiotic due to natural sel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o we need a range of antibiotics to fight disease with the best one for the jo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 slow down more antibiotic resistance developing in pathogenic bacteria we need to avoid over using antibi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images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715000" y="4729320"/>
            <a:ext cx="2133720" cy="18097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/>
  <dc:language>en-US</dc:language>
  <cp:lastModifiedBy>LEGION2</cp:lastModifiedBy>
  <dcterms:modified xsi:type="dcterms:W3CDTF">2016-01-14T08:47:1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