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4.wmf" ContentType="image/x-wmf"/>
  <Override PartName="/ppt/media/image18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5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9A6C0-FFB4-4F13-A10B-903B0DBCB52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and conser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and conser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bal warming will therefore  lead to flo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warming will therefore  lead to flo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all this burning of fossil fuels leading to an Earth that is suffering form many environmental proble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all this burning of fossil fuels leading to an Earth that is suffering form many environmental proble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problems from the pollution fro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rning fossil fuel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 poisoning has been shown to affect the development and progress of children living near motorw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st and gases in the air can lead to smog above large industrialised c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hole is developing in the ozone layer which therefore will not filter out harmful ultra-violet rays from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roblems from the pollution fro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rning fossil fue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poisoning has been shown to affect the development and progress of children living near motorw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st and gases in the air can lead to smog above large industrialised c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ole is developing in the ozone layer which therefore will not filter out harmful ultra-violet rays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need to conserve our fossil fu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lectricity we produce from burning fossil fuels could also be made using renewable energy re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akes sense to save the oil we have left for making fuel for transport and for making plas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ould try to save wasting energy from fossil fuels during domestic use in our homes and from waste transport consumption of fu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need to conserve our fossil fu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ectricity we produce from burning fossil fuels could also be made using renewable energy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makes sense to save the oil we have left for making fuel for transport and for making pla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uld try to save wasting energy from fossil fuels during domestic use in our homes and from waste transport consumption of fu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ernative energy 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electric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d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therm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omass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ernative energy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electric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d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therm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mass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s with nuclear fu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power stations can produce large amounts of energy from small amounts of nuclear fuel. (Radioactive materials naturally release hea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adiation is extremely danger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safety standards are nee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te materials stay radioactive for thousands of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have been some disastrous accidents at nuclear power stations which have affected all living things in the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s with nuclear fu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power stations can produce large amounts of energy from small amounts of nuclear fuel. (Radioactive materials naturally release hea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adiation is extremely danger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safety standards are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te materials stay radioactive for thousands of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have been some disastrous accidents at nuclear power stations which have affected all living things in the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an article for a newspaper or a magazine, outlining the need for energy conser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s fuels: 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 fuels : why we need to conserve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 fuels: problems of pol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ernative energy sources (advantages &amp; disadvantag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s with nuclear fu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an article for a newspaper or a magazine, outlining the need for energy conser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ssils fuels: u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ssil fuels : why we need to conserve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ssil fuels: problems of pol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ernative energy sources (advantages &amp; disadvantag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s with nuclear fu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our main energy sourc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ustrialised countries need large amounts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this energy comes form fossil fuels which are burnt in power stations, factories, homes and veh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fossil fuels formed millions of years ago, and are non-renew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ce the fossil fuels have been used up there will be no more to replace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our main energy sour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ised countries need large amounts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is energy comes form fossil fuels which are burnt in power stations, factories, homes and veh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fossil fuels formed millions of years ago, and are non-rene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the fossil fuels have been used up there will be no more to replace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 is useful for other things to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 is a mixture of different compou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separate these substances by a process called fractional distil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fractions include fuels like petrol, diesel and aviation fu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s of oil are also used to make plastics, medicines, paints, dyes and even wax cand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 is useful for other things t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 is a mixture of different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separate these substances by a process called fractional distil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fractions include fuels like petrol, diesel and aviation fu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s of oil are also used to make plastics, medicines, paints, dyes and even wax cand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s with burning fossil fu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ge amounts of carbon dioxide are given off into the atmosphe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 dioxide causes global warming or the greenhouse eff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al-burning power stations also give off sulphur dioxide gas which leads to acid r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s with burning fossil fu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ge amounts of carbon dioxide are given off into the atmosp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causes global warming or the greenhouse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l-burning power stations also give off sulphur dioxide gas which leads to acid 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greenhouse eff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 dioxide gas acts like the glass in a green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radiation from the Sun is usually reflected back into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enhouse gases stop this, and heat is reflected back to the Earth ag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greenhouse effec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gas acts like the glass in a greenh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radiation from the Sun is usually reflected back into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house gases stop this, and heat is reflected back to the Earth a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problems with global warm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verage temperature of the Earth will ri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can lead to drough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problems with global warm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verage temperature of the Earth will 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an lead to drou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emes of weather will occur hurricanes and sto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emes of weather will occur hurricanes and st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crease in temperature will speed up the melting of the polar ice ca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crease in temperature will speed up the melting of the polar ice ca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1229-1D99-4F5B-A417-6619A70B6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273E-2C78-45D3-A29F-F57CC5C3A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128F-5A0E-4EED-9A65-0CD3F57DA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2BCC-907A-4ACE-80C5-15C60062D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DA594-F91A-4065-9D24-C2A7F02B6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E700A-15F7-4260-A27A-8B45DDD1E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3405E-3F06-4B48-908C-EC425F59D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A1F4D-EA54-4CCF-9655-E988C7A8F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9346D-5335-47FE-84F6-BE8FFB834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01ADA-9CA3-46AC-993E-AB76AE0B9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33F93-C309-4937-A0C3-D415C184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718C-3D2E-4DA3-AFCA-9E2730D2F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B5819-4752-48F1-91B9-8027B9B4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94FD2-7E63-4B3E-8F5A-93191512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D5FB3-7F44-4A10-9A58-BB49DB03D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0592F-6A15-403B-AA05-FB72527A2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E6C1D-9FB3-4443-97FB-13479B16F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F5A8-046B-4237-BD40-D178F0B70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4C54-5EDD-4AE5-86CE-743B5E50D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2002-D5AA-46AB-AA08-1FE834F31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9C03-1DE7-4DE9-BDF3-9F6DF0AED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6CA7-9265-4F7B-A648-1CAA50EE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1D5F-BF07-4B0C-8D57-0AF0E652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CE95-4196-48A2-88C0-6FE05AE6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B574F-B58B-44DE-90DE-08D5FA314A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63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162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8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Group 9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0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1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2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3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4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5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6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7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8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19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0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1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2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3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4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5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6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7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8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29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0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1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2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3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4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5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6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7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8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39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0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1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2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3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4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5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6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7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8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49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0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1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2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3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4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5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6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7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8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59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0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1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2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3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4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5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6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7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8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69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0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1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2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3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4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5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6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7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8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79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0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1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2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3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4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5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6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7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8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89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0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1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2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3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4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5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6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7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8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99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0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1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2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3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4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5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6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7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8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09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0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1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2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3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4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5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6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7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8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19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0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1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2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3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4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5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6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7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8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29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0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1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2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3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4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5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6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7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8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39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0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1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2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3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4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5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6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7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8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49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0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1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2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3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4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5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6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7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61" descr="earth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168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Rectangle 163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Group 166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Freeform 7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Group 165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Freeform 10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11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12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3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4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5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6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7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8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9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20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21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22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3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4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5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6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7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8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9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30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31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32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3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4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5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6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7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8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9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40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41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42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3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4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5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6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7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8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9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50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51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52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3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4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5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6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7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8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9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60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61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62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3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4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5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159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Line 110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112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113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114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115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116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117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118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119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120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121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160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Line 132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133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134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135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145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146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147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148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149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150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151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152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153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154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155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158" descr="earth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71016-62DA-4B7A-8C6E-2108D18B03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image" Target="../media/image19.jpeg"/><Relationship Id="rId12" Type="http://schemas.openxmlformats.org/officeDocument/2006/relationships/image" Target="../media/image20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1447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cc6600"/>
                </a:solidFill>
                <a:latin typeface="Times New Roman"/>
              </a:rPr>
              <a:t>Energy and conservation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7" descr="floods"/>
          <p:cNvPicPr/>
          <p:nvPr/>
        </p:nvPicPr>
        <p:blipFill>
          <a:blip r:embed="rId1"/>
          <a:stretch/>
        </p:blipFill>
        <p:spPr>
          <a:xfrm>
            <a:off x="1447920" y="2362320"/>
            <a:ext cx="6933960" cy="37130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uk-UA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Global warming will therefore  lead to flo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uk-UA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o all this burning of fossil fuels leading to an Earth that is suffering form many environmental problem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0" name="Picture 6" descr="polluted Earth"/>
          <p:cNvPicPr/>
          <p:nvPr/>
        </p:nvPicPr>
        <p:blipFill>
          <a:blip r:embed="rId2"/>
          <a:stretch/>
        </p:blipFill>
        <p:spPr>
          <a:xfrm>
            <a:off x="4648320" y="2571840"/>
            <a:ext cx="380988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45880" y="-360"/>
            <a:ext cx="8669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Other problems from the pollution from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burning fossil fuels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i="1" lang="en-US" sz="2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40381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Lead poisoning has been shown to affect the development and progress of children living near motorw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Dust and gases in the air can lead to smog above large industrialised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A hole is developing in the ozone layer which therefore will not filter out harmful ultra-violet rays from the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3" name="Picture 4" descr="smog"/>
          <p:cNvPicPr/>
          <p:nvPr/>
        </p:nvPicPr>
        <p:blipFill>
          <a:blip r:embed="rId4"/>
          <a:stretch/>
        </p:blipFill>
        <p:spPr>
          <a:xfrm>
            <a:off x="1752480" y="1371600"/>
            <a:ext cx="518184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7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2" dur="5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7" dur="5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cc6600"/>
                </a:solidFill>
                <a:latin typeface="Times New Roman"/>
              </a:rPr>
              <a:t>We need to conserve our fossil fuels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he electricity we produce from burning fossil fuels could also be made using renewable energ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t makes sense to save the oil we have left for making fuel for transport and for making pla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e could try to save wasting energy from fossil fuels during domestic use in our homes and from waste transport consumption of fu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4624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GB" sz="4400" spc="-1" strike="noStrike">
                <a:solidFill>
                  <a:srgbClr val="000000"/>
                </a:solidFill>
                <a:latin typeface="Times New Roman"/>
              </a:rPr>
              <a:t>Alternative energy source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809880" cy="45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ind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Hydroelectric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olar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idal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uclear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Geothermal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iomass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8" name="Picture 5" descr="renewablesun"/>
          <p:cNvPicPr/>
          <p:nvPr/>
        </p:nvPicPr>
        <p:blipFill>
          <a:blip r:embed="rId8"/>
          <a:stretch/>
        </p:blipFill>
        <p:spPr>
          <a:xfrm>
            <a:off x="7315200" y="838080"/>
            <a:ext cx="1054080" cy="12193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6" descr="solar power"/>
          <p:cNvPicPr/>
          <p:nvPr/>
        </p:nvPicPr>
        <p:blipFill>
          <a:blip r:embed="rId9"/>
          <a:stretch/>
        </p:blipFill>
        <p:spPr>
          <a:xfrm>
            <a:off x="4876920" y="5257800"/>
            <a:ext cx="1828800" cy="126684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8" descr="hydroelectricity"/>
          <p:cNvPicPr/>
          <p:nvPr/>
        </p:nvPicPr>
        <p:blipFill>
          <a:blip r:embed="rId10"/>
          <a:stretch/>
        </p:blipFill>
        <p:spPr>
          <a:xfrm>
            <a:off x="5486400" y="2459160"/>
            <a:ext cx="3276720" cy="24652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9" descr="windpower"/>
          <p:cNvPicPr/>
          <p:nvPr/>
        </p:nvPicPr>
        <p:blipFill>
          <a:blip r:embed="rId11"/>
          <a:stretch/>
        </p:blipFill>
        <p:spPr>
          <a:xfrm>
            <a:off x="3733920" y="1066680"/>
            <a:ext cx="1473120" cy="12193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0" descr="fuel&amp;fibre"/>
          <p:cNvPicPr/>
          <p:nvPr/>
        </p:nvPicPr>
        <p:blipFill>
          <a:blip r:embed="rId12"/>
          <a:stretch/>
        </p:blipFill>
        <p:spPr>
          <a:xfrm>
            <a:off x="1219320" y="5334120"/>
            <a:ext cx="2114280" cy="11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cc6600"/>
                </a:solidFill>
                <a:latin typeface="Times New Roman"/>
              </a:rPr>
              <a:t>Problems with nuclear fuel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123720" y="1905120"/>
            <a:ext cx="5791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uclear power stations can produce large amounts of energy from small amounts of nuclear fuel. (Radioactive materials naturally release he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uclear radiation is extremely danger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High safety standards are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aste materials stay radioactive for thousands of yea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re have been some disastrous accidents at nuclear power stations which have affected all living things in the are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5" name="Picture 6" descr="sellafield"/>
          <p:cNvPicPr/>
          <p:nvPr/>
        </p:nvPicPr>
        <p:blipFill>
          <a:blip r:embed="rId6"/>
          <a:stretch/>
        </p:blipFill>
        <p:spPr>
          <a:xfrm>
            <a:off x="304920" y="1981080"/>
            <a:ext cx="2743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371240" y="990360"/>
            <a:ext cx="634212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cc6600"/>
                </a:solidFill>
                <a:latin typeface="Times New Roman"/>
              </a:rPr>
              <a:t>Write an article for a newspaper or a magazine, outlining the need for energy conservation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34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Pla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ossils fuels: 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ossil fuels : why we need to conserve th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ossil fuels: problems of pol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lternative energy sources (advantages &amp; disadvant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blems with nuclear fu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624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What are our main energy sources?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6858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Industrialised countries need large amounts of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Most of this energy comes form fossil fuels which are burnt in power stations, factories, homes and vehi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These fossil fuels formed millions of years ago, and are non-renew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Once the fossil fuels have been used up there will be no more to replace th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cc6600"/>
                </a:solidFill>
                <a:latin typeface="Times New Roman"/>
              </a:rPr>
              <a:t>Oil is useful for other things too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4343400" cy="42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il is a mixture of different compou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e can separate these substances by a process called </a:t>
            </a:r>
            <a:r>
              <a:rPr b="0" lang="en-GB" sz="2400" spc="-1" strike="noStrike">
                <a:solidFill>
                  <a:srgbClr val="3366ff"/>
                </a:solidFill>
                <a:latin typeface="Tahoma"/>
              </a:rPr>
              <a:t>fractional distil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se fractions include fuels like </a:t>
            </a:r>
            <a:r>
              <a:rPr b="0" lang="en-GB" sz="2400" spc="-1" strike="noStrike">
                <a:solidFill>
                  <a:srgbClr val="3366ff"/>
                </a:solidFill>
                <a:latin typeface="Tahoma"/>
              </a:rPr>
              <a:t>petrol, diesel and aviation fu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arts of oil are also used to make </a:t>
            </a:r>
            <a:r>
              <a:rPr b="0" lang="en-GB" sz="2400" spc="-1" strike="noStrike">
                <a:solidFill>
                  <a:srgbClr val="3366ff"/>
                </a:solidFill>
                <a:latin typeface="Tahoma"/>
              </a:rPr>
              <a:t>plastics, medicines, paints, dyes and even wax cand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7" name="Picture 5" descr="bd06973_"/>
          <p:cNvPicPr/>
          <p:nvPr/>
        </p:nvPicPr>
        <p:blipFill>
          <a:blip r:embed="rId5"/>
          <a:stretch/>
        </p:blipFill>
        <p:spPr>
          <a:xfrm>
            <a:off x="5105520" y="2316240"/>
            <a:ext cx="3352680" cy="33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cc6600"/>
                </a:solidFill>
                <a:latin typeface="Times New Roman"/>
              </a:rPr>
              <a:t>Problems with burning fossil fuel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114800" cy="39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Huge amounts of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carbon dioxide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are given off into the atmosphe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arbon dioxide causes </a:t>
            </a:r>
            <a:r>
              <a:rPr b="1" lang="en-GB" sz="2400" spc="-1" strike="noStrike">
                <a:solidFill>
                  <a:srgbClr val="ff6600"/>
                </a:solidFill>
                <a:latin typeface="Tahoma"/>
              </a:rPr>
              <a:t>global warming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or the </a:t>
            </a:r>
            <a:r>
              <a:rPr b="1" lang="en-GB" sz="2400" spc="-1" strike="noStrike">
                <a:solidFill>
                  <a:srgbClr val="ffcc00"/>
                </a:solidFill>
                <a:latin typeface="Tahoma"/>
              </a:rPr>
              <a:t>greenhouse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oal-burning power stations also give off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sulphur dioxide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gas which leads to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acid 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0" name="Picture 1032" descr="air-pollution"/>
          <p:cNvPicPr/>
          <p:nvPr/>
        </p:nvPicPr>
        <p:blipFill>
          <a:blip r:embed="rId4"/>
          <a:stretch/>
        </p:blipFill>
        <p:spPr>
          <a:xfrm>
            <a:off x="4648320" y="2514600"/>
            <a:ext cx="411480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cc6600"/>
                </a:solidFill>
                <a:latin typeface="Times New Roman"/>
              </a:rPr>
              <a:t>What is the greenhouse effect?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4796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arbon dioxide gas acts like the glass in a greenho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frared radiation from the Sun is usually reflected back into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reenhouse gases stop this, and heat is reflected back to the Earth ag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3" name="Picture 6" descr="greenhse"/>
          <p:cNvPicPr/>
          <p:nvPr/>
        </p:nvPicPr>
        <p:blipFill>
          <a:blip r:embed="rId4"/>
          <a:stretch/>
        </p:blipFill>
        <p:spPr>
          <a:xfrm>
            <a:off x="685800" y="230040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greenhouseEff"/>
          <p:cNvPicPr/>
          <p:nvPr/>
        </p:nvPicPr>
        <p:blipFill>
          <a:blip r:embed="rId1"/>
          <a:stretch/>
        </p:blipFill>
        <p:spPr>
          <a:xfrm>
            <a:off x="914400" y="990720"/>
            <a:ext cx="7620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4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cc6600"/>
                </a:solidFill>
                <a:latin typeface="Times New Roman"/>
              </a:rPr>
              <a:t>What are the problems with global warming?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-228600" y="1447920"/>
            <a:ext cx="4572000" cy="48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The average temperature of the Earth will r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This can lead to drough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7" name="Picture 6" descr="drought2"/>
          <p:cNvPicPr/>
          <p:nvPr/>
        </p:nvPicPr>
        <p:blipFill>
          <a:blip r:embed="rId3"/>
          <a:stretch/>
        </p:blipFill>
        <p:spPr>
          <a:xfrm>
            <a:off x="4114800" y="1547640"/>
            <a:ext cx="4724280" cy="46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uk-UA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64796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Extremes of weather will occur hurricanes and stor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0" name="Picture 7" descr="large waves"/>
          <p:cNvPicPr/>
          <p:nvPr/>
        </p:nvPicPr>
        <p:blipFill>
          <a:blip r:embed="rId2"/>
          <a:stretch/>
        </p:blipFill>
        <p:spPr>
          <a:xfrm>
            <a:off x="228600" y="4038480"/>
            <a:ext cx="3352680" cy="25401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5" descr="hurricanes_pic"/>
          <p:cNvPicPr/>
          <p:nvPr/>
        </p:nvPicPr>
        <p:blipFill>
          <a:blip r:embed="rId3"/>
          <a:stretch/>
        </p:blipFill>
        <p:spPr>
          <a:xfrm>
            <a:off x="1981080" y="1219320"/>
            <a:ext cx="314964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6240" y="502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uk-UA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64796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The increase in temperature will speed up the melting of the polar ice c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4" name="Picture 6" descr="melting polar ice cap"/>
          <p:cNvPicPr/>
          <p:nvPr/>
        </p:nvPicPr>
        <p:blipFill>
          <a:blip r:embed="rId2"/>
          <a:stretch/>
        </p:blipFill>
        <p:spPr>
          <a:xfrm>
            <a:off x="836640" y="2147760"/>
            <a:ext cx="3506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15:24:08Z</dcterms:created>
  <dc:creator> </dc:creator>
  <dc:description/>
  <dc:language>en-US</dc:language>
  <cp:lastModifiedBy>RomaK</cp:lastModifiedBy>
  <dcterms:modified xsi:type="dcterms:W3CDTF">2015-09-01T16:23:58Z</dcterms:modified>
  <cp:revision>6</cp:revision>
  <dc:subject/>
  <dc:title>Energy and conservation</dc:title>
</cp:coreProperties>
</file>