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A62F-6EBC-4C13-A4C3-B07D12E5B8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39B-4DF7-4839-B95F-724E8520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F00-BD66-4E5C-BD0C-B2B1DEED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F6A-C3CA-4C95-8399-661E1CB1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1AE-0B99-42F3-B614-A6F2379E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DEBB-DFDA-4AB8-B20D-E66AAADE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E0C8-1D3E-4699-9B87-29CFB693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1F15-F4D2-40FF-A6AB-12DEB5B4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4253-57A1-42DA-8304-2459380C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7DB4-4763-44DD-BAB2-F2CED563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486B-BF12-442C-A864-B497978C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D6CE-6CF5-4D34-B77E-A142EEF5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8A5-2D6A-47A6-BF46-FFFAAB45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F4FB-AEC6-4DC0-AAE4-973EF16B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0FAA-FBE4-4506-BB9D-5E67808D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FAD8-1272-4758-A9C2-AE227CE2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778C-FF95-4528-B1DC-A5CFB151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D6B4-BA85-4A0B-82BA-38BE6615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8A4-CCA6-41D1-A256-6BD18677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565-7500-45C1-8AD5-C81D7076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67D-BCD4-4798-9CDD-BDFF4C4B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BCC-D96D-412D-B7F0-3970B17A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57A-944B-491C-A73F-23184F10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F4E-C7A3-491A-B7B2-59A37DC6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7F8-BBE8-47C1-AFEB-43DA4A02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DC3C-4699-428C-BF34-F331D49BE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CC8-E547-4144-B7B1-4E8DF32DA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Energy and conserv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floods"/>
          <p:cNvPicPr/>
          <p:nvPr/>
        </p:nvPicPr>
        <p:blipFill>
          <a:blip r:embed="rId1"/>
          <a:stretch/>
        </p:blipFill>
        <p:spPr>
          <a:xfrm>
            <a:off x="1447920" y="2362320"/>
            <a:ext cx="6933960" cy="37130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lobal warming will therefore  lead to flo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 all this burning of fossil fuels leading to an Earth that is suffering form many environmental probl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6" descr="polluted Earth"/>
          <p:cNvPicPr/>
          <p:nvPr/>
        </p:nvPicPr>
        <p:blipFill>
          <a:blip r:embed="rId2"/>
          <a:stretch/>
        </p:blipFill>
        <p:spPr>
          <a:xfrm>
            <a:off x="4648320" y="257184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66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urning fossil fuel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ead poisoning has been shown to affect the development and progress of children living near motor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ust and gases in the air can lead to smog above large industrialised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 hole is developing in the ozone layer which therefore will not filter out harmful ultra-violet rays from the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4" descr="smog"/>
          <p:cNvPicPr/>
          <p:nvPr/>
        </p:nvPicPr>
        <p:blipFill>
          <a:blip r:embed="rId4"/>
          <a:stretch/>
        </p:blipFill>
        <p:spPr>
          <a:xfrm>
            <a:off x="1752480" y="1371600"/>
            <a:ext cx="51818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We need to conserve our fossil fuel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electricity we produce from burning fossil fuels could also be made using renewable energ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makes sense to save the oil we have left for making fuel for transport and for making pla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could try to save wasting energy from fossil fuels during domestic use in our homes and from waste transport consumption of fu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ydroelectric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d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cle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otherm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omass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Picture 5" descr="renewablesun"/>
          <p:cNvPicPr/>
          <p:nvPr/>
        </p:nvPicPr>
        <p:blipFill>
          <a:blip r:embed="rId8"/>
          <a:stretch/>
        </p:blipFill>
        <p:spPr>
          <a:xfrm>
            <a:off x="7315200" y="83808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solar power"/>
          <p:cNvPicPr/>
          <p:nvPr/>
        </p:nvPicPr>
        <p:blipFill>
          <a:blip r:embed="rId9"/>
          <a:stretch/>
        </p:blipFill>
        <p:spPr>
          <a:xfrm>
            <a:off x="4876920" y="5257800"/>
            <a:ext cx="1828800" cy="1266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hydroelectricity"/>
          <p:cNvPicPr/>
          <p:nvPr/>
        </p:nvPicPr>
        <p:blipFill>
          <a:blip r:embed="rId10"/>
          <a:stretch/>
        </p:blipFill>
        <p:spPr>
          <a:xfrm>
            <a:off x="5486400" y="2459160"/>
            <a:ext cx="3276720" cy="2465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windpower"/>
          <p:cNvPicPr/>
          <p:nvPr/>
        </p:nvPicPr>
        <p:blipFill>
          <a:blip r:embed="rId11"/>
          <a:stretch/>
        </p:blipFill>
        <p:spPr>
          <a:xfrm>
            <a:off x="3733920" y="1066680"/>
            <a:ext cx="147312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uel&amp;fibre"/>
          <p:cNvPicPr/>
          <p:nvPr/>
        </p:nvPicPr>
        <p:blipFill>
          <a:blip r:embed="rId12"/>
          <a:stretch/>
        </p:blipFill>
        <p:spPr>
          <a:xfrm>
            <a:off x="1219320" y="5334120"/>
            <a:ext cx="21142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Problems with nuclear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power stations can produce large amounts of energy from small amounts of nuclear fuel. (Radioactive materials naturally release he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radiation is extremely danger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igh safety standard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ste materials stay radioactive for thousands of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have been some disastrous accidents at nuclear power stations which have affected all living things in th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ellafield"/>
          <p:cNvPicPr/>
          <p:nvPr/>
        </p:nvPicPr>
        <p:blipFill>
          <a:blip r:embed="rId6"/>
          <a:stretch/>
        </p:blipFill>
        <p:spPr>
          <a:xfrm>
            <a:off x="3049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3421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l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s fuels: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 : why we need to conserv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: problems of pol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ternative energy sources (advantages &amp; disadvant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s with nuclear fu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dustrialised countries need large amounts of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ost of this energy comes form fossil fuels which are burnt in power stations, factories, homes and veh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se fossil fuels formed millions of years ago, and are non-renew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nce the fossil fuels have been used up there will be no more to replac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Oil is useful for other things to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4343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il is a mixture of different comp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can separate these substances by a process called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fractional disti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se fractions include fuels li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etrol, diesel and aviation 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s of oil are also used to ma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lastics, medicines, paints, dyes and even wax ca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5" descr="bd06973_"/>
          <p:cNvPicPr/>
          <p:nvPr/>
        </p:nvPicPr>
        <p:blipFill>
          <a:blip r:embed="rId5"/>
          <a:stretch/>
        </p:blipFill>
        <p:spPr>
          <a:xfrm>
            <a:off x="5105520" y="2316240"/>
            <a:ext cx="33526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Problems with burning fossil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1148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uge amoun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arbon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re given off into the atmosp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rbon dioxide causes </a:t>
            </a:r>
            <a:r>
              <a:rPr b="1" lang="en-GB" sz="2400" spc="-1" strike="noStrike">
                <a:solidFill>
                  <a:srgbClr val="ff6600"/>
                </a:solidFill>
                <a:latin typeface="Tahoma"/>
              </a:rPr>
              <a:t>global warm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r the </a:t>
            </a:r>
            <a:r>
              <a:rPr b="1" lang="en-GB" sz="2400" spc="-1" strike="noStrike">
                <a:solidFill>
                  <a:srgbClr val="ffcc00"/>
                </a:solidFill>
                <a:latin typeface="Tahoma"/>
              </a:rPr>
              <a:t>greenhou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al-burning power stations also give of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ulphur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gas which leads to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id 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1032" descr="air-pollution"/>
          <p:cNvPicPr/>
          <p:nvPr/>
        </p:nvPicPr>
        <p:blipFill>
          <a:blip r:embed="rId4"/>
          <a:stretch/>
        </p:blipFill>
        <p:spPr>
          <a:xfrm>
            <a:off x="4648320" y="2514600"/>
            <a:ext cx="4114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What is the greenhouse effec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bon dioxide gas acts like the glass in a green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rared radiation from the Sun is usually reflected back into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eenhouse gases stop this, and heat is reflected back to the Earth ag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6" descr="greenhse"/>
          <p:cNvPicPr/>
          <p:nvPr/>
        </p:nvPicPr>
        <p:blipFill>
          <a:blip r:embed="rId4"/>
          <a:stretch/>
        </p:blipFill>
        <p:spPr>
          <a:xfrm>
            <a:off x="685800" y="23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greenhouseEff"/>
          <p:cNvPicPr/>
          <p:nvPr/>
        </p:nvPicPr>
        <p:blipFill>
          <a:blip r:embed="rId1"/>
          <a:stretch/>
        </p:blipFill>
        <p:spPr>
          <a:xfrm>
            <a:off x="914400" y="9907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hat are the problems with global warming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45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average temperature of the Earth will 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is can lead to drou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drought2"/>
          <p:cNvPicPr/>
          <p:nvPr/>
        </p:nvPicPr>
        <p:blipFill>
          <a:blip r:embed="rId3"/>
          <a:stretch/>
        </p:blipFill>
        <p:spPr>
          <a:xfrm>
            <a:off x="4114800" y="1547640"/>
            <a:ext cx="4724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tremes of weather will occur hurricanes and st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0" name="Picture 7" descr="large waves"/>
          <p:cNvPicPr/>
          <p:nvPr/>
        </p:nvPicPr>
        <p:blipFill>
          <a:blip r:embed="rId2"/>
          <a:stretch/>
        </p:blipFill>
        <p:spPr>
          <a:xfrm>
            <a:off x="228600" y="403848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hurricanes_pic"/>
          <p:cNvPicPr/>
          <p:nvPr/>
        </p:nvPicPr>
        <p:blipFill>
          <a:blip r:embed="rId3"/>
          <a:stretch/>
        </p:blipFill>
        <p:spPr>
          <a:xfrm>
            <a:off x="1981080" y="1219320"/>
            <a:ext cx="3149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502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increase in temperature will speed up the melting of the polar ice c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6" descr="melting polar ice cap"/>
          <p:cNvPicPr/>
          <p:nvPr/>
        </p:nvPicPr>
        <p:blipFill>
          <a:blip r:embed="rId2"/>
          <a:stretch/>
        </p:blipFill>
        <p:spPr>
          <a:xfrm>
            <a:off x="836640" y="2147760"/>
            <a:ext cx="350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5:24:08Z</dcterms:created>
  <dc:creator> </dc:creator>
  <dc:description/>
  <dc:language>en-US</dc:language>
  <cp:lastModifiedBy>RomaK</cp:lastModifiedBy>
  <dcterms:modified xsi:type="dcterms:W3CDTF">2015-09-01T16:23:58Z</dcterms:modified>
  <cp:revision>6</cp:revision>
  <dc:subject/>
  <dc:title>Energy and conservation</dc:title>
</cp:coreProperties>
</file>