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3CBB-A3F2-4766-8DBC-49150224C20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and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will therefore  lead to fl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ll this burning of fossil fuels leading to an Earth that is suffering form many environmental probl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ossil fu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oisoning has been shown to affect the development and progress of children living near 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st and gases in the air can lead to smog above large industrialised c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le is developing in the ozone layer which therefore will not filter out harmful ultra-violet rays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conserve our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icity we produce from burning fossil fuels could also be made using renewable energ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kes sense to save the oil we have left for making fuel for transport and for making pla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try to save wasting energy from fossil fuels during domestic use in our homes and from waste transport consumption of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electric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therm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as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ower stations can produce large amounts of energy from small amounts of nuclear fuel. (Radioactive materials naturally release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ation is extremely dange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afety standards are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te materials stay radioactive for thousand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have been some disastrous accidents at nuclear power stations which have affected all living things in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s fuels: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: why we need to conserv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: problems of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energy sources (advantages &amp; disadvant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nuclear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ised countries need large amount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is energy comes form fossil fuels which are burnt in power stations, factories, homes and veh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ossil fuels formed millions of years ago, and are non-rene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fossil fuels have been used up there will be no more to repla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useful for other thing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a mixture of different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parate these substances by a process called fractional disti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fractions include fuels like petrol, diesel and aviati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oil are also used to make plastics, medicines, paints, dyes and even wax c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burning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e amounts of carbon dioxide are given off into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causes global warming or 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-burning power stations also give off sulphur dioxide gas which leads to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greenhous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gas acts like the glass in a green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radiation from the Sun is usually reflected back into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 stop this, and heat is reflected back to the Earth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problems with global warm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temperature of the Earth wil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lead to dr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s of weather will occur hurricanes and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rease in temperature will speed up the melting of the polar ice c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559-F822-4795-80BA-FD60FF37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FB8-2D24-4BB8-A799-18557B93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6C0-6DDA-49CA-8400-DF2F3528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45E-EC37-4FAB-B5A5-56219A48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EA14-8655-46AF-93E2-40973BA3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94C-2BB1-4CB0-8FF2-99F3EA7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14D9-267A-4E6C-8B46-5039913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7F3C-9B7B-4D17-83B9-81D6B2B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88D-36CE-4351-ADE4-E45C5AEA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1454-8D3A-4DD7-8E46-BDD48CFC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55C-D682-4500-B317-AE9A736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852-4CF6-485D-9B1D-814B4FD6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1AF-4C69-4E1F-9181-A3570F74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B22F-8570-4209-B49C-F623BB9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72AC-9CD8-4C06-B048-0E2E8CE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9594-7ECA-4AB4-A315-98744FE3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0A8-986C-48D5-83F7-E6A03FA0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615-F7BD-45A4-A570-8D4D5FD2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0C7-A245-4A12-8D69-208CA78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1C2-078E-48CA-ACA6-43D5C24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11F-5B0E-4B93-A3DD-70B3FA82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D41-F507-42BC-892C-1E90789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A14-6D2B-4760-8CD1-4BB01A4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16BC-0186-4E6A-B255-001CDD25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659F-E434-4B25-A8DC-5ADF220C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E672-2940-4911-92BB-8B34C1585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1447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Energy and conserv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floods"/>
          <p:cNvPicPr/>
          <p:nvPr/>
        </p:nvPicPr>
        <p:blipFill>
          <a:blip r:embed="rId1"/>
          <a:stretch/>
        </p:blipFill>
        <p:spPr>
          <a:xfrm>
            <a:off x="1447920" y="2362320"/>
            <a:ext cx="6933960" cy="3713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lobal warming will therefore  lead to flo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all this burning of fossil fuels leading to an Earth that is suffering form many environmental probl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6" descr="polluted Earth"/>
          <p:cNvPicPr/>
          <p:nvPr/>
        </p:nvPicPr>
        <p:blipFill>
          <a:blip r:embed="rId2"/>
          <a:stretch/>
        </p:blipFill>
        <p:spPr>
          <a:xfrm>
            <a:off x="4648320" y="2571840"/>
            <a:ext cx="380988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-360"/>
            <a:ext cx="866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ther problems from the pollution from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urning fossil fuel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d poisoning has been shown to affect the development and progress of children living near motor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ust and gases in the air can lead to smog above large industrialised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 hole is developing in the ozone layer which therefore will not filter out harmful ultra-violet rays from the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4" descr="smog"/>
          <p:cNvPicPr/>
          <p:nvPr/>
        </p:nvPicPr>
        <p:blipFill>
          <a:blip r:embed="rId4"/>
          <a:stretch/>
        </p:blipFill>
        <p:spPr>
          <a:xfrm>
            <a:off x="1752480" y="1371600"/>
            <a:ext cx="5181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We need to conserve our fossil fuel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electricity we produce from burning fossil fuels could also be made using renewable energ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t makes sense to save the oil we have left for making fuel for transport and for making pla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 could try to save wasting energy from fossil fuels during domestic use in our homes and from waste transport consumption of fu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Alternative energy sou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ydroelectric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d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uclear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eothermal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iomass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5" descr="renewablesun"/>
          <p:cNvPicPr/>
          <p:nvPr/>
        </p:nvPicPr>
        <p:blipFill>
          <a:blip r:embed="rId8"/>
          <a:stretch/>
        </p:blipFill>
        <p:spPr>
          <a:xfrm>
            <a:off x="7315200" y="838080"/>
            <a:ext cx="1054080" cy="1219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solar power"/>
          <p:cNvPicPr/>
          <p:nvPr/>
        </p:nvPicPr>
        <p:blipFill>
          <a:blip r:embed="rId9"/>
          <a:stretch/>
        </p:blipFill>
        <p:spPr>
          <a:xfrm>
            <a:off x="4876920" y="5257800"/>
            <a:ext cx="1828800" cy="1266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hydroelectricity"/>
          <p:cNvPicPr/>
          <p:nvPr/>
        </p:nvPicPr>
        <p:blipFill>
          <a:blip r:embed="rId10"/>
          <a:stretch/>
        </p:blipFill>
        <p:spPr>
          <a:xfrm>
            <a:off x="5486400" y="2459160"/>
            <a:ext cx="3276720" cy="2465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windpower"/>
          <p:cNvPicPr/>
          <p:nvPr/>
        </p:nvPicPr>
        <p:blipFill>
          <a:blip r:embed="rId11"/>
          <a:stretch/>
        </p:blipFill>
        <p:spPr>
          <a:xfrm>
            <a:off x="3733920" y="1066680"/>
            <a:ext cx="1473120" cy="12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fuel&amp;fibre"/>
          <p:cNvPicPr/>
          <p:nvPr/>
        </p:nvPicPr>
        <p:blipFill>
          <a:blip r:embed="rId12"/>
          <a:stretch/>
        </p:blipFill>
        <p:spPr>
          <a:xfrm>
            <a:off x="1219320" y="5334120"/>
            <a:ext cx="2114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Problems with nuclear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12372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power stations can produce large amounts of energy from small amounts of nuclear fuel. (Radioactive materials naturally release he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uclear radiation is extremely danger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igh safety standards are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ste materials stay radioactive for thousands of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have been some disastrous accidents at nuclear power stations which have affected all living things in th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ellafield"/>
          <p:cNvPicPr/>
          <p:nvPr/>
        </p:nvPicPr>
        <p:blipFill>
          <a:blip r:embed="rId6"/>
          <a:stretch/>
        </p:blipFill>
        <p:spPr>
          <a:xfrm>
            <a:off x="3049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34212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rite an article for a newspaper or a magazine, outlining the need for energy conservatio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Pl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s fuels: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 : why we need to conserv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ssil fuels: problems of pol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ternative energy sources (advantages &amp; disadvant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blems with nuclear fu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hat are our main energy sources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6858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Industrialised countries need large amounts of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ost of this energy comes form fossil fuels which are burnt in power stations, factories, homes and veh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se fossil fuels formed millions of years ago, and are non-renew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nce the fossil fuels have been used up there will be no more to replac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Oil is useful for other things to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343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il is a mixture of different comp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 can separate these substances by a process called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fractional disti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se fractions include fuels li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etrol, diesel and aviation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s of oil are also used to make </a:t>
            </a:r>
            <a:r>
              <a:rPr b="0" lang="en-GB" sz="2400" spc="-1" strike="noStrike">
                <a:solidFill>
                  <a:srgbClr val="3366ff"/>
                </a:solidFill>
                <a:latin typeface="Tahoma"/>
              </a:rPr>
              <a:t>plastics, medicines, paints, dyes and even wax cand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5" descr="bd06973_"/>
          <p:cNvPicPr/>
          <p:nvPr/>
        </p:nvPicPr>
        <p:blipFill>
          <a:blip r:embed="rId5"/>
          <a:stretch/>
        </p:blipFill>
        <p:spPr>
          <a:xfrm>
            <a:off x="5105520" y="2316240"/>
            <a:ext cx="335268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6600"/>
                </a:solidFill>
                <a:latin typeface="Times New Roman"/>
              </a:rPr>
              <a:t>Problems with burning fossil fuel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148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Huge amoun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carbon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re given off into the atmosp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rbon dioxide causes </a:t>
            </a:r>
            <a:r>
              <a:rPr b="1" lang="en-GB" sz="2400" spc="-1" strike="noStrike">
                <a:solidFill>
                  <a:srgbClr val="ff6600"/>
                </a:solidFill>
                <a:latin typeface="Tahoma"/>
              </a:rPr>
              <a:t>global warmin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r the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greenhou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al-burning power stations also give of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ulphur dioxi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gas which leads to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1032" descr="air-pollution"/>
          <p:cNvPicPr/>
          <p:nvPr/>
        </p:nvPicPr>
        <p:blipFill>
          <a:blip r:embed="rId4"/>
          <a:stretch/>
        </p:blipFill>
        <p:spPr>
          <a:xfrm>
            <a:off x="4648320" y="2514600"/>
            <a:ext cx="4114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cc6600"/>
                </a:solidFill>
                <a:latin typeface="Times New Roman"/>
              </a:rPr>
              <a:t>What is the greenhouse effec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bon dioxide gas acts like the glass in a greenh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frared radiation from the Sun is usually reflected back into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eenhouse gases stop this, and heat is reflected back to the Earth ag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6" descr="greenhse"/>
          <p:cNvPicPr/>
          <p:nvPr/>
        </p:nvPicPr>
        <p:blipFill>
          <a:blip r:embed="rId4"/>
          <a:stretch/>
        </p:blipFill>
        <p:spPr>
          <a:xfrm>
            <a:off x="685800" y="2300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greenhouseEff"/>
          <p:cNvPicPr/>
          <p:nvPr/>
        </p:nvPicPr>
        <p:blipFill>
          <a:blip r:embed="rId1"/>
          <a:stretch/>
        </p:blipFill>
        <p:spPr>
          <a:xfrm>
            <a:off x="914400" y="99072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c6600"/>
                </a:solidFill>
                <a:latin typeface="Times New Roman"/>
              </a:rPr>
              <a:t>What are the problems with global warming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-228600" y="1447920"/>
            <a:ext cx="45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average temperature of the Earth will r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is can lead to drough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6" descr="drought2"/>
          <p:cNvPicPr/>
          <p:nvPr/>
        </p:nvPicPr>
        <p:blipFill>
          <a:blip r:embed="rId3"/>
          <a:stretch/>
        </p:blipFill>
        <p:spPr>
          <a:xfrm>
            <a:off x="4114800" y="1547640"/>
            <a:ext cx="472428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xtremes of weather will occur hurricanes and st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0" name="Picture 7" descr="large waves"/>
          <p:cNvPicPr/>
          <p:nvPr/>
        </p:nvPicPr>
        <p:blipFill>
          <a:blip r:embed="rId2"/>
          <a:stretch/>
        </p:blipFill>
        <p:spPr>
          <a:xfrm>
            <a:off x="228600" y="4038480"/>
            <a:ext cx="3352680" cy="2540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hurricanes_pic"/>
          <p:cNvPicPr/>
          <p:nvPr/>
        </p:nvPicPr>
        <p:blipFill>
          <a:blip r:embed="rId3"/>
          <a:stretch/>
        </p:blipFill>
        <p:spPr>
          <a:xfrm>
            <a:off x="1981080" y="1219320"/>
            <a:ext cx="3149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6240" y="502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he increase in temperature will speed up the melting of the polar ice c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6" descr="melting polar ice cap"/>
          <p:cNvPicPr/>
          <p:nvPr/>
        </p:nvPicPr>
        <p:blipFill>
          <a:blip r:embed="rId2"/>
          <a:stretch/>
        </p:blipFill>
        <p:spPr>
          <a:xfrm>
            <a:off x="836640" y="2147760"/>
            <a:ext cx="350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5:24:08Z</dcterms:created>
  <dc:creator> </dc:creator>
  <dc:description/>
  <dc:language>en-US</dc:language>
  <cp:lastModifiedBy>RomaK</cp:lastModifiedBy>
  <dcterms:modified xsi:type="dcterms:W3CDTF">2015-09-01T16:23:58Z</dcterms:modified>
  <cp:revision>6</cp:revision>
  <dc:subject/>
  <dc:title>Energy and conservation</dc:title>
</cp:coreProperties>
</file>