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23AE-5CFF-4721-A543-52EC0CBBF1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ordination of the Cardia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heart action is coordinated with reference to the sinoatrial node (SAN), the atrioventricular node (AVN) and the Purky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interpret and explain electrocardiogram (ECG) traces, with reference to normal and abnormal heart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ordination of the Cardiac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heart action is coordinated with reference to the sinoatrial node (SAN), the atrioventricular node (AVN) and the Purky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interpret and explain electrocardiogram (ECG) traces, with reference to normal and abnormal heart acti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fibrillation is an abnormal heart rhythm that is disorganized and irregul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fibrillation is an abnormal heart rhythm that is disorganized and irregul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tachycardia is a rapid, regular heart rhythm that originates in the lower chambers of the he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tachycardia is a rapid, regular heart rhythm that originates in the lower chambers of the hear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lock refers to a delay in the normal flow of electrical impulses that cause the heart to b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lock refers to a delay in the normal flow of electrical impulses that cause the heart to be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 is made of cardiac mus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ells receive an electrical impulse they contract - causing a heartb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is myogenic - it can contract on its own, without needing nerve impul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 is made of cardiac mus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ells receive an electrical impulse they contract - causing a heartb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is myogenic - it can contract on its own, without needing nerve impul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oatrial node (SA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cialized node is found on the upper inside wall of the right at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 node is known as the pacemaker of the heart and initiates a heartbeat every 0.85 secon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gnal travels across the atria causing them to contract and load the ventricles with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are electrically insulated from atria - so they don’t contract y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oatrial node (SA n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cialized node is found on the upper inside wall of the right at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 node is known as the pacemaker of the heart and initiates a heartbeat every 0.85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gnal travels across the atria causing them to contract and load the ventricles with bl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are electrically insulated from atria - so they don’t contract y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rio-ventricular node (AV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 node is located on the bottom surface of the right atria and is responsible for initiating the contraction of the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impulse passes to ventricles via AV node and the Bundle of His. They pass the impulse to the base of the ventricles (~ 0.1 s dela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ndle of His is a group of fibres that conduct impulses to Purkyne fibres which carry impulses to left &amp; right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then contract from the bottom upwa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rio-ventricular node (AV n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 node is located on the bottom surface of the right atria and is responsible for initiating the contraction of the ventr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impulse passes to ventricles via AV node and the Bundle of His. They pass the impulse to the base of the ventricles (~ 0.1 s dela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ndle of His is a group of fibres that conduct impulses to Purkyne fibres which carry impulses to left &amp; right ventr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then contract from the bottom upwar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impu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diac muscle relaxes = dia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impu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relaxes = dia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cardi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 = atrial sy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RS = ventricular sy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 = ventricular dia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cardio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atrial sy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RS = ventricular sy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ventricular dia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 electrical activity of heart to monitor heart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emaker generates electrical currents in body fluids around the heart - detected by electrodes to produce E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musc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larises (loses electrical charge) when it con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larises (regains charge) when it rel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 electrical activity of heart to monitor heart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emaker generates electrical currents in body fluids around the heart - detected by electrodes to produce EC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mus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larises (loses electrical charge) when it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larises (regains charge) when it rela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4D64-3B1A-407B-B3D8-28DE006E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F22-598A-4347-8CB9-236A56AD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6B2-B455-4911-AED6-2B2F1962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0F9-2D42-422B-9BD8-FDD636D9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2F7-5C2F-4809-8AE3-ECDB50CF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364-46D7-48B9-9853-1005C679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275B-BF1F-495B-9484-B1930E1C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E143-7BA8-407F-8C23-8F3B3160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6C9-4DCB-48E9-928E-7B274E5A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0C4-8C0F-4EB7-8BFA-39A68B92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57C-7514-446F-AD86-9A986AA3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578-5702-471B-8F30-70F106C0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25A7-59AC-4F9E-9CD4-983DB2DE9F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-ordination of the Cardiac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1844280"/>
            <a:ext cx="8351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how heart action is coordinated with reference to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inoatrial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SAN),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trioventricular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VN) and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urky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able to interpret and explain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lectrocardiogra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ECG) traces, with reference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norm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bnormal heart activ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580000" y="189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E8C3-E8FF-4973-9E6A-A0314549341F}" type="datetime3">
              <a:rPr b="0" lang="en-GB" sz="1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MMHE_03_021_01_eps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46483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tricular fibrillation is an abnormal heart rhythm that is disorganized and irregular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895640" cy="4552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tricular tachycardia is a rapid, regular heart rhythm that originates in the lower chambers of the heart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ventricular_tach"/>
          <p:cNvPicPr/>
          <p:nvPr/>
        </p:nvPicPr>
        <p:blipFill>
          <a:blip r:embed="rId1"/>
          <a:stretch/>
        </p:blipFill>
        <p:spPr>
          <a:xfrm>
            <a:off x="1332000" y="2205000"/>
            <a:ext cx="5545080" cy="34466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block refers to a delay in the normal flow of electrical impulses that cause the heart to beat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art is made of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cardiac musc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he cells receive an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ic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impul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y contract - causing a heartb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diac muscle is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myogeni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it can contract on its own, without needing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ner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impul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inus+animation"/>
          <p:cNvPicPr/>
          <p:nvPr/>
        </p:nvPicPr>
        <p:blipFill>
          <a:blip r:embed="rId1"/>
          <a:stretch/>
        </p:blipFill>
        <p:spPr>
          <a:xfrm>
            <a:off x="1979640" y="1341360"/>
            <a:ext cx="4876920" cy="49244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eartbeat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43545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noatrial node (SA no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pecialized node is found on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upp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nside w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right atriu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 node is known as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acemak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heart and initiates a heartbeat every 0.85 seco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ignal travels across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tr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ausing them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contrac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load the ventricles with bl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ricles are electrically insulated from atria - so they don’t contract y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trio-ventricular node (AV no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V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located on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botto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rface of the right atr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s responsible for initiating the contraction of the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ical impulse passes to ventricles via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V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Bundle of H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They pass the impulse to the base of the ventricles (~ 0.1 s dela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undle of His is a group of fibres that conduct impulses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urkyne fib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carry impulses to left &amp; right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ricles then contract from the bottom upwa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 im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diac muscle relaxes = dia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ocardi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normalECG2"/>
          <p:cNvPicPr/>
          <p:nvPr/>
        </p:nvPicPr>
        <p:blipFill>
          <a:blip r:embed="rId1"/>
          <a:stretch/>
        </p:blipFill>
        <p:spPr>
          <a:xfrm>
            <a:off x="395280" y="1557360"/>
            <a:ext cx="4971960" cy="4924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4859280" y="1268280"/>
            <a:ext cx="381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 = atrial sy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RS = ventricular sy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 = ventricular dia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rds electrical activity of heart to monitor heart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cemaker generates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ical curr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body fluids around the heart - detected by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od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produce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mus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depolari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loses electrical charge) when it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repolari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gains charge) when it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rel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2:54:17Z</dcterms:created>
  <dc:creator>Neil Walker</dc:creator>
  <dc:description/>
  <dc:language>en-US</dc:language>
  <cp:lastModifiedBy>LEGION2</cp:lastModifiedBy>
  <dcterms:modified xsi:type="dcterms:W3CDTF">2016-01-14T08:49:18Z</dcterms:modified>
  <cp:revision>9</cp:revision>
  <dc:subject/>
  <dc:title>Co-ordination of the Cardiac Cycle</dc:title>
</cp:coreProperties>
</file>